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Vangelis%20-%20Hymn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185-FCFC-4E70-BABA-70A1111A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8B9-D97D-46A5-8AD2-CFD382B8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9C9-0876-4928-9CE5-97764183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57F-EBFA-451B-8A96-54484A50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AB7C-87C0-456F-B154-CE72F51E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CAF-237E-499D-B9EB-E9A97533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F519-AA68-44C6-96DA-F1D91BF1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D23-E30E-46CE-946E-6F354B32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6F4-9174-4891-AC69-EAFF70C0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F44-148A-4719-AAFD-62817492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825-C9E2-4FF1-BB3B-B116AEDC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C33-3889-4B17-87C8-AC5E5033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5072-99E2-46EC-8B9D-CDC7C09D7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angelis%20-%20Hymn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765000"/>
            <a:ext cx="478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oor Richard"/>
              </a:rPr>
              <a:t>Levensweg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360" y="616572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Poor Richard"/>
              </a:rPr>
              <a:t>Muziek : Vang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/>
    <p:sndAc>
      <p:stSnd>
        <p:snd r:embed="rId2" name="Vangelis%20-%20Hymn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4292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lack Chancery"/>
              </a:rPr>
              <a:t>Dat  vele  zorgen  en  verdriet . . . 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lack Chancery"/>
              </a:rPr>
              <a:t>daar,  op  die  zijwegen  kwamen.</a:t>
            </a:r>
            <a:r>
              <a:rPr b="0" lang="en-US" sz="36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92360" y="4869000"/>
            <a:ext cx="597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 Chancery"/>
              </a:rPr>
              <a:t>Nu . . . .  weet  ik  beter . . . 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lack Chancery"/>
              </a:rPr>
              <a:t>en  kan  't   beamen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2000" y="515772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Black Chancery"/>
              </a:rPr>
              <a:t>Je  leert  niet in een  keer . . . </a:t>
            </a:r>
            <a:br>
              <a:rPr sz="4400"/>
            </a:br>
            <a:r>
              <a:rPr b="0" lang="en-US" sz="4400" spc="-1" strike="noStrike">
                <a:solidFill>
                  <a:srgbClr val="660033"/>
                </a:solidFill>
                <a:latin typeface="Black Chancery"/>
              </a:rPr>
              <a:t>om  " Werkelijk  Mens "  te  zijn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5445000"/>
            <a:ext cx="8064360" cy="143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Black Chancery"/>
              </a:rPr>
              <a:t>Maar  telkens een beetje . . . 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Black Chancery"/>
              </a:rPr>
              <a:t>en  doet  soms  veel  pij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332000" y="1617840"/>
            <a:ext cx="66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155736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Black Chancery"/>
              </a:rPr>
              <a:t>De  Weg  van  het  Leven.</a:t>
            </a:r>
            <a:br>
              <a:rPr sz="4400"/>
            </a:br>
            <a:r>
              <a:rPr b="0" lang="en-US" sz="4400" spc="-1" strike="noStrike">
                <a:solidFill>
                  <a:srgbClr val="ff99ff"/>
                </a:solidFill>
                <a:latin typeface="Black Chancery"/>
              </a:rPr>
              <a:t>is  vaak  hard . . . en  sti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55640" y="189000"/>
            <a:ext cx="7416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or Richard"/>
              </a:rPr>
              <a:t> </a:t>
            </a:r>
            <a:r>
              <a:rPr b="0" lang="en-US" sz="4400" spc="-1" strike="noStrike">
                <a:solidFill>
                  <a:srgbClr val="000066"/>
                </a:solidFill>
                <a:latin typeface="Black Chancery"/>
              </a:rPr>
              <a:t>Blijf  geloven  in  het  positieve 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Black Chancery"/>
              </a:rPr>
              <a:t>en  dat . . . .  uit  Vrije  Wi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589720"/>
            <a:ext cx="4968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66"/>
                </a:solidFill>
                <a:latin typeface="Black Chancery"/>
              </a:rPr>
              <a:t>Liefs knuffel Janin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70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00000" y="76500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 Chancery"/>
              </a:rPr>
              <a:t>De  Weg  van  het  Leven . . .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lack Chancery"/>
              </a:rPr>
              <a:t>waar  leidt  die  heen ?</a:t>
            </a:r>
            <a:r>
              <a:rPr b="0" lang="en-US" sz="3200" spc="-1" strike="noStrike">
                <a:solidFill>
                  <a:srgbClr val="ffffff"/>
                </a:solidFill>
                <a:latin typeface="Poor Richar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860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lack Chancery"/>
              </a:rPr>
              <a:t>In  ontvangen  en  geven . . . 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Black Chancery"/>
              </a:rPr>
              <a:t>je  loopt  hem  echt . . . . alleen  !</a:t>
            </a:r>
            <a:r>
              <a:rPr b="0" lang="en-US" sz="4800" spc="-1" strike="noStrike">
                <a:solidFill>
                  <a:srgbClr val="ffffff"/>
                </a:solidFill>
                <a:latin typeface="Poor Richard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5229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 Chancery"/>
              </a:rPr>
              <a:t>Geestelijk  groeien  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Black Chancery"/>
              </a:rPr>
              <a:t>met  iedere  sta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42920" y="450864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oor Richard"/>
              </a:rPr>
              <a:t> </a:t>
            </a:r>
            <a:r>
              <a:rPr b="0" lang="en-US" sz="3600" spc="-1" strike="noStrike">
                <a:solidFill>
                  <a:srgbClr val="ffffff"/>
                </a:solidFill>
                <a:latin typeface="Black Chancery"/>
              </a:rPr>
              <a:t>Zelf  leren  roeien . . . 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Black Chancery"/>
              </a:rPr>
              <a:t>vaak  een  bittere  hap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4292640"/>
            <a:ext cx="6913800" cy="21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Black Chancery"/>
              </a:rPr>
              <a:t>Het  doel  ligt  te  pronken . . . 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Black Chancery"/>
              </a:rPr>
              <a:t>dat  is  welbekend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516640"/>
            <a:ext cx="68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81ab"/>
                </a:solidFill>
                <a:latin typeface="Black Chancery"/>
              </a:rPr>
              <a:t>Maar  de  zijwegen  lonken . . .</a:t>
            </a:r>
            <a:br>
              <a:rPr sz="4000"/>
            </a:br>
            <a:r>
              <a:rPr b="0" lang="en-US" sz="4000" spc="-1" strike="noStrike">
                <a:solidFill>
                  <a:srgbClr val="d581ab"/>
                </a:solidFill>
                <a:latin typeface="Black Chancery"/>
              </a:rPr>
              <a:t> alom  bekend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19280" y="0"/>
            <a:ext cx="619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66"/>
                </a:solidFill>
                <a:latin typeface="Black Chancery"/>
              </a:rPr>
              <a:t>Ze  brengen  je  meestal . . . .</a:t>
            </a:r>
            <a:br>
              <a:rPr sz="4400"/>
            </a:br>
            <a:r>
              <a:rPr b="0" lang="en-US" sz="4400" spc="-1" strike="noStrike">
                <a:solidFill>
                  <a:srgbClr val="ccff66"/>
                </a:solidFill>
                <a:latin typeface="Black Chancery"/>
              </a:rPr>
              <a:t>op  'n  verkeerd  spoor.</a:t>
            </a:r>
            <a:r>
              <a:rPr b="0" lang="en-US" sz="1800" spc="-1" strike="noStrike">
                <a:solidFill>
                  <a:srgbClr val="ccff66"/>
                </a:solidFill>
                <a:latin typeface="Black Chance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652464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581360"/>
            <a:ext cx="55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 Chancery"/>
              </a:rPr>
              <a:t>'k  Zag  dat  niet  in . . . 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lack Chancery"/>
              </a:rPr>
              <a:t>had  't  niet  eens  door .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2:22:47Z</dcterms:created>
  <dc:creator>Sylvi@</dc:creator>
  <dc:description/>
  <dc:language>en-US</dc:language>
  <cp:lastModifiedBy>jeanne</cp:lastModifiedBy>
  <dcterms:modified xsi:type="dcterms:W3CDTF">2006-05-12T19:00:18Z</dcterms:modified>
  <cp:revision>4</cp:revision>
  <dc:subject/>
  <dc:title>Dia 1</dc:title>
</cp:coreProperties>
</file>