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Vangelis%20-%20Hymn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AB8-AA31-40F5-99FA-1BAA6260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05D-25B2-4990-9BA4-821C935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2BE-6B16-42BE-93BE-540D64A5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15B-C4FE-471C-8166-94292AA4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DA8-4165-4C10-930D-9F80CA9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9F8-B67C-4149-8105-B80BFC9D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3A9-64B7-48FF-A76C-A8DE6F1B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CD8-3A7B-415A-A2F0-4B35704D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D4B-01FB-4FB1-B258-979B3B20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541-3E40-4106-9FA7-4BBCDC3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93B-60F4-412A-A92B-414C89A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D64-72A8-424D-94B1-9C45C63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EF1-F5C9-45CE-9175-68F08CD0D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angelis%20-%20Hymn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765000"/>
            <a:ext cx="47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oor Richard"/>
              </a:rPr>
              <a:t>Levenswe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616572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Muziek : Vang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2" name="Vangelis%20-%20Hym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4292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Dat  vele  zorgen  en  verdriet . . .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daar,  op  die  zijwegen  kwamen.</a:t>
            </a:r>
            <a:r>
              <a:rPr b="0" lang="en-US" sz="36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2360" y="4869000"/>
            <a:ext cx="597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Nu . . . .  weet  ik  beter . . . 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en  kan  't   beamen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515772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Black Chancery"/>
              </a:rPr>
              <a:t>Je  leert  niet in een  keer . . . 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Black Chancery"/>
              </a:rPr>
              <a:t>om  " Werkelijk  Mens "  te  zij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5445000"/>
            <a:ext cx="8064360" cy="143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Black Chancery"/>
              </a:rPr>
              <a:t>Maar  telkens een beetje . . . 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Black Chancery"/>
              </a:rPr>
              <a:t>en  doet  soms  veel  pij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32000" y="161784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155736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Black Chancery"/>
              </a:rPr>
              <a:t>De  Weg  van  het  Leven.</a:t>
            </a:r>
            <a:br>
              <a:rPr sz="4400"/>
            </a:br>
            <a:r>
              <a:rPr b="0" lang="en-US" sz="4400" spc="-1" strike="noStrike">
                <a:solidFill>
                  <a:srgbClr val="ff99ff"/>
                </a:solidFill>
                <a:latin typeface="Black Chancery"/>
              </a:rPr>
              <a:t>is  vaak  hard . . . en  sti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89000"/>
            <a:ext cx="7416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or Richard"/>
              </a:rPr>
              <a:t> </a:t>
            </a: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Blijf  geloven  in  het  positieve 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en  dat . . . .  uit  Vrije  Wi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589720"/>
            <a:ext cx="4968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66"/>
                </a:solidFill>
                <a:latin typeface="Black Chancery"/>
              </a:rPr>
              <a:t>Liefs knuffel Janin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7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76500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 Chancery"/>
              </a:rPr>
              <a:t>De  Weg  van  het  Leven . . 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lack Chancery"/>
              </a:rPr>
              <a:t>waar  leidt  die  heen ?</a:t>
            </a: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In  ontvangen  en  geven . . .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je  loopt  hem  echt . . . . alleen  !</a:t>
            </a:r>
            <a:r>
              <a:rPr b="0" lang="en-US" sz="4800" spc="-1" strike="noStrike">
                <a:solidFill>
                  <a:srgbClr val="ffffff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5229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 Chancery"/>
              </a:rPr>
              <a:t>Geestelijk  groeien 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lack Chancery"/>
              </a:rPr>
              <a:t>met  iedere  sta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45086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or Richard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Black Chancery"/>
              </a:rPr>
              <a:t>Zelf  leren  roeien . . .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lack Chancery"/>
              </a:rPr>
              <a:t>vaak  een  bittere  hap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4292640"/>
            <a:ext cx="6913800" cy="21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Het  doel  ligt  te  pronken . . . 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dat  is  welbeken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516640"/>
            <a:ext cx="68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81ab"/>
                </a:solidFill>
                <a:latin typeface="Black Chancery"/>
              </a:rPr>
              <a:t>Maar  de  zijwegen  lonken . . .</a:t>
            </a:r>
            <a:br>
              <a:rPr sz="4000"/>
            </a:br>
            <a:r>
              <a:rPr b="0" lang="en-US" sz="4000" spc="-1" strike="noStrike">
                <a:solidFill>
                  <a:srgbClr val="d581ab"/>
                </a:solidFill>
                <a:latin typeface="Black Chancery"/>
              </a:rPr>
              <a:t> alom  bekend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19280" y="0"/>
            <a:ext cx="61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Black Chancery"/>
              </a:rPr>
              <a:t>Ze  brengen  je  meestal . . . .</a:t>
            </a:r>
            <a:br>
              <a:rPr sz="4400"/>
            </a:br>
            <a:r>
              <a:rPr b="0" lang="en-US" sz="4400" spc="-1" strike="noStrike">
                <a:solidFill>
                  <a:srgbClr val="ccff66"/>
                </a:solidFill>
                <a:latin typeface="Black Chancery"/>
              </a:rPr>
              <a:t>op  'n  verkeerd  spoor.</a:t>
            </a:r>
            <a:r>
              <a:rPr b="0" lang="en-US" sz="1800" spc="-1" strike="noStrike">
                <a:solidFill>
                  <a:srgbClr val="ccff66"/>
                </a:solidFill>
                <a:latin typeface="Black Chance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652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581360"/>
            <a:ext cx="55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'k  Zag  dat  niet  in . . . 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had  't  niet  eens  door .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2:22:47Z</dcterms:created>
  <dc:creator>Sylvi@</dc:creator>
  <dc:description/>
  <dc:language>en-US</dc:language>
  <cp:lastModifiedBy>jeanne</cp:lastModifiedBy>
  <dcterms:modified xsi:type="dcterms:W3CDTF">2006-05-12T19:00:18Z</dcterms:modified>
  <cp:revision>4</cp:revision>
  <dc:subject/>
  <dc:title>Dia 1</dc:title>
</cp:coreProperties>
</file>