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7DE-59A2-435F-B797-06F7FA0C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780-1AED-4889-8181-2EAF2A5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20F-07C0-433E-A4B3-0577D1E5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AD8-13DB-49C6-915D-6D045D87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D8B-3C0F-42EF-85D0-C1B3321B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042-B51B-4677-B471-2D87E7A9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5F3-37C8-47AD-9EC4-E2179368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1FF-788B-4781-8A34-43F52B2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555-816D-4932-945C-266FD64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99C-19F4-481B-B58D-3F5BC3F1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58A-004A-4E7E-9DB0-6842AB7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9F7-95A3-4976-9457-E2A733A6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2950-37E2-4BCC-B96C-5F636CE8C5B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981080" y="4343400"/>
            <a:ext cx="41576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1371600" y="1143000"/>
            <a:ext cx="6172200" cy="5028840"/>
            <a:chOff x="1371600" y="1143000"/>
            <a:chExt cx="6172200" cy="5028840"/>
          </a:xfrm>
        </p:grpSpPr>
        <p:pic>
          <p:nvPicPr>
            <p:cNvPr id="43" name="Picture 3" descr="70"/>
            <p:cNvPicPr/>
            <p:nvPr/>
          </p:nvPicPr>
          <p:blipFill>
            <a:blip r:embed="rId1"/>
            <a:srcRect l="13278" t="10080" r="23141" b="57325"/>
            <a:stretch/>
          </p:blipFill>
          <p:spPr>
            <a:xfrm>
              <a:off x="1371600" y="1143000"/>
              <a:ext cx="617220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"/>
            <p:cNvSpPr/>
            <p:nvPr/>
          </p:nvSpPr>
          <p:spPr>
            <a:xfrm>
              <a:off x="5384880" y="5558040"/>
              <a:ext cx="2075760" cy="61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828800" y="914400"/>
            <a:ext cx="5790960" cy="4419720"/>
            <a:chOff x="1828800" y="914400"/>
            <a:chExt cx="5790960" cy="4419720"/>
          </a:xfrm>
        </p:grpSpPr>
        <p:pic>
          <p:nvPicPr>
            <p:cNvPr id="46" name="Picture 3" descr="70"/>
            <p:cNvPicPr/>
            <p:nvPr/>
          </p:nvPicPr>
          <p:blipFill>
            <a:blip r:embed="rId1"/>
            <a:srcRect l="64766" t="78987" r="10482" b="10986"/>
            <a:stretch/>
          </p:blipFill>
          <p:spPr>
            <a:xfrm>
              <a:off x="4718160" y="1662480"/>
              <a:ext cx="2901600" cy="256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70"/>
            <p:cNvPicPr/>
            <p:nvPr/>
          </p:nvPicPr>
          <p:blipFill>
            <a:blip r:embed="rId2"/>
            <a:srcRect l="36648" t="71708" r="39991" b="10986"/>
            <a:stretch/>
          </p:blipFill>
          <p:spPr>
            <a:xfrm>
              <a:off x="1828800" y="914400"/>
              <a:ext cx="2738880" cy="441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51"/>
          <p:cNvPicPr/>
          <p:nvPr/>
        </p:nvPicPr>
        <p:blipFill>
          <a:blip r:embed="rId1"/>
          <a:stretch/>
        </p:blipFill>
        <p:spPr>
          <a:xfrm>
            <a:off x="1049400" y="380880"/>
            <a:ext cx="7110360" cy="601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193760" y="762120"/>
            <a:ext cx="6350040" cy="4876560"/>
            <a:chOff x="1193760" y="762120"/>
            <a:chExt cx="6350040" cy="4876560"/>
          </a:xfrm>
        </p:grpSpPr>
        <p:pic>
          <p:nvPicPr>
            <p:cNvPr id="50" name="Picture 3" descr="71"/>
            <p:cNvPicPr/>
            <p:nvPr/>
          </p:nvPicPr>
          <p:blipFill>
            <a:blip r:embed="rId1"/>
            <a:stretch/>
          </p:blipFill>
          <p:spPr>
            <a:xfrm>
              <a:off x="1193760" y="876600"/>
              <a:ext cx="6350040" cy="47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4"/>
            <p:cNvSpPr/>
            <p:nvPr/>
          </p:nvSpPr>
          <p:spPr>
            <a:xfrm>
              <a:off x="2742840" y="762120"/>
              <a:ext cx="1393920" cy="2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72"/>
          <p:cNvPicPr/>
          <p:nvPr/>
        </p:nvPicPr>
        <p:blipFill>
          <a:blip r:embed="rId1"/>
          <a:srcRect l="25676" t="12312" r="13370" b="48995"/>
          <a:stretch/>
        </p:blipFill>
        <p:spPr>
          <a:xfrm>
            <a:off x="1447920" y="609480"/>
            <a:ext cx="597852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47"/>
          <p:cNvPicPr/>
          <p:nvPr/>
        </p:nvPicPr>
        <p:blipFill>
          <a:blip r:embed="rId1"/>
          <a:stretch/>
        </p:blipFill>
        <p:spPr>
          <a:xfrm>
            <a:off x="1676520" y="152280"/>
            <a:ext cx="5119560" cy="670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6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6033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72"/>
          <p:cNvPicPr/>
          <p:nvPr/>
        </p:nvPicPr>
        <p:blipFill>
          <a:blip r:embed="rId1"/>
          <a:srcRect l="14597" t="52685" r="17545" b="11346"/>
          <a:stretch/>
        </p:blipFill>
        <p:spPr>
          <a:xfrm>
            <a:off x="838080" y="609480"/>
            <a:ext cx="741528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afez</cp:lastModifiedBy>
  <dcterms:modified xsi:type="dcterms:W3CDTF">2012-09-14T13:03:3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