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112-BB27-4D6D-8B46-434C3BA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DA9-E611-4D64-B434-5D6F09C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E42-6518-4204-9E57-4E01854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1EA-9250-4C6C-8DD7-326D38B7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A24-2165-4528-A9B1-6A6B8BDB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5EA-8A9D-4118-A8D5-B8B4C69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78C-0CE8-4E07-A5EE-5BE4D5A6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690-2976-4C0B-BA13-B6FC286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780-426D-40B9-82FE-8108BCCF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730-FEEF-421D-B5B1-495C4BF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FC1-29A0-47B5-A809-DF55CFE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935-E3C4-4468-86EE-12EA3CC4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2BE1-C813-4153-9036-C905853FF1C8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haryn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981080" y="4343400"/>
            <a:ext cx="41576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1371600" y="1143000"/>
            <a:ext cx="6172200" cy="5028840"/>
            <a:chOff x="1371600" y="1143000"/>
            <a:chExt cx="6172200" cy="5028840"/>
          </a:xfrm>
        </p:grpSpPr>
        <p:pic>
          <p:nvPicPr>
            <p:cNvPr id="43" name="Picture 3" descr="70"/>
            <p:cNvPicPr/>
            <p:nvPr/>
          </p:nvPicPr>
          <p:blipFill>
            <a:blip r:embed="rId1"/>
            <a:srcRect l="13278" t="10080" r="23141" b="57325"/>
            <a:stretch/>
          </p:blipFill>
          <p:spPr>
            <a:xfrm>
              <a:off x="1371600" y="1143000"/>
              <a:ext cx="617220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4"/>
            <p:cNvSpPr/>
            <p:nvPr/>
          </p:nvSpPr>
          <p:spPr>
            <a:xfrm>
              <a:off x="5384880" y="5558040"/>
              <a:ext cx="2075760" cy="61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828800" y="914400"/>
            <a:ext cx="5790960" cy="4419720"/>
            <a:chOff x="1828800" y="914400"/>
            <a:chExt cx="5790960" cy="4419720"/>
          </a:xfrm>
        </p:grpSpPr>
        <p:pic>
          <p:nvPicPr>
            <p:cNvPr id="46" name="Picture 3" descr="70"/>
            <p:cNvPicPr/>
            <p:nvPr/>
          </p:nvPicPr>
          <p:blipFill>
            <a:blip r:embed="rId1"/>
            <a:srcRect l="64766" t="78987" r="10482" b="10986"/>
            <a:stretch/>
          </p:blipFill>
          <p:spPr>
            <a:xfrm>
              <a:off x="4718160" y="1662480"/>
              <a:ext cx="2901600" cy="256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70"/>
            <p:cNvPicPr/>
            <p:nvPr/>
          </p:nvPicPr>
          <p:blipFill>
            <a:blip r:embed="rId2"/>
            <a:srcRect l="36648" t="71708" r="39991" b="10986"/>
            <a:stretch/>
          </p:blipFill>
          <p:spPr>
            <a:xfrm>
              <a:off x="1828800" y="914400"/>
              <a:ext cx="2738880" cy="441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51"/>
          <p:cNvPicPr/>
          <p:nvPr/>
        </p:nvPicPr>
        <p:blipFill>
          <a:blip r:embed="rId1"/>
          <a:stretch/>
        </p:blipFill>
        <p:spPr>
          <a:xfrm>
            <a:off x="1049400" y="380880"/>
            <a:ext cx="7110360" cy="601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193760" y="762120"/>
            <a:ext cx="6350040" cy="4876560"/>
            <a:chOff x="1193760" y="762120"/>
            <a:chExt cx="6350040" cy="4876560"/>
          </a:xfrm>
        </p:grpSpPr>
        <p:pic>
          <p:nvPicPr>
            <p:cNvPr id="50" name="Picture 3" descr="71"/>
            <p:cNvPicPr/>
            <p:nvPr/>
          </p:nvPicPr>
          <p:blipFill>
            <a:blip r:embed="rId1"/>
            <a:stretch/>
          </p:blipFill>
          <p:spPr>
            <a:xfrm>
              <a:off x="1193760" y="876600"/>
              <a:ext cx="6350040" cy="47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4"/>
            <p:cNvSpPr/>
            <p:nvPr/>
          </p:nvSpPr>
          <p:spPr>
            <a:xfrm>
              <a:off x="2742840" y="762120"/>
              <a:ext cx="139392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72"/>
          <p:cNvPicPr/>
          <p:nvPr/>
        </p:nvPicPr>
        <p:blipFill>
          <a:blip r:embed="rId1"/>
          <a:srcRect l="25676" t="12312" r="13370" b="48995"/>
          <a:stretch/>
        </p:blipFill>
        <p:spPr>
          <a:xfrm>
            <a:off x="1447920" y="609480"/>
            <a:ext cx="597852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47"/>
          <p:cNvPicPr/>
          <p:nvPr/>
        </p:nvPicPr>
        <p:blipFill>
          <a:blip r:embed="rId1"/>
          <a:stretch/>
        </p:blipFill>
        <p:spPr>
          <a:xfrm>
            <a:off x="1676520" y="152280"/>
            <a:ext cx="5119560" cy="670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6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603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2"/>
          <p:cNvPicPr/>
          <p:nvPr/>
        </p:nvPicPr>
        <p:blipFill>
          <a:blip r:embed="rId1"/>
          <a:srcRect l="14597" t="52685" r="17545" b="11346"/>
          <a:stretch/>
        </p:blipFill>
        <p:spPr>
          <a:xfrm>
            <a:off x="838080" y="609480"/>
            <a:ext cx="7415280" cy="556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afez</cp:lastModifiedBy>
  <dcterms:modified xsi:type="dcterms:W3CDTF">2012-09-14T13:03:3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