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031-CDA3-4BA3-AEE0-DC0689C4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1C7-A75C-46E1-95A4-F696464B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079-7AF7-4BBB-A099-ADE7C6D1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594-9015-441E-B20E-4D19640A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FDE-0145-4266-94E0-7D28D948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C7D-F0AC-470A-845A-AB31B580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CC6-79DD-489A-B239-0E6ED1C2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D14-1568-48BC-90B3-D12D9DC0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DA7-9176-488A-A2F5-62CC49E2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31B-04A8-47C1-AE2C-0CFF95AC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A14-6984-49DB-B843-C2EEA97E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899-42FA-4A22-A7EE-48F670B1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2EB61-C568-4EBC-9188-B3E549A01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4C86B-9D51-477D-B5FB-519BADD5325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47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54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1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8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75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9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82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55:05Z</dcterms:created>
  <dc:creator>최봉수</dc:creator>
  <dc:description/>
  <dc:language>en-US</dc:language>
  <cp:lastModifiedBy>군만두 맛있다</cp:lastModifiedBy>
  <dcterms:modified xsi:type="dcterms:W3CDTF">2023-07-12T06:10:28Z</dcterms:modified>
  <cp:revision>2</cp:revision>
  <dc:subject/>
  <dc:title>슬라이드 1</dc:title>
</cp:coreProperties>
</file>