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coin.wav" ContentType="audio/x-wav"/>
  <Override PartName="/ppt/media/image11.png" ContentType="image/png"/>
  <Override PartName="/ppt/media/type.wav" ContentType="audio/x-wav"/>
  <Override PartName="/ppt/media/chimes.wav" ContentType="audio/x-wav"/>
  <Override PartName="/ppt/media/image2.wmf" ContentType="image/x-wmf"/>
  <Override PartName="/ppt/media/voltage.wav" ContentType="audio/x-wav"/>
  <Override PartName="/ppt/media/doorbell.wav" ContentType="audio/x-wav"/>
  <Override PartName="/ppt/media/image6.png" ContentType="image/png"/>
  <Override PartName="/ppt/media/image7.png" ContentType="image/png"/>
  <Override PartName="/ppt/media/image1.jpeg" ContentType="image/jpeg"/>
  <Override PartName="/ppt/media/SOUND26.WAV" ContentType="audio/x-wav"/>
  <Override PartName="/ppt/media/push.wav" ContentType="audio/x-wav"/>
  <Override PartName="/ppt/media/0002%20-%20%D8%B1%D9%86%20%D8%A7%D9%84%D8%A7%D8%AC%D8%B1%D8%A7%D8%B3.wav" ContentType="audio/x-wav"/>
  <Override PartName="/ppt/media/image4.wmf" ContentType="image/x-wmf"/>
  <Override PartName="/ppt/media/0029%20-%20Windows%20error%20sound.wav" ContentType="audio/x-wav"/>
  <Override PartName="/ppt/media/tada.wav" ContentType="audio/x-wav"/>
  <Override PartName="/ppt/media/suction.wav" ContentType="audio/x-wav"/>
  <Override PartName="/ppt/media/0044%20-%20%D8%AD%D8%AF%20%D8%AD%D8%A7%D8%B3%D9%85%20%D9%84%D9%84%D9%88%D9%8A%D9%86%D8%AF%D9%88%D8%B2.wav" ContentType="audio/x-wav"/>
  <Override PartName="/ppt/media/image24.wmf" ContentType="image/x-wmf"/>
  <Override PartName="/ppt/media/Cowbell.wav" ContentType="audio/x-wav"/>
  <Override PartName="/ppt/media/image18.jpeg" ContentType="image/jpeg"/>
  <Override PartName="/ppt/media/image3.wmf" ContentType="image/x-wmf"/>
  <Override PartName="/ppt/media/Yahoo_ring_03.wav" ContentType="audio/x-wav"/>
  <Override PartName="/ppt/media/image10.jpeg" ContentType="image/jpeg"/>
  <Override PartName="/ppt/media/wind.wav" ContentType="audio/x-wav"/>
  <Override PartName="/ppt/media/image21.png" ContentType="image/png"/>
  <Override PartName="/ppt/media/image20.jpeg" ContentType="image/jpeg"/>
  <Override PartName="/ppt/media/image19.png" ContentType="image/png"/>
  <Override PartName="/ppt/media/Extra_Start.wav" ContentType="audio/x-wav"/>
  <Override PartName="/ppt/media/click.wav" ContentType="audio/x-wav"/>
  <Override PartName="/ppt/media/breeze.wav" ContentType="audio/x-wav"/>
  <Override PartName="/ppt/media/image25.png" ContentType="image/png"/>
  <Override PartName="/ppt/media/%D8%B7%D9%8A%D9%88%D8%B1%20%D8%A7%D9%84%D8%A8%D8%AD%D8%B1.WAV" ContentType="audio/x-wav"/>
  <Override PartName="/ppt/media/SOUND560.WAV" ContentType="audio/x-wav"/>
  <Override PartName="/ppt/media/image26.png" ContentType="image/png"/>
  <Override PartName="/ppt/media/hammer.wav" ContentType="audio/x-wav"/>
  <Override PartName="/ppt/media/Disconnect.wav" ContentType="audio/x-wav"/>
  <Override PartName="/ppt/media/image13.png" ContentType="image/png"/>
  <Override PartName="/ppt/media/laser.wav" ContentType="audio/x-wav"/>
  <Override PartName="/ppt/media/cached_accuracy3.wav" ContentType="audio/x-wav"/>
  <Override PartName="/ppt/media/image27.png" ContentType="image/png"/>
  <Override PartName="/ppt/media/Windows%20XP%20Print%20complete.wav" ContentType="audio/x-wav"/>
  <Override PartName="/ppt/media/image17.gif" ContentType="image/gif"/>
  <Override PartName="/ppt/media/image16.wmf" ContentType="image/x-wmf"/>
  <Override PartName="/ppt/media/image14.jpeg" ContentType="image/jpeg"/>
  <Override PartName="/ppt/media/image15.jpeg" ContentType="image/jpeg"/>
  <Override PartName="/ppt/media/cashreg.wav" ContentType="audio/x-wav"/>
  <Override PartName="/ppt/media/image22.jpeg" ContentType="image/jpeg"/>
  <Override PartName="/ppt/media/image23.wmf" ContentType="image/x-wmf"/>
  <Override PartName="/ppt/media/whoosh.wav" ContentType="audio/x-wav"/>
  <Override PartName="/ppt/media/image5.png" ContentType="image/png"/>
  <Override PartName="/ppt/media/image8.jpeg" ContentType="image/jpeg"/>
  <Override PartName="/ppt/media/0068%20-%20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70A1-E782-4D89-9BB6-D94A93E2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3DA3-4B0D-4CFE-B42A-154E6A4C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2544-1D72-4966-876E-426C8293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1DC1-8D0F-4F47-942A-7E5EAE1E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00A2-4FFD-4C9A-89B3-63C9AC6D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81AC-9092-4921-A6C9-52B66ECC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88E6-756E-478B-978B-40238E9C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65C6-C475-42C8-99EE-48D6062F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5BCB-37F2-4DFA-898A-6616CA16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F0E5-1B69-4112-8527-6B74A970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943F-4B13-42EE-8764-B9777DE1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BD0-FF3D-46A1-BD52-9502B2A7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1321-8579-4703-AA59-13650DB1793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0002%20-%20&#1585;&#1606;%20&#1575;&#1604;&#1575;&#1580;&#1585;&#1575;&#1587;.wav"/><Relationship Id="rId3" Type="http://schemas.openxmlformats.org/officeDocument/2006/relationships/audio" Target="../media/tada.wav"/><Relationship Id="rId4" Type="http://schemas.openxmlformats.org/officeDocument/2006/relationships/audio" Target="../media/Disconnect.wav"/><Relationship Id="rId5" Type="http://schemas.openxmlformats.org/officeDocument/2006/relationships/audio" Target="../media/Cowbell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audio" Target="../media/0002%20-%20&#1585;&#1606;%20&#1575;&#1604;&#1575;&#1580;&#1585;&#1575;&#1587;.wav"/><Relationship Id="rId4" Type="http://schemas.openxmlformats.org/officeDocument/2006/relationships/audio" Target="../media/Windows%20XP%20Print%20complete.wav"/><Relationship Id="rId5" Type="http://schemas.openxmlformats.org/officeDocument/2006/relationships/audio" Target="../media/SOUND26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audio" Target="../media/0002%20-%20&#1585;&#1606;%20&#1575;&#1604;&#1575;&#1580;&#1585;&#1575;&#1587;.wav"/><Relationship Id="rId5" Type="http://schemas.openxmlformats.org/officeDocument/2006/relationships/audio" Target="../media/0068%20-%20applause.wav"/><Relationship Id="rId6" Type="http://schemas.openxmlformats.org/officeDocument/2006/relationships/audio" Target="../media/0068%20-%20applause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gif"/><Relationship Id="rId3" Type="http://schemas.openxmlformats.org/officeDocument/2006/relationships/audio" Target="../media/0002%20-%20&#1585;&#1606;%20&#1575;&#1604;&#1575;&#1580;&#1585;&#1575;&#1587;.wav"/><Relationship Id="rId4" Type="http://schemas.openxmlformats.org/officeDocument/2006/relationships/audio" Target="../media/coin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0002%20-%20&#1585;&#1606;%20&#1575;&#1604;&#1575;&#1580;&#1585;&#1575;&#1587;.wav"/><Relationship Id="rId3" Type="http://schemas.openxmlformats.org/officeDocument/2006/relationships/audio" Target="../media/0068%20-%20applause.wav"/><Relationship Id="rId4" Type="http://schemas.openxmlformats.org/officeDocument/2006/relationships/audio" Target="../media/0068%20-%20applause.wav"/><Relationship Id="rId5" Type="http://schemas.openxmlformats.org/officeDocument/2006/relationships/audio" Target="../media/0068%20-%20applause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0002%20-%20&#1585;&#1606;%20&#1575;&#1604;&#1575;&#1580;&#1585;&#1575;&#1587;.wav"/><Relationship Id="rId2" Type="http://schemas.openxmlformats.org/officeDocument/2006/relationships/audio" Target="../media/SOUND560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gif"/><Relationship Id="rId3" Type="http://schemas.openxmlformats.org/officeDocument/2006/relationships/audio" Target="../media/0002%20-%20&#1585;&#1606;%20&#1575;&#1604;&#1575;&#1580;&#1585;&#1575;&#1587;.wav"/><Relationship Id="rId4" Type="http://schemas.openxmlformats.org/officeDocument/2006/relationships/audio" Target="../media/Extra_Start.wav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22.jpeg"/><Relationship Id="rId3" Type="http://schemas.openxmlformats.org/officeDocument/2006/relationships/audio" Target="../media/0002%20-%20&#1585;&#1606;%20&#1575;&#1604;&#1575;&#1580;&#1585;&#1575;&#1587;.wav"/><Relationship Id="rId4" Type="http://schemas.openxmlformats.org/officeDocument/2006/relationships/audio" Target="../media/0068%20-%20applause.wav"/><Relationship Id="rId5" Type="http://schemas.openxmlformats.org/officeDocument/2006/relationships/audio" Target="../media/0068%20-%20applause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7.gif"/><Relationship Id="rId3" Type="http://schemas.openxmlformats.org/officeDocument/2006/relationships/audio" Target="../media/0002%20-%20&#1585;&#1606;%20&#1575;&#1604;&#1575;&#1580;&#1585;&#1575;&#1587;.wav"/><Relationship Id="rId4" Type="http://schemas.openxmlformats.org/officeDocument/2006/relationships/audio" Target="../media/breeze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22.jpeg"/><Relationship Id="rId3" Type="http://schemas.openxmlformats.org/officeDocument/2006/relationships/audio" Target="../media/0002%20-%20&#1585;&#1606;%20&#1575;&#1604;&#1575;&#1580;&#1585;&#1575;&#1587;.wav"/><Relationship Id="rId4" Type="http://schemas.openxmlformats.org/officeDocument/2006/relationships/audio" Target="../media/0068%20-%20applause.wav"/><Relationship Id="rId5" Type="http://schemas.openxmlformats.org/officeDocument/2006/relationships/audio" Target="../media/0068%20-%20applause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0002%20-%20&#1585;&#1606;%20&#1575;&#1604;&#1575;&#1580;&#1585;&#1575;&#1587;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0002%20-%20&#1585;&#1606;%20&#1575;&#1604;&#1575;&#1580;&#1585;&#1575;&#1587;.wav"/><Relationship Id="rId3" Type="http://schemas.openxmlformats.org/officeDocument/2006/relationships/audio" Target="../media/suction.wav"/><Relationship Id="rId4" Type="http://schemas.openxmlformats.org/officeDocument/2006/relationships/audio" Target="../media/whoosh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audio" Target="../media/0002%20-%20&#1585;&#1606;%20&#1575;&#1604;&#1575;&#1580;&#1585;&#1575;&#1587;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0002%20-%20&#1585;&#1606;%20&#1575;&#1604;&#1575;&#1580;&#1585;&#1575;&#1587;.wav"/><Relationship Id="rId2" Type="http://schemas.openxmlformats.org/officeDocument/2006/relationships/audio" Target="../media/&#1591;&#1610;&#1608;&#1585;%20&#1575;&#1604;&#1576;&#1581;&#1585;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jpe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audio" Target="../media/0002%20-%20&#1585;&#1606;%20&#1575;&#1604;&#1575;&#1580;&#1585;&#1575;&#1587;.wav"/><Relationship Id="rId7" Type="http://schemas.openxmlformats.org/officeDocument/2006/relationships/audio" Target="../media/cached_accuracy3.wav"/><Relationship Id="rId8" Type="http://schemas.openxmlformats.org/officeDocument/2006/relationships/audio" Target="../media/0068%20-%20applause.wav"/><Relationship Id="rId9" Type="http://schemas.openxmlformats.org/officeDocument/2006/relationships/audio" Target="../media/0068%20-%20applause.wav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jpeg"/><Relationship Id="rId3" Type="http://schemas.openxmlformats.org/officeDocument/2006/relationships/audio" Target="../media/0002%20-%20&#1585;&#1606;%20&#1575;&#1604;&#1575;&#1580;&#1585;&#1575;&#1587;.wav"/><Relationship Id="rId4" Type="http://schemas.openxmlformats.org/officeDocument/2006/relationships/audio" Target="../media/hammer.wav"/><Relationship Id="rId5" Type="http://schemas.openxmlformats.org/officeDocument/2006/relationships/audio" Target="../media/0068%20-%20applause.wav"/><Relationship Id="rId6" Type="http://schemas.openxmlformats.org/officeDocument/2006/relationships/audio" Target="../media/0068%20-%20applause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0002%20-%20&#1585;&#1606;%20&#1575;&#1604;&#1575;&#1580;&#1585;&#1575;&#1587;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0002%20-%20&#1585;&#1606;%20&#1575;&#1604;&#1575;&#1580;&#1585;&#1575;&#1587;.wav"/><Relationship Id="rId3" Type="http://schemas.openxmlformats.org/officeDocument/2006/relationships/audio" Target="../media/0068%20-%20applause.wav"/><Relationship Id="rId4" Type="http://schemas.openxmlformats.org/officeDocument/2006/relationships/audio" Target="../media/0068%20-%20applause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20.jpe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audio" Target="../media/0002%20-%20&#1585;&#1606;%20&#1575;&#1604;&#1575;&#1580;&#1585;&#1575;&#1587;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audio" Target="../media/voltage.wav"/><Relationship Id="rId12" Type="http://schemas.openxmlformats.org/officeDocument/2006/relationships/audio" Target="../media/voltage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0002%20-%20&#1585;&#1606;%20&#1575;&#1604;&#1575;&#1580;&#1585;&#1575;&#1587;.wav"/><Relationship Id="rId3" Type="http://schemas.openxmlformats.org/officeDocument/2006/relationships/audio" Target="../media/0029%20-%20Windows%20error%20sound.wav"/><Relationship Id="rId4" Type="http://schemas.openxmlformats.org/officeDocument/2006/relationships/audio" Target="../media/Yahoo_ring_03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0002%20-%20&#1585;&#1606;%20&#1575;&#1604;&#1575;&#1580;&#1585;&#1575;&#1587;.wav"/><Relationship Id="rId4" Type="http://schemas.openxmlformats.org/officeDocument/2006/relationships/audio" Target="../media/doorbell.wav"/><Relationship Id="rId5" Type="http://schemas.openxmlformats.org/officeDocument/2006/relationships/audio" Target="../media/SOUND26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0002%20-%20&#1585;&#1606;%20&#1575;&#1604;&#1575;&#1580;&#1585;&#1575;&#1587;.wav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coin.wav"/><Relationship Id="rId8" Type="http://schemas.openxmlformats.org/officeDocument/2006/relationships/audio" Target="../media/laser.wav"/><Relationship Id="rId9" Type="http://schemas.openxmlformats.org/officeDocument/2006/relationships/audio" Target="../media/coin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0002%20-%20&#1585;&#1606;%20&#1575;&#1604;&#1575;&#1580;&#1585;&#1575;&#1587;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voltag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audio" Target="../media/0002%20-%20&#1585;&#1606;%20&#1575;&#1604;&#1575;&#1580;&#1585;&#1575;&#1587;.wav"/><Relationship Id="rId9" Type="http://schemas.openxmlformats.org/officeDocument/2006/relationships/audio" Target="../media/coin.wav"/><Relationship Id="rId10" Type="http://schemas.openxmlformats.org/officeDocument/2006/relationships/audio" Target="../media/chimes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audio" Target="../media/cashreg.wav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0002%20-%20&#1585;&#1606;%20&#1575;&#1604;&#1575;&#1580;&#1585;&#1575;&#1587;.wav"/><Relationship Id="rId4" Type="http://schemas.openxmlformats.org/officeDocument/2006/relationships/audio" Target="../media/push.wav"/><Relationship Id="rId5" Type="http://schemas.openxmlformats.org/officeDocument/2006/relationships/audio" Target="../media/whoosh.wav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0002%20-%20&#1585;&#1606;%20&#1575;&#1604;&#1575;&#1580;&#1585;&#1575;&#1587;.wav"/><Relationship Id="rId3" Type="http://schemas.openxmlformats.org/officeDocument/2006/relationships/audio" Target="../media/0044%20-%20&#1581;&#1583;%20&#1581;&#1575;&#1587;&#1605;%20&#1604;&#1604;&#1608;&#1610;&#1606;&#1583;&#1608;&#1586;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APMRT"/>
          <p:cNvPicPr/>
          <p:nvPr/>
        </p:nvPicPr>
        <p:blipFill>
          <a:blip r:embed="rId1"/>
          <a:stretch/>
        </p:blipFill>
        <p:spPr>
          <a:xfrm>
            <a:off x="5651640" y="333360"/>
            <a:ext cx="2592360" cy="1871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6324480" y="304920"/>
            <a:ext cx="10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الفصل الثالث عش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2484360" y="2997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2"/>
          <p:cNvSpPr/>
          <p:nvPr/>
        </p:nvSpPr>
        <p:spPr>
          <a:xfrm>
            <a:off x="3048120" y="2666880"/>
            <a:ext cx="2458800" cy="1219320"/>
          </a:xfrm>
          <a:prstGeom prst="octagon">
            <a:avLst>
              <a:gd name="adj" fmla="val 29287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Calibri"/>
              </a:rPr>
              <a:t>النقو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0002%20-%20%D8%B1%D9%86%20%D8%A7%D9%84%D8%A7%D8%AC%D8%B1%D8%A7%D8%B3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5"/>
          <p:cNvSpPr txBox="1"/>
          <p:nvPr/>
        </p:nvSpPr>
        <p:spPr>
          <a:xfrm>
            <a:off x="6095880" y="304920"/>
            <a:ext cx="23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507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+mn-cs"/>
              </a:rPr>
              <a:t>أحاول </a:t>
            </a:r>
            <a:endParaRPr b="0" lang="en-US" sz="1800" spc="1" strike="noStrike">
              <a:ln w="507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75" name="AutoShape 6"/>
          <p:cNvSpPr/>
          <p:nvPr/>
        </p:nvSpPr>
        <p:spPr>
          <a:xfrm rot="10278600">
            <a:off x="839160" y="269640"/>
            <a:ext cx="5065560" cy="1420560"/>
          </a:xfrm>
          <a:prstGeom prst="pie">
            <a:avLst/>
          </a:prstGeom>
          <a:solidFill>
            <a:srgbClr val="66ffff"/>
          </a:solidFill>
          <a:ln w="7632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أحُلُّ الْمَسْأَلَةَ بِتَمْثيلِ مُعْطَياتِ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 rot="5400000">
            <a:off x="3345120" y="1226160"/>
            <a:ext cx="3527280" cy="7170840"/>
          </a:xfrm>
          <a:custGeom>
            <a:avLst/>
            <a:gdLst>
              <a:gd name="textAreaLeft" fmla="*/ 172080 w 3527280"/>
              <a:gd name="textAreaRight" fmla="*/ 3355200 w 3527280"/>
              <a:gd name="textAreaTop" fmla="*/ 172080 h 7170840"/>
              <a:gd name="textAreaBottom" fmla="*/ 6998760 h 7170840"/>
            </a:gdLst>
            <a:ahLst/>
            <a:rect l="textAreaLeft" t="textAreaTop" r="textAreaRight" b="textAreaBottom"/>
            <a:pathLst>
              <a:path w="21600" h="43910">
                <a:moveTo>
                  <a:pt x="3600" y="0"/>
                </a:moveTo>
                <a:arcTo wR="3600" hR="3600" stAng="16200000" swAng="-5400000"/>
                <a:lnTo>
                  <a:pt x="0" y="40310"/>
                </a:lnTo>
                <a:arcTo wR="3600" hR="3600" stAng="10800000" swAng="-5400000"/>
                <a:lnTo>
                  <a:pt x="18000" y="439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َرَادَتْ هَيْفَاءُ أَنْ تَشْتَرِيَ حَقيبَةً ثَمَنهُا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رِيَالا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َلَمْ يَكُنْ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َعَهَا إلا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رِيَالاً فَقَطْ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َا الأَوْراقُ النَّقْدِيَّةُ الأُخْرَى الَّتِ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َحْتاجُ إِلَيْها لِتَشْتَرِيَ الحقيبَةَ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تَحْتاجُ هَيْفَاءُ إِلى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9"/>
          <p:cNvGrpSpPr/>
          <p:nvPr/>
        </p:nvGrpSpPr>
        <p:grpSpPr>
          <a:xfrm>
            <a:off x="7620120" y="2209680"/>
            <a:ext cx="812520" cy="910080"/>
            <a:chOff x="7620120" y="2209680"/>
            <a:chExt cx="812520" cy="910080"/>
          </a:xfrm>
        </p:grpSpPr>
        <p:pic>
          <p:nvPicPr>
            <p:cNvPr id="78" name="Picture 32" descr="heart"/>
            <p:cNvPicPr/>
            <p:nvPr/>
          </p:nvPicPr>
          <p:blipFill>
            <a:blip r:embed="rId1"/>
            <a:stretch/>
          </p:blipFill>
          <p:spPr>
            <a:xfrm>
              <a:off x="7620120" y="2209680"/>
              <a:ext cx="81252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11"/>
            <p:cNvSpPr/>
            <p:nvPr/>
          </p:nvSpPr>
          <p:spPr>
            <a:xfrm>
              <a:off x="7767360" y="235548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2362320" cy="1982880"/>
          </a:xfrm>
          <a:prstGeom prst="rect">
            <a:avLst/>
          </a:prstGeom>
          <a:ln w="76320">
            <a:solidFill>
              <a:srgbClr val="c0504d"/>
            </a:solidFill>
            <a:miter/>
          </a:ln>
        </p:spPr>
      </p:pic>
    </p:spTree>
  </p:cSld>
  <p:transition>
    <p:wedge/>
    <p:sndAc>
      <p:stSnd>
        <p:snd r:embed="rId3" name="0002%20-%20%D8%B1%D9%86%20%D8%A7%D9%84%D8%A7%D8%AC%D8%B1%D8%A7%D8%B3.wav"/>
      </p:stSnd>
    </p:sndAc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ows%20XP%20Print%20comple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OUND2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5"/>
          <p:cNvSpPr txBox="1"/>
          <p:nvPr/>
        </p:nvSpPr>
        <p:spPr>
          <a:xfrm>
            <a:off x="6095880" y="304920"/>
            <a:ext cx="23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507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+mn-cs"/>
              </a:rPr>
              <a:t>أحاول </a:t>
            </a:r>
            <a:endParaRPr b="0" lang="en-US" sz="1800" spc="1" strike="noStrike">
              <a:ln w="507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82" name="Horizontal Scroll 8"/>
          <p:cNvSpPr/>
          <p:nvPr/>
        </p:nvSpPr>
        <p:spPr>
          <a:xfrm>
            <a:off x="3962520" y="2209680"/>
            <a:ext cx="4572000" cy="31305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4249800" y="2765160"/>
            <a:ext cx="4208400" cy="2043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Arial"/>
                <a:cs typeface="Times New Roman"/>
              </a:rPr>
              <a:t>تحتاج هيفاء إلى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15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ريال. ورقة من فئة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10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ريالات وورقة من فئة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5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ريال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5 ريال سعودي"/>
          <p:cNvPicPr/>
          <p:nvPr/>
        </p:nvPicPr>
        <p:blipFill>
          <a:blip r:embed="rId1"/>
          <a:stretch/>
        </p:blipFill>
        <p:spPr>
          <a:xfrm rot="20091000">
            <a:off x="153720" y="2663640"/>
            <a:ext cx="2300040" cy="1017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5 ريال سعودي"/>
          <p:cNvPicPr/>
          <p:nvPr/>
        </p:nvPicPr>
        <p:blipFill>
          <a:blip r:embed="rId2"/>
          <a:stretch/>
        </p:blipFill>
        <p:spPr>
          <a:xfrm rot="20091000">
            <a:off x="944640" y="3200040"/>
            <a:ext cx="2286000" cy="1009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5 ريال سعودي"/>
          <p:cNvPicPr/>
          <p:nvPr/>
        </p:nvPicPr>
        <p:blipFill>
          <a:blip r:embed="rId3"/>
          <a:stretch/>
        </p:blipFill>
        <p:spPr>
          <a:xfrm rot="20091000">
            <a:off x="1706040" y="3714480"/>
            <a:ext cx="2286000" cy="100944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6"/>
          <p:cNvSpPr/>
          <p:nvPr/>
        </p:nvSpPr>
        <p:spPr>
          <a:xfrm rot="10278600">
            <a:off x="839160" y="269640"/>
            <a:ext cx="5065560" cy="1420560"/>
          </a:xfrm>
          <a:prstGeom prst="pie">
            <a:avLst/>
          </a:prstGeom>
          <a:solidFill>
            <a:srgbClr val="66ffff"/>
          </a:solidFill>
          <a:ln w="7632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أحُلُّ الْمَسْأَلَةَ بِتَمْثيلِ مُعْطَياتِ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4" name="0002%20-%20%D8%B1%D9%86%20%D8%A7%D9%84%D8%A7%D8%AC%D8%B1%D8%A7%D8%B3.wav"/>
      </p:stSnd>
    </p:sndAc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2010" t="4955" r="18028" b="14066"/>
          <a:stretch/>
        </p:blipFill>
        <p:spPr>
          <a:xfrm>
            <a:off x="2666880" y="5181480"/>
            <a:ext cx="3353040" cy="13716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89" name="AutoShape 6"/>
          <p:cNvSpPr/>
          <p:nvPr/>
        </p:nvSpPr>
        <p:spPr>
          <a:xfrm rot="5400000">
            <a:off x="3013200" y="-186480"/>
            <a:ext cx="2811600" cy="7162920"/>
          </a:xfrm>
          <a:prstGeom prst="flowChartMagneticDrum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d2933"/>
                </a:solidFill>
                <a:latin typeface="Calibri"/>
              </a:rPr>
              <a:t>تُريدُ رَنا أَنْ تَشْتَرِيَ لُعْبَةً ثَمَنُها </a:t>
            </a:r>
            <a:r>
              <a:rPr b="1" lang="ar-SA" sz="3200" spc="-1" strike="noStrike">
                <a:solidFill>
                  <a:srgbClr val="6d2933"/>
                </a:solidFill>
                <a:latin typeface="Calibri"/>
              </a:rPr>
              <a:t>10</a:t>
            </a:r>
            <a:r>
              <a:rPr b="1" lang="ar-SA" sz="3200" spc="-1" strike="noStrike">
                <a:solidFill>
                  <a:srgbClr val="6d2933"/>
                </a:solidFill>
                <a:latin typeface="Calibri"/>
              </a:rPr>
              <a:t> رِيالاتٍ</a:t>
            </a:r>
            <a:r>
              <a:rPr b="1" lang="ar-SA" sz="3200" spc="-1" strike="noStrike">
                <a:solidFill>
                  <a:srgbClr val="6d2933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d2933"/>
                </a:solidFill>
                <a:latin typeface="Calibri"/>
              </a:rPr>
              <a:t>مَا الأَوْراقُ النَّقْدِيَّةُ الَّتي يُمْكِنُ أَنْ تَدْفَعَها لِلْبائِعِ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99"/>
                </a:solidFill>
                <a:latin typeface="Calibri"/>
              </a:rPr>
              <a:t>تَسْتَطيعُ رَنا أَنْ تَدْفَعَ</a:t>
            </a:r>
            <a:r>
              <a:rPr b="1" lang="ar-SA" sz="32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990099"/>
                </a:solidFill>
                <a:latin typeface="Calibri"/>
              </a:rPr>
              <a:t>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8153280" y="1828800"/>
            <a:ext cx="812880" cy="910080"/>
            <a:chOff x="8153280" y="1828800"/>
            <a:chExt cx="812880" cy="910080"/>
          </a:xfrm>
        </p:grpSpPr>
        <p:pic>
          <p:nvPicPr>
            <p:cNvPr id="91" name="Picture 32" descr="heart"/>
            <p:cNvPicPr/>
            <p:nvPr/>
          </p:nvPicPr>
          <p:blipFill>
            <a:blip r:embed="rId2"/>
            <a:stretch/>
          </p:blipFill>
          <p:spPr>
            <a:xfrm>
              <a:off x="8153280" y="1828800"/>
              <a:ext cx="81288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9"/>
            <p:cNvSpPr/>
            <p:nvPr/>
          </p:nvSpPr>
          <p:spPr>
            <a:xfrm>
              <a:off x="8300880" y="197460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WordArt 5"/>
          <p:cNvSpPr txBox="1"/>
          <p:nvPr/>
        </p:nvSpPr>
        <p:spPr>
          <a:xfrm>
            <a:off x="6095880" y="304920"/>
            <a:ext cx="23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507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+mn-cs"/>
              </a:rPr>
              <a:t>أحاول </a:t>
            </a:r>
            <a:endParaRPr b="0" lang="en-US" sz="1800" spc="1" strike="noStrike">
              <a:ln w="507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94" name="AutoShape 6"/>
          <p:cNvSpPr/>
          <p:nvPr/>
        </p:nvSpPr>
        <p:spPr>
          <a:xfrm rot="10278600">
            <a:off x="839160" y="269640"/>
            <a:ext cx="5065560" cy="1420560"/>
          </a:xfrm>
          <a:prstGeom prst="pie">
            <a:avLst/>
          </a:prstGeom>
          <a:solidFill>
            <a:srgbClr val="66ffff"/>
          </a:solidFill>
          <a:ln w="7632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أحُلُّ الْمَسْأَلَةَ بِتَمْثيلِ مُعْطَياتِ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3" name="0002%20-%20%D8%B1%D9%86%20%D8%A7%D9%84%D8%A7%D8%AC%D8%B1%D8%A7%D8%B3.wav"/>
      </p:stSnd>
    </p:sndAc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5"/>
          <p:cNvSpPr txBox="1"/>
          <p:nvPr/>
        </p:nvSpPr>
        <p:spPr>
          <a:xfrm>
            <a:off x="6095880" y="304920"/>
            <a:ext cx="23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507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+mn-cs"/>
              </a:rPr>
              <a:t>أحاول </a:t>
            </a:r>
            <a:endParaRPr b="0" lang="en-US" sz="1800" spc="1" strike="noStrike">
              <a:ln w="507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96" name="Horizontal Scroll 8"/>
          <p:cNvSpPr/>
          <p:nvPr/>
        </p:nvSpPr>
        <p:spPr>
          <a:xfrm>
            <a:off x="1676520" y="3657600"/>
            <a:ext cx="6705360" cy="25146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5029200" y="4015800"/>
            <a:ext cx="3276720" cy="1922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2060"/>
                </a:solidFill>
                <a:latin typeface="Arial"/>
              </a:rPr>
              <a:t>ورقة من فئة </a:t>
            </a:r>
            <a:r>
              <a:rPr b="1" lang="ar-EG" sz="4000" spc="-1" strike="noStrike">
                <a:solidFill>
                  <a:srgbClr val="002060"/>
                </a:solidFill>
                <a:latin typeface="Arial"/>
              </a:rPr>
              <a:t>10</a:t>
            </a:r>
            <a:r>
              <a:rPr b="1" lang="ar-EG" sz="4000" spc="-1" strike="noStrike">
                <a:solidFill>
                  <a:srgbClr val="002060"/>
                </a:solidFill>
                <a:latin typeface="Arial"/>
              </a:rPr>
              <a:t> ريال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 rot="10278600">
            <a:off x="839160" y="269640"/>
            <a:ext cx="5065560" cy="1420560"/>
          </a:xfrm>
          <a:prstGeom prst="pie">
            <a:avLst/>
          </a:prstGeom>
          <a:solidFill>
            <a:srgbClr val="66ffff"/>
          </a:solidFill>
          <a:ln w="7632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أحُلُّ الْمَسْأَلَةَ بِتَمْثيلِ مُعْطَياتِ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1" descr="4-10f"/>
          <p:cNvPicPr/>
          <p:nvPr/>
        </p:nvPicPr>
        <p:blipFill>
          <a:blip r:embed="rId1"/>
          <a:stretch/>
        </p:blipFill>
        <p:spPr>
          <a:xfrm>
            <a:off x="2189160" y="4419720"/>
            <a:ext cx="2763720" cy="128088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0002%20-%20%D8%B1%D9%86%20%D8%A7%D9%84%D8%A7%D8%AC%D8%B1%D8%A7%D8%B3.wav"/>
      </p:stSnd>
    </p:sndAc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5943600" y="685800"/>
            <a:ext cx="2016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+mn-cs"/>
              </a:rPr>
              <a:t>أتدرب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101" name="AutoShape 6"/>
          <p:cNvSpPr/>
          <p:nvPr/>
        </p:nvSpPr>
        <p:spPr>
          <a:xfrm rot="10551600">
            <a:off x="1501560" y="3233160"/>
            <a:ext cx="6276960" cy="1996920"/>
          </a:xfrm>
          <a:prstGeom prst="pie">
            <a:avLst/>
          </a:prstGeom>
          <a:solidFill>
            <a:srgbClr val="baa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2060"/>
                </a:solidFill>
                <a:latin typeface="Calibri"/>
              </a:rPr>
              <a:t>أحُلُّ الْمَسْأَلَةَ بِتَمْثيلِ مُعْطَياتِ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0002%20-%20%D8%B1%D9%86%20%D8%A7%D9%84%D8%A7%D8%AC%D8%B1%D8%A7%D8%B3.wav"/>
      </p:stSnd>
    </p:sndAc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OUND56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rcRect l="5072" t="18956" r="6251" b="16622"/>
          <a:stretch/>
        </p:blipFill>
        <p:spPr>
          <a:xfrm>
            <a:off x="5638680" y="2209680"/>
            <a:ext cx="2819520" cy="20574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03" name="AutoShape 8"/>
          <p:cNvSpPr/>
          <p:nvPr/>
        </p:nvSpPr>
        <p:spPr>
          <a:xfrm rot="5400000">
            <a:off x="-190800" y="723600"/>
            <a:ext cx="6096240" cy="5410440"/>
          </a:xfrm>
          <a:prstGeom prst="flowChartMagneticDrum">
            <a:avLst/>
          </a:prstGeom>
          <a:solidFill>
            <a:srgbClr val="000080"/>
          </a:solidFill>
          <a:ln w="7632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تُريدُ كَريمَةُ أَنْ تَشْتَرِيَ دُمْيَةً</a:t>
            </a: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ثَمَنُها </a:t>
            </a: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30</a:t>
            </a: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 رِيالاً، إِذَا كَانَ مَعَهَ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وَرَقَةٌ مِنْ فئِةَ </a:t>
            </a: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10</a:t>
            </a: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 رِيالاتٍ فَقَطْ</a:t>
            </a: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فَكَمْ وَرَقَةً أُخْرى مِنْ فِئَةِ </a:t>
            </a: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10</a:t>
            </a: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 رِيالات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تَحْتَاجُ إِلَيْهَا لِتَشْتَرِيَ الدمية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Calibri"/>
              </a:rPr>
              <a:t>ت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حْتاجُ كَريمَةُ إِلَى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...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مِنْ فِئَةِ 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10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 رِيَالات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7848720" y="457200"/>
            <a:ext cx="812520" cy="910080"/>
            <a:chOff x="7848720" y="457200"/>
            <a:chExt cx="812520" cy="910080"/>
          </a:xfrm>
        </p:grpSpPr>
        <p:pic>
          <p:nvPicPr>
            <p:cNvPr id="105" name="Picture 32" descr="heart"/>
            <p:cNvPicPr/>
            <p:nvPr/>
          </p:nvPicPr>
          <p:blipFill>
            <a:blip r:embed="rId2"/>
            <a:stretch/>
          </p:blipFill>
          <p:spPr>
            <a:xfrm>
              <a:off x="7848720" y="457200"/>
              <a:ext cx="81252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0"/>
            <p:cNvSpPr/>
            <p:nvPr/>
          </p:nvSpPr>
          <p:spPr>
            <a:xfrm>
              <a:off x="7995960" y="60300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  <p:sndAc>
      <p:stSnd>
        <p:snd r:embed="rId3" name="0002%20-%20%D8%B1%D9%86%20%D8%A7%D9%84%D8%A7%D8%AC%D8%B1%D8%A7%D8%B3.wav"/>
      </p:stSnd>
    </p:sndAc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tra_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8"/>
          <p:cNvGrpSpPr/>
          <p:nvPr/>
        </p:nvGrpSpPr>
        <p:grpSpPr>
          <a:xfrm>
            <a:off x="7848720" y="457200"/>
            <a:ext cx="812520" cy="910080"/>
            <a:chOff x="7848720" y="457200"/>
            <a:chExt cx="812520" cy="910080"/>
          </a:xfrm>
        </p:grpSpPr>
        <p:pic>
          <p:nvPicPr>
            <p:cNvPr id="108" name="Picture 32" descr="heart"/>
            <p:cNvPicPr/>
            <p:nvPr/>
          </p:nvPicPr>
          <p:blipFill>
            <a:blip r:embed="rId1"/>
            <a:stretch/>
          </p:blipFill>
          <p:spPr>
            <a:xfrm>
              <a:off x="7848720" y="457200"/>
              <a:ext cx="81252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0"/>
            <p:cNvSpPr/>
            <p:nvPr/>
          </p:nvSpPr>
          <p:spPr>
            <a:xfrm>
              <a:off x="7995960" y="60300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Horizontal Scroll 6"/>
          <p:cNvSpPr/>
          <p:nvPr/>
        </p:nvSpPr>
        <p:spPr>
          <a:xfrm>
            <a:off x="1219320" y="2666880"/>
            <a:ext cx="6705360" cy="25146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1676520" y="2948760"/>
            <a:ext cx="6172200" cy="2104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Arial"/>
              </a:rPr>
              <a:t>تحتاج كريمة إلى </a:t>
            </a:r>
            <a:r>
              <a:rPr b="1" lang="ar-EG" sz="44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EG" sz="4400" spc="-1" strike="noStrike">
                <a:solidFill>
                  <a:srgbClr val="c00000"/>
                </a:solidFill>
                <a:latin typeface="Arial"/>
              </a:rPr>
              <a:t> ورقة من فئة </a:t>
            </a:r>
            <a:r>
              <a:rPr b="1" lang="ar-SA" sz="4400" spc="-1" strike="noStrike">
                <a:solidFill>
                  <a:srgbClr val="c00000"/>
                </a:solidFill>
                <a:latin typeface="Arial"/>
              </a:rPr>
              <a:t>10</a:t>
            </a:r>
            <a:r>
              <a:rPr b="1" lang="ar-SA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Arial"/>
              </a:rPr>
              <a:t>الريالات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3" name="0002%20-%20%D8%B1%D9%86%20%D8%A7%D9%84%D8%A7%D8%AC%D8%B1%D8%A7%D8%B3.wav"/>
      </p:stSnd>
    </p:sndAc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6"/>
          <p:cNvSpPr/>
          <p:nvPr/>
        </p:nvSpPr>
        <p:spPr>
          <a:xfrm>
            <a:off x="0" y="762120"/>
            <a:ext cx="7153200" cy="4419360"/>
          </a:xfrm>
          <a:prstGeom prst="verticalScroll">
            <a:avLst>
              <a:gd name="adj" fmla="val 14578"/>
            </a:avLst>
          </a:prstGeom>
          <a:solidFill>
            <a:srgbClr val="ff0066">
              <a:alpha val="70000"/>
            </a:srgbClr>
          </a:solidFill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يَرْغَبُ جَاسمٌ أَنْ يَشْتَرِيَ سَمَكَتَيْنِ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لحِوْضِ الزّينة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فَإذِا كانَ ثَمَنُ السَّمَكَةِ الْواحِدَةِ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رِيالاتٍ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فَمَا الأَوْراقُ النَّقْدِيَّةُ الَّتي يُمْكِنُ أَن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يَدْفَعَها إِلَى الْبائِعِ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يَسْتَطيعُ جاسمٌ أَنْ يَدْفَعَ ...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0" t="15893" r="0" b="23619"/>
          <a:stretch/>
        </p:blipFill>
        <p:spPr>
          <a:xfrm>
            <a:off x="5715000" y="5181480"/>
            <a:ext cx="3048120" cy="14828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grpSp>
        <p:nvGrpSpPr>
          <p:cNvPr id="114" name="Group 6"/>
          <p:cNvGrpSpPr/>
          <p:nvPr/>
        </p:nvGrpSpPr>
        <p:grpSpPr>
          <a:xfrm>
            <a:off x="7848720" y="533520"/>
            <a:ext cx="812520" cy="910080"/>
            <a:chOff x="7848720" y="533520"/>
            <a:chExt cx="812520" cy="910080"/>
          </a:xfrm>
        </p:grpSpPr>
        <p:pic>
          <p:nvPicPr>
            <p:cNvPr id="115" name="Picture 32" descr="heart"/>
            <p:cNvPicPr/>
            <p:nvPr/>
          </p:nvPicPr>
          <p:blipFill>
            <a:blip r:embed="rId2"/>
            <a:stretch/>
          </p:blipFill>
          <p:spPr>
            <a:xfrm>
              <a:off x="7848720" y="533520"/>
              <a:ext cx="81252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8"/>
            <p:cNvSpPr/>
            <p:nvPr/>
          </p:nvSpPr>
          <p:spPr>
            <a:xfrm>
              <a:off x="7995960" y="67932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  <p:sndAc>
      <p:stSnd>
        <p:snd r:embed="rId3" name="0002%20-%20%D8%B1%D9%86%20%D8%A7%D9%84%D8%A7%D8%AC%D8%B1%D8%A7%D8%B3.wav"/>
      </p:stSnd>
    </p:sndAc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8"/>
          <p:cNvGrpSpPr/>
          <p:nvPr/>
        </p:nvGrpSpPr>
        <p:grpSpPr>
          <a:xfrm>
            <a:off x="7848720" y="457200"/>
            <a:ext cx="812520" cy="910080"/>
            <a:chOff x="7848720" y="457200"/>
            <a:chExt cx="812520" cy="910080"/>
          </a:xfrm>
        </p:grpSpPr>
        <p:pic>
          <p:nvPicPr>
            <p:cNvPr id="118" name="Picture 32" descr="heart"/>
            <p:cNvPicPr/>
            <p:nvPr/>
          </p:nvPicPr>
          <p:blipFill>
            <a:blip r:embed="rId1"/>
            <a:stretch/>
          </p:blipFill>
          <p:spPr>
            <a:xfrm>
              <a:off x="7848720" y="457200"/>
              <a:ext cx="81252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0"/>
            <p:cNvSpPr/>
            <p:nvPr/>
          </p:nvSpPr>
          <p:spPr>
            <a:xfrm>
              <a:off x="7995960" y="60300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Horizontal Scroll 6"/>
          <p:cNvSpPr/>
          <p:nvPr/>
        </p:nvSpPr>
        <p:spPr>
          <a:xfrm>
            <a:off x="1219320" y="2666880"/>
            <a:ext cx="6705360" cy="25146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1600200" y="2871000"/>
            <a:ext cx="6172200" cy="2104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Arial"/>
              </a:rPr>
              <a:t>يستطيع جاسم أن يدفع ورقة من </a:t>
            </a:r>
            <a:r>
              <a:rPr b="1" lang="ar-EG" sz="4400" spc="-1" strike="noStrike">
                <a:solidFill>
                  <a:srgbClr val="c00000"/>
                </a:solidFill>
                <a:latin typeface="Arial"/>
              </a:rPr>
              <a:t>10</a:t>
            </a:r>
            <a:r>
              <a:rPr b="1" lang="ar-EG" sz="4400" spc="-1" strike="noStrike">
                <a:solidFill>
                  <a:srgbClr val="c00000"/>
                </a:solidFill>
                <a:latin typeface="Arial"/>
              </a:rPr>
              <a:t> ريالات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3" name="0002%20-%20%D8%B1%D9%86%20%D8%A7%D9%84%D8%A7%D8%AC%D8%B1%D8%A7%D8%B3.wav"/>
      </p:stSnd>
    </p:sndAc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5"/>
          <p:cNvSpPr txBox="1"/>
          <p:nvPr/>
        </p:nvSpPr>
        <p:spPr>
          <a:xfrm>
            <a:off x="1116000" y="692280"/>
            <a:ext cx="367200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232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latin typeface="+mn-cs"/>
              </a:rPr>
              <a:t>نشاط منزلى </a:t>
            </a:r>
            <a:endParaRPr b="0" lang="en-US" sz="1800" spc="1" strike="noStrike">
              <a:ln w="22320">
                <a:solidFill>
                  <a:srgbClr val="008000"/>
                </a:solidFill>
                <a:miter/>
              </a:ln>
              <a:solidFill>
                <a:srgbClr val="ff0000"/>
              </a:solidFill>
              <a:latin typeface="+mn-cs"/>
              <a:ea typeface="+mn-cs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685800" y="2781360"/>
            <a:ext cx="7696080" cy="3314520"/>
          </a:xfrm>
          <a:prstGeom prst="flowChartMultidocument">
            <a:avLst/>
          </a:prstGeom>
          <a:solidFill>
            <a:srgbClr val="ff99ff"/>
          </a:solidFill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استعمل أشياء من المنزل لعمل ما يشبه المنجر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 وضع ثمناُ لكل قطعة ثم أعط طفلك أوراقاً نقد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متنوعة ليستعملها فى شراء الاشياء المعروض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BARN01"/>
          <p:cNvPicPr/>
          <p:nvPr/>
        </p:nvPicPr>
        <p:blipFill>
          <a:blip r:embed="rId1"/>
          <a:stretch/>
        </p:blipFill>
        <p:spPr>
          <a:xfrm>
            <a:off x="6443640" y="0"/>
            <a:ext cx="2700360" cy="2556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0002%20-%20%D8%B1%D9%86%20%D8%A7%D9%84%D8%A7%D8%AC%D8%B1%D8%A7%D8%B3.wav"/>
      </p:stSnd>
    </p:sndAc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BCKMC130"/>
          <p:cNvPicPr/>
          <p:nvPr/>
        </p:nvPicPr>
        <p:blipFill>
          <a:blip r:embed="rId1"/>
          <a:stretch/>
        </p:blipFill>
        <p:spPr>
          <a:xfrm>
            <a:off x="914400" y="533520"/>
            <a:ext cx="6767640" cy="533376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2819520" y="1752480"/>
            <a:ext cx="373356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+mn-cs"/>
              </a:rPr>
              <a:t>3- </a:t>
            </a: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+mn-cs"/>
              </a:rPr>
              <a:t>أحل المسألة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+mn-cs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+mn-cs"/>
              <a:ea typeface="+mn-cs"/>
            </a:endParaRPr>
          </a:p>
        </p:txBody>
      </p:sp>
      <p:sp>
        <p:nvSpPr>
          <p:cNvPr id="47" name="WordArt 7"/>
          <p:cNvSpPr txBox="1"/>
          <p:nvPr/>
        </p:nvSpPr>
        <p:spPr>
          <a:xfrm>
            <a:off x="2971800" y="4114800"/>
            <a:ext cx="3124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+mn-cs"/>
              </a:rPr>
              <a:t>أمثِّلُهَا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+mn-cs"/>
              <a:ea typeface="+mn-cs"/>
            </a:endParaRPr>
          </a:p>
        </p:txBody>
      </p:sp>
    </p:spTree>
  </p:cSld>
  <p:transition>
    <p:wedge/>
    <p:sndAc>
      <p:stSnd>
        <p:snd r:embed="rId2" name="0002%20-%20%D8%B1%D9%86%20%D8%A7%D9%84%D8%A7%D8%AC%D8%B1%D8%A7%D8%B3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2209680" y="2590920"/>
            <a:ext cx="4321440" cy="14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255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تمارين</a:t>
            </a:r>
            <a:endParaRPr b="1" lang="en-US" sz="5400" spc="1" strike="noStrike">
              <a:ln w="255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  <p:sndAc>
      <p:stSnd>
        <p:snd r:embed="rId3" name="0002%20-%20%D8%B1%D9%86%20%D8%A7%D9%84%D8%A7%D8%AC%D8%B1%D8%A7%D8%B3.wav"/>
      </p:stSnd>
    </p:sndAc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4"/>
          <p:cNvSpPr/>
          <p:nvPr/>
        </p:nvSpPr>
        <p:spPr>
          <a:xfrm rot="20602200">
            <a:off x="1938240" y="2354040"/>
            <a:ext cx="5405400" cy="2627280"/>
          </a:xfrm>
          <a:prstGeom prst="leftArrow">
            <a:avLst>
              <a:gd name="adj1" fmla="val 50000"/>
              <a:gd name="adj2" fmla="val 0"/>
            </a:avLst>
          </a:prstGeom>
          <a:solidFill>
            <a:srgbClr val="ba06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Arial"/>
              </a:rPr>
              <a:t>أحل المسألة بتمثيل معطيات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0002%20-%20%D8%B1%D9%86%20%D8%A7%D9%84%D8%A7%D8%AC%D8%B1%D8%A7%D8%B3.wav"/>
      </p:stSnd>
    </p:sndAc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8%B7%D9%8A%D9%88%D8%B1%20%D8%A7%D9%84%D8%A8%D8%AD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5"/>
          <p:cNvSpPr/>
          <p:nvPr/>
        </p:nvSpPr>
        <p:spPr>
          <a:xfrm>
            <a:off x="1371600" y="838080"/>
            <a:ext cx="5264280" cy="3057480"/>
          </a:xfrm>
          <a:prstGeom prst="hexagon">
            <a:avLst>
              <a:gd name="adj" fmla="val 44216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c00000"/>
                </a:solidFill>
                <a:latin typeface="Calibri"/>
              </a:rPr>
              <a:t>تريد سعاد أن تشتر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c00000"/>
                </a:solidFill>
                <a:latin typeface="Calibri"/>
              </a:rPr>
              <a:t> قلماَ ب</a:t>
            </a: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ـ</a:t>
            </a:r>
            <a:r>
              <a:rPr b="1" lang="ar-EG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c00000"/>
                </a:solidFill>
                <a:latin typeface="Calibri"/>
              </a:rPr>
              <a:t>15</a:t>
            </a:r>
            <a:r>
              <a:rPr b="1" lang="ar-EG" sz="3600" spc="-1" strike="noStrike">
                <a:solidFill>
                  <a:srgbClr val="c00000"/>
                </a:solidFill>
                <a:latin typeface="Calibri"/>
              </a:rPr>
              <a:t> ريالاً</a:t>
            </a: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.</a:t>
            </a:r>
            <a:r>
              <a:rPr b="1" lang="ar-EG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أرسم الأوراق النقدية ال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 تمثل هذا المبل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8"/>
          <p:cNvGrpSpPr/>
          <p:nvPr/>
        </p:nvGrpSpPr>
        <p:grpSpPr>
          <a:xfrm>
            <a:off x="7238880" y="1143000"/>
            <a:ext cx="982440" cy="946080"/>
            <a:chOff x="7238880" y="1143000"/>
            <a:chExt cx="982440" cy="946080"/>
          </a:xfrm>
        </p:grpSpPr>
        <p:pic>
          <p:nvPicPr>
            <p:cNvPr id="129" name="Picture 8" descr="Light_Bulb_1"/>
            <p:cNvPicPr/>
            <p:nvPr/>
          </p:nvPicPr>
          <p:blipFill>
            <a:blip r:embed="rId1"/>
            <a:stretch/>
          </p:blipFill>
          <p:spPr>
            <a:xfrm>
              <a:off x="7238880" y="114300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0"/>
            <p:cNvSpPr/>
            <p:nvPr/>
          </p:nvSpPr>
          <p:spPr>
            <a:xfrm>
              <a:off x="7457760" y="114300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Horizontal Scroll 8"/>
          <p:cNvSpPr/>
          <p:nvPr/>
        </p:nvSpPr>
        <p:spPr>
          <a:xfrm>
            <a:off x="1447920" y="4038480"/>
            <a:ext cx="6705360" cy="25146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5562720" y="4882320"/>
            <a:ext cx="243828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c00000"/>
                </a:solidFill>
                <a:latin typeface="Arial"/>
              </a:rPr>
              <a:t>15</a:t>
            </a:r>
            <a:r>
              <a:rPr b="1" lang="ar-EG" sz="4800" spc="-1" strike="noStrike">
                <a:solidFill>
                  <a:srgbClr val="c00000"/>
                </a:solidFill>
                <a:latin typeface="Arial"/>
              </a:rPr>
              <a:t> ريا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7" descr="5 ريال سعودي"/>
          <p:cNvPicPr/>
          <p:nvPr/>
        </p:nvPicPr>
        <p:blipFill>
          <a:blip r:embed="rId3"/>
          <a:stretch/>
        </p:blipFill>
        <p:spPr>
          <a:xfrm>
            <a:off x="1981080" y="4495680"/>
            <a:ext cx="1584360" cy="700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5 ريال سعودي"/>
          <p:cNvPicPr/>
          <p:nvPr/>
        </p:nvPicPr>
        <p:blipFill>
          <a:blip r:embed="rId4"/>
          <a:stretch/>
        </p:blipFill>
        <p:spPr>
          <a:xfrm>
            <a:off x="1905120" y="5410080"/>
            <a:ext cx="1584360" cy="700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5 ريال سعودي"/>
          <p:cNvPicPr/>
          <p:nvPr/>
        </p:nvPicPr>
        <p:blipFill>
          <a:blip r:embed="rId5"/>
          <a:stretch/>
        </p:blipFill>
        <p:spPr>
          <a:xfrm>
            <a:off x="3809880" y="5029200"/>
            <a:ext cx="1584360" cy="7002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6" name="0002%20-%20%D8%B1%D9%86%20%D8%A7%D9%84%D8%A7%D8%AC%D8%B1%D8%A7%D8%B3.wav"/>
      </p:stSnd>
    </p:sndAc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ched_accuracy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4"/>
          <p:cNvSpPr/>
          <p:nvPr/>
        </p:nvSpPr>
        <p:spPr>
          <a:xfrm>
            <a:off x="762120" y="1371600"/>
            <a:ext cx="6781680" cy="2590920"/>
          </a:xfrm>
          <a:prstGeom prst="bracePair">
            <a:avLst>
              <a:gd name="adj" fmla="val 8333"/>
            </a:avLst>
          </a:prstGeom>
          <a:solidFill>
            <a:srgbClr val="0f495d"/>
          </a:solidFill>
          <a:ln w="76320">
            <a:solidFill>
              <a:srgbClr val="ff6600"/>
            </a:solidFill>
            <a:miter/>
          </a:ln>
          <a:effectLst>
            <a:outerShdw dist="153753" dir="2700000" blurRad="0" rotWithShape="0">
              <a:srgbClr val="66ff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اشترت هدى لعبة ب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 ريالاً 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 ثم اشترت بطاقة تهنئة ب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 ريالا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 كم دفعت  هدى ثمناً للعبة والبطاق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..... ريالا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6"/>
          <p:cNvGrpSpPr/>
          <p:nvPr/>
        </p:nvGrpSpPr>
        <p:grpSpPr>
          <a:xfrm>
            <a:off x="7543800" y="457200"/>
            <a:ext cx="990360" cy="1022040"/>
            <a:chOff x="7543800" y="457200"/>
            <a:chExt cx="990360" cy="1022040"/>
          </a:xfrm>
        </p:grpSpPr>
        <p:pic>
          <p:nvPicPr>
            <p:cNvPr id="138" name="Picture 8" descr="Light_Bulb_1"/>
            <p:cNvPicPr/>
            <p:nvPr/>
          </p:nvPicPr>
          <p:blipFill>
            <a:blip r:embed="rId1"/>
            <a:stretch/>
          </p:blipFill>
          <p:spPr>
            <a:xfrm>
              <a:off x="7543800" y="457200"/>
              <a:ext cx="990360" cy="102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/>
            <p:cNvSpPr/>
            <p:nvPr/>
          </p:nvSpPr>
          <p:spPr>
            <a:xfrm>
              <a:off x="7769160" y="45720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Horizontal Scroll 7"/>
          <p:cNvSpPr/>
          <p:nvPr/>
        </p:nvSpPr>
        <p:spPr>
          <a:xfrm>
            <a:off x="2286000" y="4343400"/>
            <a:ext cx="4724280" cy="220968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3276720" y="4955400"/>
            <a:ext cx="243828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c00000"/>
                </a:solidFill>
                <a:latin typeface="Arial"/>
              </a:rPr>
              <a:t>45</a:t>
            </a:r>
            <a:r>
              <a:rPr b="1" lang="ar-EG" sz="4800" spc="-1" strike="noStrike">
                <a:solidFill>
                  <a:srgbClr val="c00000"/>
                </a:solidFill>
                <a:latin typeface="Arial"/>
              </a:rPr>
              <a:t> ريا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3" name="0002%20-%20%D8%B1%D9%86%20%D8%A7%D9%84%D8%A7%D8%AC%D8%B1%D8%A7%D8%B3.wav"/>
      </p:stSnd>
    </p:sndAc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4"/>
          <p:cNvGrpSpPr/>
          <p:nvPr/>
        </p:nvGrpSpPr>
        <p:grpSpPr>
          <a:xfrm>
            <a:off x="7885080" y="333360"/>
            <a:ext cx="982440" cy="946080"/>
            <a:chOff x="7885080" y="333360"/>
            <a:chExt cx="982440" cy="946080"/>
          </a:xfrm>
        </p:grpSpPr>
        <p:pic>
          <p:nvPicPr>
            <p:cNvPr id="143" name="Picture 8" descr="Light_Bulb_1"/>
            <p:cNvPicPr/>
            <p:nvPr/>
          </p:nvPicPr>
          <p:blipFill>
            <a:blip r:embed="rId1"/>
            <a:stretch/>
          </p:blipFill>
          <p:spPr>
            <a:xfrm>
              <a:off x="7885080" y="33336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6"/>
            <p:cNvSpPr/>
            <p:nvPr/>
          </p:nvSpPr>
          <p:spPr>
            <a:xfrm>
              <a:off x="8103960" y="33336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AutoShape 4"/>
          <p:cNvSpPr/>
          <p:nvPr/>
        </p:nvSpPr>
        <p:spPr>
          <a:xfrm>
            <a:off x="76320" y="2286000"/>
            <a:ext cx="8839080" cy="2819520"/>
          </a:xfrm>
          <a:prstGeom prst="bracePair">
            <a:avLst>
              <a:gd name="adj" fmla="val 8333"/>
            </a:avLst>
          </a:prstGeom>
          <a:solidFill>
            <a:srgbClr val="0f495d"/>
          </a:solidFill>
          <a:ln w="76320">
            <a:solidFill>
              <a:srgbClr val="ff6600"/>
            </a:solidFill>
            <a:miter/>
          </a:ln>
          <a:effectLst>
            <a:outerShdw dist="153753" dir="2700000" blurRad="0" rotWithShape="0">
              <a:srgbClr val="66ff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لدى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خالد 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ورقات نقدية من فئة 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ريالات وورقة م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فئة 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ريالات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 و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لدى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أخيه ورقة من فئة 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ريال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و 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ورقات من فئة 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ريال . هل لدى الأخوان ما يكف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لشراء إطار للصور ثمنه 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ريالاً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0002%20-%20%D8%B1%D9%86%20%D8%A7%D9%84%D8%A7%D8%AC%D8%B1%D8%A7%D8%B3.wav"/>
      </p:stSnd>
    </p:sndAc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7885080" y="333360"/>
            <a:ext cx="982440" cy="946080"/>
            <a:chOff x="7885080" y="333360"/>
            <a:chExt cx="982440" cy="946080"/>
          </a:xfrm>
        </p:grpSpPr>
        <p:pic>
          <p:nvPicPr>
            <p:cNvPr id="147" name="Picture 8" descr="Light_Bulb_1"/>
            <p:cNvPicPr/>
            <p:nvPr/>
          </p:nvPicPr>
          <p:blipFill>
            <a:blip r:embed="rId1"/>
            <a:stretch/>
          </p:blipFill>
          <p:spPr>
            <a:xfrm>
              <a:off x="7885080" y="33336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6"/>
            <p:cNvSpPr/>
            <p:nvPr/>
          </p:nvSpPr>
          <p:spPr>
            <a:xfrm>
              <a:off x="8103960" y="33336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Horizontal Scroll 8"/>
          <p:cNvSpPr/>
          <p:nvPr/>
        </p:nvSpPr>
        <p:spPr>
          <a:xfrm>
            <a:off x="914400" y="2286000"/>
            <a:ext cx="7010280" cy="388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-1295280" y="2982960"/>
            <a:ext cx="9158040" cy="253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مع خالد 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30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  + 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35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 ري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ومع أخيه 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10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 + 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 + 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15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 ري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إذن ما معهم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35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 + 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15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50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 ريالا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وهو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 يكفى لشراء إطار للصورة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0002%20-%20%D8%B1%D9%86%20%D8%A7%D9%84%D8%A7%D8%AC%D8%B1%D8%A7%D8%B3.wav"/>
      </p:stSnd>
    </p:sndAc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"/>
          <p:cNvSpPr/>
          <p:nvPr/>
        </p:nvSpPr>
        <p:spPr>
          <a:xfrm>
            <a:off x="304920" y="1676520"/>
            <a:ext cx="8305560" cy="3047760"/>
          </a:xfrm>
          <a:prstGeom prst="roundRect">
            <a:avLst>
              <a:gd name="adj" fmla="val 16667"/>
            </a:avLst>
          </a:prstGeom>
          <a:solidFill>
            <a:srgbClr val="e7b7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يريد محم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ن يشترى باقة ور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ب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ريالا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ما ال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وراق النقدية الت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يستطيع محمد ب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أن يجمع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ريالاً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أرسم النقو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7772400" y="304920"/>
            <a:ext cx="982440" cy="946080"/>
            <a:chOff x="7772400" y="304920"/>
            <a:chExt cx="982440" cy="946080"/>
          </a:xfrm>
        </p:grpSpPr>
        <p:pic>
          <p:nvPicPr>
            <p:cNvPr id="153" name="Picture 8" descr="Light_Bulb_1"/>
            <p:cNvPicPr/>
            <p:nvPr/>
          </p:nvPicPr>
          <p:blipFill>
            <a:blip r:embed="rId1"/>
            <a:stretch/>
          </p:blipFill>
          <p:spPr>
            <a:xfrm>
              <a:off x="7772400" y="30492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5"/>
            <p:cNvSpPr/>
            <p:nvPr/>
          </p:nvSpPr>
          <p:spPr>
            <a:xfrm>
              <a:off x="7991280" y="30492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Picture 13" descr="5 ريال سعودي"/>
          <p:cNvPicPr/>
          <p:nvPr/>
        </p:nvPicPr>
        <p:blipFill>
          <a:blip r:embed="rId2"/>
          <a:stretch/>
        </p:blipFill>
        <p:spPr>
          <a:xfrm rot="20091000">
            <a:off x="6751800" y="5409720"/>
            <a:ext cx="2286000" cy="1009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5 ريال سعودي"/>
          <p:cNvPicPr/>
          <p:nvPr/>
        </p:nvPicPr>
        <p:blipFill>
          <a:blip r:embed="rId3"/>
          <a:stretch/>
        </p:blipFill>
        <p:spPr>
          <a:xfrm rot="20091000">
            <a:off x="5821200" y="4476240"/>
            <a:ext cx="2286000" cy="1009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4"/>
          <a:stretch/>
        </p:blipFill>
        <p:spPr>
          <a:xfrm>
            <a:off x="2971800" y="5246640"/>
            <a:ext cx="2819520" cy="1306440"/>
          </a:xfrm>
          <a:prstGeom prst="rect">
            <a:avLst/>
          </a:prstGeom>
          <a:ln w="0">
            <a:noFill/>
          </a:ln>
        </p:spPr>
      </p:pic>
      <p:pic>
        <p:nvPicPr>
          <p:cNvPr id="158" name="صورة 11" descr="ريال6.bmp"/>
          <p:cNvPicPr/>
          <p:nvPr/>
        </p:nvPicPr>
        <p:blipFill>
          <a:blip r:embed="rId5"/>
          <a:stretch/>
        </p:blipFill>
        <p:spPr>
          <a:xfrm rot="1732800">
            <a:off x="533520" y="4419360"/>
            <a:ext cx="2262240" cy="1030320"/>
          </a:xfrm>
          <a:prstGeom prst="rect">
            <a:avLst/>
          </a:prstGeom>
          <a:ln w="0">
            <a:noFill/>
          </a:ln>
        </p:spPr>
      </p:pic>
      <p:pic>
        <p:nvPicPr>
          <p:cNvPr id="159" name="صورة 13" descr="ريال6.bmp"/>
          <p:cNvPicPr/>
          <p:nvPr/>
        </p:nvPicPr>
        <p:blipFill>
          <a:blip r:embed="rId6"/>
          <a:stretch/>
        </p:blipFill>
        <p:spPr>
          <a:xfrm rot="1801200">
            <a:off x="69480" y="5450040"/>
            <a:ext cx="2262240" cy="102996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7" name="0002%20-%20%D8%B1%D9%86%20%D8%A7%D9%84%D8%A7%D8%AC%D8%B1%D8%A7%D8%B3.wav"/>
      </p:stSnd>
    </p:sndAc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BCKLC270"/>
          <p:cNvPicPr/>
          <p:nvPr/>
        </p:nvPicPr>
        <p:blipFill>
          <a:blip r:embed="rId1"/>
          <a:stretch/>
        </p:blipFill>
        <p:spPr>
          <a:xfrm>
            <a:off x="2209680" y="3352680"/>
            <a:ext cx="495324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3429000" y="3776760"/>
            <a:ext cx="240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2c666a"/>
                </a:solidFill>
                <a:latin typeface="Calibri"/>
              </a:rPr>
              <a:t>أَحُلُّ مَسْأَلَةً بِتَمْثيل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2c666a"/>
                </a:solidFill>
                <a:latin typeface="Calibri"/>
              </a:rPr>
              <a:t>مُعْطَياتِها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1"/>
          <p:cNvSpPr txBox="1"/>
          <p:nvPr/>
        </p:nvSpPr>
        <p:spPr>
          <a:xfrm rot="1329600">
            <a:off x="4954680" y="1023480"/>
            <a:ext cx="244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888000"/>
                </a:gradFill>
                <a:effectLst>
                  <a:outerShdw dist="153753" dir="2700000" blurRad="0" rotWithShape="0">
                    <a:srgbClr val="ffffff">
                      <a:alpha val="80000"/>
                    </a:srgbClr>
                  </a:outerShdw>
                </a:effectLst>
                <a:latin typeface="+mn-cs"/>
              </a:rPr>
              <a:t>فِكْرَةُ الدَّرْس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888000"/>
              </a:gradFill>
              <a:effectLst>
                <a:outerShdw dist="153753" dir="2700000" blurRad="0" rotWithShape="0">
                  <a:srgbClr val="ffffff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</p:spTree>
  </p:cSld>
  <p:transition>
    <p:wedge/>
    <p:sndAc>
      <p:stSnd>
        <p:snd r:embed="rId2" name="0002%20-%20%D8%B1%D9%86%20%D8%A7%D9%84%D8%A7%D8%AC%D8%B1%D8%A7%D8%B3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29%20-%20Windows%20error%20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Yahoo_ring_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7"/>
          <p:cNvSpPr/>
          <p:nvPr/>
        </p:nvSpPr>
        <p:spPr>
          <a:xfrm>
            <a:off x="3352680" y="1219320"/>
            <a:ext cx="5065920" cy="3706560"/>
          </a:xfrm>
          <a:prstGeom prst="bevel">
            <a:avLst>
              <a:gd name="adj" fmla="val 6986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إِذَا كَانَ مَعَ إِبْرَاهِيمَ وَرَقَتانِ مِن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فِئَةِ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ريالاتِ، ويُريدُ أَنْ يَشْتَرِي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عُلْبَةَ أَقْلامٍ ثَمَنُها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رِيال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مَا الأَوْراقُ النَّقْدِيَّةُ الأُخْرَ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الَّتي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يَحْتاجُ إِلَيْها لِيَتَمَكَّن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ِنْ شِراءِ هذِهِ الْعُلْبَةِ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mascotte 3"/>
          <p:cNvPicPr/>
          <p:nvPr/>
        </p:nvPicPr>
        <p:blipFill>
          <a:blip r:embed="rId1"/>
          <a:stretch/>
        </p:blipFill>
        <p:spPr>
          <a:xfrm>
            <a:off x="-380880" y="152280"/>
            <a:ext cx="2700360" cy="941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imagestr"/>
          <p:cNvPicPr/>
          <p:nvPr/>
        </p:nvPicPr>
        <p:blipFill>
          <a:blip r:embed="rId2"/>
          <a:stretch/>
        </p:blipFill>
        <p:spPr>
          <a:xfrm>
            <a:off x="-66600" y="3968640"/>
            <a:ext cx="3535200" cy="262116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3" name="0002%20-%20%D8%B1%D9%86%20%D8%A7%D9%84%D8%A7%D8%AC%D8%B1%D8%A7%D8%B3.wav"/>
      </p:stSnd>
    </p:sndAc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oor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OUND2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5796000" y="765000"/>
            <a:ext cx="223200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n-cs"/>
              </a:rPr>
              <a:t>أفهم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55" name="AutoShape 5"/>
          <p:cNvSpPr/>
          <p:nvPr/>
        </p:nvSpPr>
        <p:spPr>
          <a:xfrm rot="19128000">
            <a:off x="3924000" y="1915920"/>
            <a:ext cx="1909800" cy="1238040"/>
          </a:xfrm>
          <a:prstGeom prst="leftArrow">
            <a:avLst>
              <a:gd name="adj1" fmla="val 49324"/>
              <a:gd name="adj2" fmla="val 59490"/>
            </a:avLst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2209680" y="3657600"/>
            <a:ext cx="5105520" cy="2514600"/>
          </a:xfrm>
          <a:prstGeom prst="bracePair">
            <a:avLst>
              <a:gd name="adj" fmla="val 21120"/>
            </a:avLst>
          </a:prstGeom>
          <a:solidFill>
            <a:srgbClr val="66ffff"/>
          </a:solidFill>
          <a:ln w="76320">
            <a:solidFill>
              <a:srgbClr val="800080"/>
            </a:solidFill>
            <a:miter/>
          </a:ln>
          <a:effectLst>
            <a:outerShdw dist="153753" dir="2700000" blurRad="0" rotWithShape="0">
              <a:srgbClr val="2c666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مَا مُعْطَياتُ الْمَسْأَلَةِ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 أَضَعُ خَطًّا تَحْتَ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مَا الْمَطْلُوبُ مِنَ الْمَسْأَلَةِ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 أُحِوطُه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0002%20-%20%D8%B1%D9%86%20%D8%A7%D9%84%D8%A7%D8%AC%D8%B1%D8%A7%D8%B3.wav"/>
      </p:stSnd>
    </p:sndAc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4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6"/>
          <p:cNvSpPr/>
          <p:nvPr/>
        </p:nvSpPr>
        <p:spPr>
          <a:xfrm rot="18954000">
            <a:off x="4736880" y="2236320"/>
            <a:ext cx="976320" cy="1193760"/>
          </a:xfrm>
          <a:prstGeom prst="leftArrow">
            <a:avLst>
              <a:gd name="adj1" fmla="val 31333"/>
              <a:gd name="adj2" fmla="val 36759"/>
            </a:avLst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7"/>
          <p:cNvSpPr txBox="1"/>
          <p:nvPr/>
        </p:nvSpPr>
        <p:spPr>
          <a:xfrm>
            <a:off x="5724360" y="981000"/>
            <a:ext cx="20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41400">
                  <a:solidFill>
                    <a:srgbClr val="993366"/>
                  </a:solidFill>
                  <a:miter/>
                </a:ln>
                <a:solidFill>
                  <a:srgbClr val="e1d2bd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n-cs"/>
              </a:rPr>
              <a:t>أخطط</a:t>
            </a:r>
            <a:endParaRPr b="0" lang="en-US" sz="1800" spc="1" strike="noStrike">
              <a:ln w="41400">
                <a:solidFill>
                  <a:srgbClr val="993366"/>
                </a:solidFill>
                <a:miter/>
              </a:ln>
              <a:solidFill>
                <a:srgbClr val="e1d2bd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2050920" y="3933720"/>
            <a:ext cx="4349880" cy="193356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2700000"/>
          </a:gradFill>
          <a:ln w="76320">
            <a:solidFill>
              <a:srgbClr val="2c666a"/>
            </a:solidFill>
            <a:miter/>
          </a:ln>
          <a:effectLst>
            <a:outerShdw dist="153753" dir="2700000" blurRad="0" rotWithShape="0">
              <a:srgbClr val="bb0d8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كَيْفَ سَأَحُلُّ الْمَسْأَلَةَ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يُمْكِنُ أَنْ أُمَثِّلَ مُعْطَيات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ْمَسْأَلَةِ بِاسْتِعْمَالِ النُّقودِ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0002%20-%20%D8%B1%D9%86%20%D8%A7%D9%84%D8%A7%D8%AC%D8%B1%D8%A7%D8%B3.wav"/>
      </p:stSnd>
    </p:sndAc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12"/>
          <p:cNvSpPr/>
          <p:nvPr/>
        </p:nvSpPr>
        <p:spPr>
          <a:xfrm>
            <a:off x="2133720" y="1981080"/>
            <a:ext cx="6408720" cy="2845080"/>
          </a:xfrm>
          <a:prstGeom prst="bracePair">
            <a:avLst>
              <a:gd name="adj" fmla="val 8333"/>
            </a:avLst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cc00"/>
            </a:solidFill>
            <a:miter/>
          </a:ln>
          <a:effectLst>
            <a:outerShdw dist="153753" dir="2700000" blurRad="0" rotWithShape="0">
              <a:srgbClr val="c050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أَضَعُ وَرَقَتَيْنِ مِنْ فئِةِ 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 رِيال</a:t>
            </a:r>
            <a:r>
              <a:rPr b="1" lang="ar-EG" sz="3600" spc="-1" strike="noStrike">
                <a:solidFill>
                  <a:srgbClr val="ffff00"/>
                </a:solidFill>
                <a:latin typeface="Calibri"/>
              </a:rPr>
              <a:t>ات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 ثُمَّ أُكْمِلُ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الْعَدَّ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 وَأَضَعُ النُّقودَ اللاّزِمَة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 لِكَيْ يُصْبِحَ مَعِي 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13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 رِيالا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0"/>
          <p:cNvSpPr/>
          <p:nvPr/>
        </p:nvSpPr>
        <p:spPr>
          <a:xfrm rot="19338600">
            <a:off x="4917600" y="703440"/>
            <a:ext cx="1341720" cy="844200"/>
          </a:xfrm>
          <a:prstGeom prst="leftArrow">
            <a:avLst>
              <a:gd name="adj1" fmla="val 22352"/>
              <a:gd name="adj2" fmla="val 62344"/>
            </a:avLst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bb0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13"/>
          <p:cNvSpPr txBox="1"/>
          <p:nvPr/>
        </p:nvSpPr>
        <p:spPr>
          <a:xfrm>
            <a:off x="6084720" y="404640"/>
            <a:ext cx="180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44280">
                  <a:solidFill>
                    <a:srgbClr val="2c666a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n-cs"/>
              </a:rPr>
              <a:t>أحل</a:t>
            </a:r>
            <a:endParaRPr b="0" lang="en-US" sz="1800" spc="1" strike="noStrike">
              <a:ln w="44280">
                <a:solidFill>
                  <a:srgbClr val="2c666a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pic>
        <p:nvPicPr>
          <p:cNvPr id="63" name="Picture 9" descr="ريال6"/>
          <p:cNvPicPr/>
          <p:nvPr/>
        </p:nvPicPr>
        <p:blipFill>
          <a:blip r:embed="rId3"/>
          <a:stretch/>
        </p:blipFill>
        <p:spPr>
          <a:xfrm rot="19953600">
            <a:off x="1654200" y="5136840"/>
            <a:ext cx="2390760" cy="1090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ريال6"/>
          <p:cNvPicPr/>
          <p:nvPr/>
        </p:nvPicPr>
        <p:blipFill>
          <a:blip r:embed="rId4"/>
          <a:stretch/>
        </p:blipFill>
        <p:spPr>
          <a:xfrm rot="19953600">
            <a:off x="3406680" y="5136840"/>
            <a:ext cx="2390760" cy="1090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ريال6"/>
          <p:cNvPicPr/>
          <p:nvPr/>
        </p:nvPicPr>
        <p:blipFill>
          <a:blip r:embed="rId5"/>
          <a:stretch/>
        </p:blipFill>
        <p:spPr>
          <a:xfrm rot="19953000">
            <a:off x="5005080" y="5219640"/>
            <a:ext cx="2367000" cy="1077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5 ريال سعودي"/>
          <p:cNvPicPr/>
          <p:nvPr/>
        </p:nvPicPr>
        <p:blipFill>
          <a:blip r:embed="rId6"/>
          <a:stretch/>
        </p:blipFill>
        <p:spPr>
          <a:xfrm rot="20091000">
            <a:off x="153720" y="2663640"/>
            <a:ext cx="2300040" cy="1017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5 ريال سعودي"/>
          <p:cNvPicPr/>
          <p:nvPr/>
        </p:nvPicPr>
        <p:blipFill>
          <a:blip r:embed="rId7"/>
          <a:stretch/>
        </p:blipFill>
        <p:spPr>
          <a:xfrm rot="20091000">
            <a:off x="944640" y="3200040"/>
            <a:ext cx="2286000" cy="10098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8" name="0002%20-%20%D8%B1%D9%86%20%D8%A7%D9%84%D8%A7%D8%AC%D8%B1%D8%A7%D8%B3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4"/>
          <p:cNvSpPr/>
          <p:nvPr/>
        </p:nvSpPr>
        <p:spPr>
          <a:xfrm rot="19227600">
            <a:off x="4427640" y="2133360"/>
            <a:ext cx="1984320" cy="772920"/>
          </a:xfrm>
          <a:prstGeom prst="leftArrow">
            <a:avLst>
              <a:gd name="adj1" fmla="val 45778"/>
              <a:gd name="adj2" fmla="val 132121"/>
            </a:avLst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bb0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1979640" y="3789360"/>
            <a:ext cx="4344840" cy="1273320"/>
          </a:xfrm>
          <a:prstGeom prst="bracePair">
            <a:avLst>
              <a:gd name="adj" fmla="val 18329"/>
            </a:avLst>
          </a:prstGeom>
          <a:blipFill rotWithShape="0">
            <a:blip r:embed="rId2"/>
            <a:srcRect/>
            <a:tile tx="0" ty="0" sx="100000" sy="100000" algn="ctr"/>
          </a:blipFill>
          <a:ln w="108000">
            <a:solidFill>
              <a:srgbClr val="bb0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ffcc"/>
                </a:solidFill>
                <a:latin typeface="Calibri"/>
              </a:rPr>
              <a:t>هَلْ إِجابَتِي مَعْقولَةٌ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6084720" y="549360"/>
            <a:ext cx="208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31680">
                  <a:solidFill>
                    <a:srgbClr val="800080"/>
                  </a:solidFill>
                  <a:miter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n-cs"/>
              </a:rPr>
              <a:t>أتحقق</a:t>
            </a:r>
            <a:endParaRPr b="0" lang="en-US" sz="1800" spc="1" strike="noStrike">
              <a:ln w="31680">
                <a:solidFill>
                  <a:srgbClr val="800080"/>
                </a:solidFill>
                <a:miter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</p:spTree>
  </p:cSld>
  <p:transition>
    <p:wedge/>
    <p:sndAc>
      <p:stSnd>
        <p:snd r:embed="rId3" name="0002%20-%20%D8%B1%D9%86%20%D8%A7%D9%84%D8%A7%D8%AC%D8%B1%D8%A7%D8%B3.wav"/>
      </p:stSnd>
    </p:sndAc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7"/>
          <p:cNvGrpSpPr/>
          <p:nvPr/>
        </p:nvGrpSpPr>
        <p:grpSpPr>
          <a:xfrm>
            <a:off x="2133720" y="380880"/>
            <a:ext cx="4572000" cy="6462000"/>
            <a:chOff x="2133720" y="380880"/>
            <a:chExt cx="4572000" cy="6462000"/>
          </a:xfrm>
        </p:grpSpPr>
        <p:pic>
          <p:nvPicPr>
            <p:cNvPr id="72" name="Picture 6" descr="BCKLC073.WMF"/>
            <p:cNvPicPr/>
            <p:nvPr/>
          </p:nvPicPr>
          <p:blipFill>
            <a:blip r:embed="rId1"/>
            <a:stretch/>
          </p:blipFill>
          <p:spPr>
            <a:xfrm>
              <a:off x="2133720" y="380880"/>
              <a:ext cx="4572000" cy="605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Rectangle 2"/>
            <p:cNvSpPr/>
            <p:nvPr/>
          </p:nvSpPr>
          <p:spPr>
            <a:xfrm>
              <a:off x="2425320" y="2361960"/>
              <a:ext cx="229608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800" spc="-1" strike="noStrike">
                  <a:solidFill>
                    <a:srgbClr val="c00000"/>
                  </a:solidFill>
                  <a:latin typeface="Calibri"/>
                </a:rPr>
                <a:t>اتذكر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800" spc="-1" strike="noStrike">
                  <a:solidFill>
                    <a:srgbClr val="000099"/>
                  </a:solidFill>
                  <a:latin typeface="Calibri"/>
                </a:rPr>
                <a:t>أفهم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800" spc="-1" strike="noStrike">
                  <a:solidFill>
                    <a:srgbClr val="003300"/>
                  </a:solidFill>
                  <a:latin typeface="Calibri"/>
                </a:rPr>
                <a:t>أخطط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800" spc="-1" strike="noStrike">
                  <a:solidFill>
                    <a:srgbClr val="000099"/>
                  </a:solidFill>
                  <a:latin typeface="Calibri"/>
                </a:rPr>
                <a:t>أحل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800" spc="-1" strike="noStrike">
                  <a:solidFill>
                    <a:srgbClr val="003300"/>
                  </a:solidFill>
                  <a:latin typeface="Calibri"/>
                </a:rPr>
                <a:t>أتحق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  <p:sndAc>
      <p:stSnd>
        <p:snd r:embed="rId2" name="0002%20-%20%D8%B1%D9%86%20%D8%A7%D9%84%D8%A7%D8%AC%D8%B1%D8%A7%D8%B3.wav"/>
      </p:stSnd>
    </p:sndAc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44%20-%20%D8%AD%D8%AF%20%D8%AD%D8%A7%D8%B3%D9%85%20%D9%84%D9%84%D9%88%D9%8A%D9%86%D8%AF%D9%88%D8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53:30Z</dcterms:created>
  <dc:creator>أ/ بندر الحازمي</dc:creator>
  <dc:description/>
  <cp:keywords>حقيبة إنجاز المعلم و المعلمة</cp:keywords>
  <dc:language>en-US</dc:language>
  <cp:lastModifiedBy>secretools</cp:lastModifiedBy>
  <dcterms:modified xsi:type="dcterms:W3CDTF">2012-11-24T13:45:13Z</dcterms:modified>
  <cp:revision>40</cp:revision>
  <dc:subject>3- أحل المسألة</dc:subject>
  <dc:title>رياضيات 1ب - الفصل الثالث عشر</dc:title>
</cp:coreProperties>
</file>