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C1D-FD30-46FF-B619-297889CC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973-892A-4EE8-8827-4A79E42F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42B-CF55-44FB-9518-6232FB1C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3332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094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3332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094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CEE-815E-4EA5-B43B-32DA4E01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5AA7-F2BD-4A71-8FD7-6D1DA5A0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A8CC-B379-4753-9377-438870AE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D162-63B6-4AE8-80F4-8A9ED16B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90D9-AC23-418E-84EF-67CADC30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AA99-EC22-43F9-BAAC-C6BFBE76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248520" cy="113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F2F5-1FE3-4FBB-A364-8C907A29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926D-7E97-4BBB-A114-9C3DDE24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D80-9833-485A-807C-E057244A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5CED-B4E1-4F31-B4E6-80C1CE8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D57F-DE36-421B-BAA2-7BD9DA33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5600-BE86-4B92-B9A9-117F06BE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3955-29F8-4745-B450-E2D41E9E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3332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09440" y="335268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3332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09440" y="3671640"/>
            <a:ext cx="19771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D46C-D250-4724-A504-8DC152D0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B81-793B-4B6D-A5A3-3FF0F4DF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222-0B0A-4F6C-8FE1-C553F8E9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BBB-A184-4522-B0AA-B1D23A6E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248520" cy="113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BC3-66FF-43AB-827D-AD0818E9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797-2B5C-403A-9C1B-59C7A34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3240" y="367164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C82-58E6-4512-B32E-7627955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03240" y="3352680"/>
            <a:ext cx="29962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1640"/>
            <a:ext cx="61405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461-A520-4FB5-8097-9C14FDB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9c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986-3522-4E70-9E1A-DE8D02C49ED8}" type="slidenum">
              <a:rPr b="0" lang="en-US" sz="1000" spc="-1" strike="noStrike">
                <a:solidFill>
                  <a:srgbClr val="fff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37F7-44FE-4596-968E-35FCE634E2B2}" type="slidenum">
              <a:rPr b="0" lang="en-US" sz="10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3960" y="60948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TERPERSONAL COMM.</a:t>
            </a:r>
            <a:endParaRPr b="0" lang="en-US" sz="20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6680" y="16002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pics:-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560" y="2438280"/>
            <a:ext cx="5356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vers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ffective Convers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ffective Conflict Managemen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3276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Empathy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void “should”, “ought” statement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Use I see, I get it, I understan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 Black"/>
              </a:rPr>
              <a:t>Positivenes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You look horrible in re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You look your best, I think, in blue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 Black"/>
              </a:rPr>
              <a:t>Immediacy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High Immediacy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xtreme closeness and connection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.g: Steve, what do you think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Low Immediacy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Distance, lack of togethernes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.g: what do you think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f9f"/>
                </a:solidFill>
                <a:latin typeface="Arial Black"/>
              </a:rPr>
              <a:t>Interaction Managemen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void interruption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Keep the conversation flowing and fluent to avoid long pauses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f9f"/>
                </a:solidFill>
                <a:latin typeface="Arial Black"/>
              </a:rPr>
              <a:t>Expressivenes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Display involvement in interactio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How to communicate expressiveness?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se I-message to signal involvement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.g: I’d like to contribute to the decisions that affect both of us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V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never give me a chance to make any decision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f9f"/>
                </a:solidFill>
                <a:latin typeface="Arial Black"/>
              </a:rPr>
              <a:t>Other orientation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Desired mode of communication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ommunicate attentiveness and interes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.g: eye contact, smiles, head nods, yes, I see, a-haa, hmm etc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880" y="533520"/>
            <a:ext cx="635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C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O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N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F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L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I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C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ristina"/>
              </a:rPr>
              <a:t>T</a:t>
            </a:r>
            <a:endParaRPr b="0" lang="en-US" sz="4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57400" y="685800"/>
            <a:ext cx="55054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371600"/>
            <a:ext cx="441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terpersonal conflicts develop over many issues:-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timac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Possessiv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Power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Personal flaw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Distanc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Social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Econom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Distrust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1895400" cy="2152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2819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990720"/>
            <a:ext cx="678204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990720"/>
            <a:ext cx="0" cy="51051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6095880"/>
            <a:ext cx="678204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68080" y="108252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Competing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73680" y="114300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Collaborating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62920" y="281952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Compromising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95880" y="51055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Avoid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51055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Sylfaen"/>
              </a:rPr>
              <a:t>Accommodating 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150840" y="30258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 for self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571800">
            <a:off x="3429720" y="609120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 for other pers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90720" y="837720"/>
            <a:ext cx="0" cy="121932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419720"/>
            <a:ext cx="0" cy="160020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324480"/>
            <a:ext cx="182880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6324480"/>
            <a:ext cx="1066680" cy="0"/>
          </a:xfrm>
          <a:prstGeom prst="line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52280"/>
            <a:ext cx="79246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Conflict Styles (approach to conflict)</a:t>
            </a:r>
            <a:endParaRPr b="0" lang="en-US" sz="36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mpet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ncern more on your own need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void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ailed to address your own desire or need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Accommodat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crifice your needs for other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llaborat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ocus on both need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Compromising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Balance the concerns between your needs &amp; other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629400" y="1143000"/>
            <a:ext cx="2209680" cy="2000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629400" y="3276720"/>
            <a:ext cx="2171880" cy="3257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33520" y="152280"/>
            <a:ext cx="79246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lfaen"/>
              </a:rPr>
              <a:t>Conflict Styles (approach to conflict)</a:t>
            </a:r>
            <a:endParaRPr b="0" lang="en-US" sz="36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4916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nterpersonal Comm.: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mm. that occur between two person who have a clearly defined relationship 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773720" y="327672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onversation proc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280" y="5334120"/>
            <a:ext cx="12992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21120" y="5410080"/>
            <a:ext cx="116388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02160" y="4572000"/>
            <a:ext cx="143352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4960" y="3809880"/>
            <a:ext cx="129924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7720" y="4572000"/>
            <a:ext cx="187380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forwar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9" idx="3"/>
            <a:endCxn id="93" idx="2"/>
          </p:cNvCxnSpPr>
          <p:nvPr/>
        </p:nvCxnSpPr>
        <p:spPr>
          <a:xfrm flipV="1">
            <a:off x="1844280" y="5038200"/>
            <a:ext cx="470520" cy="529200"/>
          </a:xfrm>
          <a:prstGeom prst="curvedConnector2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0"/>
            <a:endCxn id="92" idx="1"/>
          </p:cNvCxnSpPr>
          <p:nvPr/>
        </p:nvCxnSpPr>
        <p:spPr>
          <a:xfrm flipH="1" flipV="1" rot="5400000">
            <a:off x="2416680" y="3940560"/>
            <a:ext cx="529200" cy="734400"/>
          </a:xfrm>
          <a:prstGeom prst="curvedConnector2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3"/>
            <a:endCxn id="91" idx="0"/>
          </p:cNvCxnSpPr>
          <p:nvPr/>
        </p:nvCxnSpPr>
        <p:spPr>
          <a:xfrm>
            <a:off x="4360680" y="4043520"/>
            <a:ext cx="859320" cy="529200"/>
          </a:xfrm>
          <a:prstGeom prst="curvedConnector2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endCxn id="90" idx="1"/>
          </p:cNvCxnSpPr>
          <p:nvPr/>
        </p:nvCxnSpPr>
        <p:spPr>
          <a:xfrm flipH="1" rot="16200000">
            <a:off x="5181480" y="5109840"/>
            <a:ext cx="610560" cy="457920"/>
          </a:xfrm>
          <a:prstGeom prst="curvedConnector2">
            <a:avLst/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48520" y="1523880"/>
            <a:ext cx="257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95200" y="38088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Before &amp; After 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Before 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rrange to fight in privat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Choose the appropriate tim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Know what you’re fighting abou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657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fter 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Learn from the conflic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Keep the conflict in perspectiv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ttack your negative feeling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Increase the exchange of rewards &amp; cherishing behavior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Sylfaen"/>
              </a:rPr>
              <a:t>Effective Conflict Management</a:t>
            </a:r>
            <a:br>
              <a:rPr sz="4000"/>
            </a:b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647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Win-lose &amp; win-win strategies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voidance &amp; fighting activel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Force &amp; talk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Nonassertive &amp; assertive strategies (act on your best interest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Gunnysacking &amp; present focus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Face-enhancing &amp; face – detracting strategies (sarcastic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ttack &amp; acceptance (personal rejection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Verbal aggressiveness &amp; argumentativeness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057400"/>
            <a:ext cx="4114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ristin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Pristina"/>
              </a:rPr>
              <a:t>It is seldom the fault of one when two argue”</a:t>
            </a:r>
            <a:endParaRPr b="0" lang="en-US" sz="48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31480" y="60948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pening – the greet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43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Purpose of a greet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524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gnals a stage of acc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eals important information about the relationship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elps maintain the relationship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370440" y="411480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Feedforward – opens the channel of comm.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648320"/>
            <a:ext cx="556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view future message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ltercates – role assignmen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sclaims – persuade the listener to hear to your messag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6572160" y="990720"/>
            <a:ext cx="25718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6360" y="53352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Bussi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990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the substance and focus of the convers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133720"/>
            <a:ext cx="632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ffective interaction in face-to-face &amp; computer mediated comm.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ques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for opin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raphras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trive for balanc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ware of detour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mit interruption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0" y="54291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6280" y="457200"/>
            <a:ext cx="25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Feedback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066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reflect back on the conversation to signal the business is complete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1460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mension of feedback.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sitive-negativ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son focused-message focuse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mmediate-delaye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w monitored-high monitored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itical-supportive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7162920" y="4876920"/>
            <a:ext cx="1733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4280" y="533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los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371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the good-bye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2096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gnals the end of accessibilit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y signal some degree of supportiv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y summarize the interac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257800" y="429264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066680"/>
            <a:ext cx="9144000" cy="586764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Garamond"/>
              </a:rPr>
              <a:t>Effective Conversation</a:t>
            </a:r>
            <a:br>
              <a:rPr sz="36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kill in conversation depends on an individual ability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498960" y="19810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General Conversational Skill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7520" y="2743200"/>
            <a:ext cx="381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Mindful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Flexibilit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Cultural sensitivit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Metacommunication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0760" y="27590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Conscious awar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971800"/>
            <a:ext cx="6858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10680" y="34290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Quality of thinking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641760"/>
            <a:ext cx="6858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396252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Attitudes towards cultural difference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4403880"/>
            <a:ext cx="6858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16600" y="49528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Comm. about comm.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5165640"/>
            <a:ext cx="6858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d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57200"/>
            <a:ext cx="5791320" cy="65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Open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Empathy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- To feel as that person feels 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V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- To feel for the individual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Positiv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-    Demonstrates a positive feelings for general communic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4.   Immediacy (High &amp; Low)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5.   Interaction Management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6.   Expressivenes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7.   Other-Orientation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18720" y="152280"/>
            <a:ext cx="45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Specific Conversational Skills</a:t>
            </a:r>
            <a:endParaRPr b="0" lang="en-US" sz="2400" spc="-1" strike="noStrike">
              <a:solidFill>
                <a:srgbClr val="cc99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26575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>
              <a:buClr>
                <a:srgbClr val="cc99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 Black"/>
              </a:rPr>
              <a:t>Why did you say that? It was really inconsiderate.</a:t>
            </a:r>
            <a:br>
              <a:rPr sz="2800"/>
            </a:br>
            <a:r>
              <a:rPr b="0" lang="en-US" sz="2800" spc="-1" strike="noStrike">
                <a:solidFill>
                  <a:srgbClr val="cc99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2. Everyone thought your behavior was inconsiderate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3. I was really disturbed when you told my father he was an old ma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05:24:25Z</dcterms:created>
  <dc:creator>NODES</dc:creator>
  <dc:description/>
  <dc:language>en-US</dc:language>
  <cp:lastModifiedBy>user</cp:lastModifiedBy>
  <dcterms:modified xsi:type="dcterms:W3CDTF">2009-03-10T02:50:51Z</dcterms:modified>
  <cp:revision>13</cp:revision>
  <dc:subject/>
  <dc:title>PowerPoint Presentation</dc:title>
</cp:coreProperties>
</file>