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6BE0-7318-41B2-AAAB-9C92319D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61405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671640"/>
            <a:ext cx="61405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4ABC-F464-40A0-B751-F4B7B3C4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032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67164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03240" y="367164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DB5F-283D-44A2-A17C-91D469A4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33320" y="335268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09440" y="335268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67164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33320" y="367164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609440" y="367164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66C6-41EC-4937-AF2E-076C751E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EF59-DF20-4B94-88DC-3EF81E36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6140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BFF5-252F-42D1-AB75-756855A3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6140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EB3B-AB79-4DE9-8878-D1EB5F89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2996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03240" y="3352680"/>
            <a:ext cx="2996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9974-042A-4DFA-A605-D243A36F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FE54-52E7-495E-AE9D-CB5D8217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248520" cy="113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3FF9-9110-400B-B07B-040D038A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03240" y="3352680"/>
            <a:ext cx="2996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67164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8B6E-5359-4850-ABFF-AF1F5CD2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6140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DFC7-A446-4367-91D6-55E55534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2996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032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03240" y="367164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C93B-5D50-4473-B69A-06962BA4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032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671640"/>
            <a:ext cx="61405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9DF4-FADC-4E39-B560-57A5431B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61405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671640"/>
            <a:ext cx="61405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E75F-201F-48F4-B7A2-ADCF812D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32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67164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603240" y="367164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D5D7-5450-4463-B62F-EFBED1E8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533320" y="335268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09440" y="335268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67164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533320" y="367164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609440" y="367164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1843-A356-4ED7-BFA2-87100CE5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6140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FB9B-2298-43E3-8BD1-22C5ED06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2996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03240" y="3352680"/>
            <a:ext cx="2996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1DBC-806E-4F52-8E83-2AD96D8A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C954-855D-4436-8D0C-F5D5154E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248520" cy="113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3A4B-8281-43E3-A3DA-0501AF1C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03240" y="3352680"/>
            <a:ext cx="2996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67164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D785-BC89-4BCB-B185-58220EB2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2996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032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03240" y="367164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57BF-3C92-4918-AF39-AE241FFF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032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671640"/>
            <a:ext cx="61405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23C6-2DB6-43DA-92F9-6851D789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9c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61F3-C250-471C-83E9-B2E6E39B2F81}" type="slidenum">
              <a:rPr b="0" lang="en-US" sz="1000" spc="-1" strike="noStrike">
                <a:solidFill>
                  <a:srgbClr val="fff9c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AAD9-D641-415C-BF05-D9A17E20585B}" type="slidenum">
              <a:rPr b="0" lang="en-US" sz="10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99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03960" y="609480"/>
            <a:ext cx="34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NTERPERSONAL COMM.</a:t>
            </a:r>
            <a:endParaRPr b="0" lang="en-US" sz="20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6680" y="160020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opics:-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560" y="2438280"/>
            <a:ext cx="535608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versation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ffective Conversation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flict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ffective Conflict Management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32767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Empathy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Avoid “should”, “ought” statements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Use I see, I get it, I understand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 Black"/>
              </a:rPr>
              <a:t>Positiveness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You look horrible in red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You look your best, I think, in blue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 Black"/>
              </a:rPr>
              <a:t>Immediacy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High Immediacy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Extreme closeness and connection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.g: Steve, what do you think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Low Immediacy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Distance, lack of togetherness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.g: what do you think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f9f"/>
                </a:solidFill>
                <a:latin typeface="Arial Black"/>
              </a:rPr>
              <a:t>Interaction Managemen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Avoid interruptions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Keep the conversation flowing and fluent to avoid long pauses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f9f"/>
                </a:solidFill>
                <a:latin typeface="Arial Black"/>
              </a:rPr>
              <a:t>Expressiveness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Display involvement in interaction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How to communicate expressiveness?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use I-message to signal involvement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.g: I’d like to contribute to the decisions that affect both of us.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V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ou never give me a chance to make any decision.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f9f"/>
                </a:solidFill>
                <a:latin typeface="Arial Black"/>
              </a:rPr>
              <a:t>Other orientation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Desired mode of communication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ommunicate attentiveness and interes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e.g: eye contact, smiles, head nods, yes, I see, a-haa, hmm etc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d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1880" y="533520"/>
            <a:ext cx="6350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ristina"/>
              </a:rPr>
              <a:t>C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ristina"/>
              </a:rPr>
              <a:t>O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ristina"/>
              </a:rPr>
              <a:t>N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ristina"/>
              </a:rPr>
              <a:t>F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ristina"/>
              </a:rPr>
              <a:t>L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ristina"/>
              </a:rPr>
              <a:t>I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ristina"/>
              </a:rPr>
              <a:t>C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ristina"/>
              </a:rPr>
              <a:t>T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057400" y="685800"/>
            <a:ext cx="550548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d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1371600"/>
            <a:ext cx="4419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Interpersonal conflicts develop over many issues:-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Intimacy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Possessivenes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Power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Personal flaw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Distance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Social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Economy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Distrust 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85800" y="4267080"/>
            <a:ext cx="1895400" cy="2152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410080" y="2133720"/>
            <a:ext cx="2819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d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990720"/>
            <a:ext cx="6782040" cy="5029200"/>
          </a:xfrm>
          <a:prstGeom prst="rect">
            <a:avLst/>
          </a:prstGeom>
          <a:solidFill>
            <a:srgbClr val="0000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990720"/>
            <a:ext cx="0" cy="51051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6095880"/>
            <a:ext cx="678204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68080" y="1082520"/>
            <a:ext cx="19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lfaen"/>
              </a:rPr>
              <a:t>Competing 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73680" y="1143000"/>
            <a:ext cx="23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lfaen"/>
              </a:rPr>
              <a:t>Collaborating 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62920" y="2819520"/>
            <a:ext cx="24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lfaen"/>
              </a:rPr>
              <a:t>Compromising 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95880" y="510552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lfaen"/>
              </a:rPr>
              <a:t>Avoiding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15000" y="51055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lfaen"/>
              </a:rPr>
              <a:t>Accommodating  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-150840" y="302580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ern for self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21571800">
            <a:off x="3429720" y="609120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ern for other person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990720" y="837720"/>
            <a:ext cx="0" cy="121932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419720"/>
            <a:ext cx="0" cy="160020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324480"/>
            <a:ext cx="1828800" cy="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34320" y="6324480"/>
            <a:ext cx="1066680" cy="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152280"/>
            <a:ext cx="79246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lfaen"/>
              </a:rPr>
              <a:t>Conflict Styles (approach to conflict)</a:t>
            </a:r>
            <a:endParaRPr b="0" lang="en-US" sz="3600" spc="-1" strike="noStrike">
              <a:solidFill>
                <a:srgbClr val="cc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d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5943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ompeting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ncern more on your own needs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voiding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Failed to address your own desire or needs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ccommodating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acrifice your needs for others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ollaborating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Focus on both needs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ompromising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Balance the concerns between your needs &amp; others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629400" y="1143000"/>
            <a:ext cx="2209680" cy="20001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6629400" y="3276720"/>
            <a:ext cx="2171880" cy="3257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33520" y="152280"/>
            <a:ext cx="79246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lfaen"/>
              </a:rPr>
              <a:t>Conflict Styles (approach to conflict)</a:t>
            </a:r>
            <a:endParaRPr b="0" lang="en-US" sz="3600" spc="-1" strike="noStrike">
              <a:solidFill>
                <a:srgbClr val="cc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4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2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d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49160"/>
            <a:ext cx="4952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Interpersonal Comm.: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mm. that occur between two person who have a clearly defined relationship </a:t>
            </a:r>
            <a:br>
              <a:rPr sz="2400"/>
            </a:br>
            <a:endParaRPr b="0" lang="en-US" sz="2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1773720" y="327672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Conversation proces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280" y="5334120"/>
            <a:ext cx="129924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ing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21120" y="5410080"/>
            <a:ext cx="116388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sing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02160" y="4572000"/>
            <a:ext cx="143352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4960" y="3809880"/>
            <a:ext cx="129924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7720" y="4572000"/>
            <a:ext cx="187380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edforward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89" idx="3"/>
            <a:endCxn id="93" idx="2"/>
          </p:cNvCxnSpPr>
          <p:nvPr/>
        </p:nvCxnSpPr>
        <p:spPr>
          <a:xfrm flipV="1">
            <a:off x="1844280" y="5038200"/>
            <a:ext cx="470520" cy="529200"/>
          </a:xfrm>
          <a:prstGeom prst="curvedConnector2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93" idx="0"/>
            <a:endCxn id="92" idx="1"/>
          </p:cNvCxnSpPr>
          <p:nvPr/>
        </p:nvCxnSpPr>
        <p:spPr>
          <a:xfrm flipH="1" flipV="1" rot="5400000">
            <a:off x="2416680" y="3940560"/>
            <a:ext cx="529200" cy="734400"/>
          </a:xfrm>
          <a:prstGeom prst="curvedConnector2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3"/>
            <a:endCxn id="91" idx="0"/>
          </p:cNvCxnSpPr>
          <p:nvPr/>
        </p:nvCxnSpPr>
        <p:spPr>
          <a:xfrm>
            <a:off x="4360680" y="4043520"/>
            <a:ext cx="859320" cy="529200"/>
          </a:xfrm>
          <a:prstGeom prst="curvedConnector2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endCxn id="90" idx="1"/>
          </p:cNvCxnSpPr>
          <p:nvPr/>
        </p:nvCxnSpPr>
        <p:spPr>
          <a:xfrm flipH="1" rot="16200000">
            <a:off x="5181480" y="5109840"/>
            <a:ext cx="610560" cy="457920"/>
          </a:xfrm>
          <a:prstGeom prst="curvedConnector2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</p:cxn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248520" y="1523880"/>
            <a:ext cx="2571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d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295200" y="380880"/>
            <a:ext cx="45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Sylfaen"/>
              </a:rPr>
              <a:t>Before &amp; After Conflict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29528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Before conflict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Arrange to fight in private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Choose the appropriate time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Know what you’re fighting about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365760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After conflict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Learn from the conflict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Keep the conflict in perspective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Attack your negative feeling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Increase the exchange of rewards &amp; cherishing behavior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d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Sylfaen"/>
              </a:rPr>
              <a:t>Effective Conflict Management</a:t>
            </a:r>
            <a:br>
              <a:rPr sz="4000"/>
            </a:b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647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Win-lose &amp; win-win strategies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Avoidance &amp; fighting actively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Force &amp; talk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Nonassertive &amp; assertive strategies (act on your best interest)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Gunnysacking &amp; present focus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Face-enhancing &amp; face – detracting strategies (sarcastic)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Attack &amp; acceptance (personal rejection)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Verbal aggressiveness &amp; argumentativeness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66680" y="2057400"/>
            <a:ext cx="4114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ristina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Pristina"/>
              </a:rPr>
              <a:t>It is seldom the fault of one when two argue”</a:t>
            </a:r>
            <a:endParaRPr b="0" lang="en-US" sz="4800" spc="-1" strike="noStrike">
              <a:solidFill>
                <a:srgbClr val="cc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d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231480" y="609480"/>
            <a:ext cx="45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pening – the greeting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143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Purpose of a greeting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75248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ignals a stage of acces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eals important information about the relationship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elps maintain the relationship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370440" y="4114800"/>
            <a:ext cx="77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Feedforward – opens the channel of comm.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4648320"/>
            <a:ext cx="556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view future message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ltercates – role assignment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isclaims – persuade the listener to hear to your message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6572160" y="990720"/>
            <a:ext cx="257184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d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6360" y="53352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Bussines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9907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 the substance and focus of the conversation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2133720"/>
            <a:ext cx="6324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ffective interaction in face-to-face &amp; computer mediated comm.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question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for opinion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araphrase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trive for balance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ware of detouring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mit interruption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0" y="542916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d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26280" y="45720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Feedback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0666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 reflect back on the conversation to signal the business is completed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14600"/>
            <a:ext cx="525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imension of feedback.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ositive-negative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erson focused-message focused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mmediate-delayed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ow monitored-high monitored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itical-supportive 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7162920" y="4876920"/>
            <a:ext cx="173340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d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4280" y="53352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Closing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3716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 the good-bye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209680"/>
            <a:ext cx="640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ignals the end of accessibility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ay signal some degree of supportivenes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ay summarize the interaction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5257800" y="4292640"/>
            <a:ext cx="35053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066680"/>
            <a:ext cx="9144000" cy="5867640"/>
          </a:xfrm>
          <a:prstGeom prst="rect">
            <a:avLst/>
          </a:prstGeom>
          <a:solidFill>
            <a:srgbClr val="ffd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aramond"/>
              </a:rPr>
              <a:t>Effective Conversation</a:t>
            </a:r>
            <a:br>
              <a:rPr sz="36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kill in conversation depends on an individual ability</a:t>
            </a:r>
            <a:endParaRPr b="0" lang="en-US" sz="2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498960" y="1981080"/>
            <a:ext cx="46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General Conversational Skill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7520" y="2743200"/>
            <a:ext cx="3813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Mindfulnes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Flexibility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Cultural sensitivity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Metacommunication 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30760" y="27590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Conscious awarenes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2971800"/>
            <a:ext cx="68580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10680" y="342900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Quality of thinking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641760"/>
            <a:ext cx="68580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396252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Attitudes towards cultural difference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4403880"/>
            <a:ext cx="68580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16600" y="495288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Comm. about comm.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5165640"/>
            <a:ext cx="68580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d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57200"/>
            <a:ext cx="5791320" cy="65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Opennes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Empathy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- To feel as that person feels 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V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- To feel for the individual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Sylfae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Positivenes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-    Demonstrates a positive feelings for general communication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4.   Immediacy (High &amp; Low)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5.   Interaction Management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6.   Expressivenes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7.   Other-Orientation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18720" y="152280"/>
            <a:ext cx="45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Specific Conversational Skill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324480" y="2743200"/>
            <a:ext cx="265752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1143000"/>
            <a:ext cx="7924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>
              <a:buClr>
                <a:srgbClr val="cc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 Black"/>
              </a:rPr>
              <a:t>Why did you say that? It was really inconsiderate.</a:t>
            </a:r>
            <a:br>
              <a:rPr sz="2800"/>
            </a:br>
            <a:r>
              <a:rPr b="0" lang="en-US" sz="2800" spc="-1" strike="noStrike">
                <a:solidFill>
                  <a:srgbClr val="cc99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2. Everyone thought your behavior was inconsiderate.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3. I was really disturbed when you told my father he was an old man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8T05:24:25Z</dcterms:created>
  <dc:creator>NODES</dc:creator>
  <dc:description/>
  <dc:language>en-US</dc:language>
  <cp:lastModifiedBy>user</cp:lastModifiedBy>
  <dcterms:modified xsi:type="dcterms:W3CDTF">2009-03-10T02:50:51Z</dcterms:modified>
  <cp:revision>13</cp:revision>
  <dc:subject/>
  <dc:title>PowerPoint Presentation</dc:title>
</cp:coreProperties>
</file>