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5.jpeg" ContentType="image/jpeg"/>
  <Override PartName="/ppt/media/image29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12.jpeg" ContentType="image/jpeg"/>
  <Override PartName="/ppt/media/image39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DE7-0683-40E9-ABD0-D06D930C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05AA-A47E-4F5B-8470-011B46D6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473-19D3-4CE8-8E47-62C2931D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8FF3-D0C5-4670-A1FF-F4D38A8C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3177-6D21-4621-B19E-5CF8EC48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08A1-066F-4089-B959-1C6EE46B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C11-2D06-4528-ADBA-FF5BD90C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D6D-5F86-42EC-8370-0F8D0FF7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3916-D88B-4806-A4D7-475125D4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5D4-FD93-4F61-B5FB-AAA4C3AC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556B-9B34-4842-ADF6-DE962897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33A-9244-4F29-A8F1-14FB903C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46E5-E383-43B4-A889-F919CD3640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icture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900000" y="2492280"/>
            <a:ext cx="741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94000"/>
                  </a:srgbClr>
                </a:solidFill>
                <a:latin typeface="Arial Black"/>
              </a:rPr>
              <a:t>GRAM NEGATIVE RO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94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340000" y="486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wijaya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E"/>
          <p:cNvPicPr/>
          <p:nvPr/>
        </p:nvPicPr>
        <p:blipFill>
          <a:blip r:embed="rId1"/>
          <a:stretch/>
        </p:blipFill>
        <p:spPr>
          <a:xfrm>
            <a:off x="324000" y="189000"/>
            <a:ext cx="2519280" cy="2303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e"/>
          <p:cNvPicPr/>
          <p:nvPr/>
        </p:nvPicPr>
        <p:blipFill>
          <a:blip r:embed="rId2"/>
          <a:stretch/>
        </p:blipFill>
        <p:spPr>
          <a:xfrm>
            <a:off x="3708360" y="189000"/>
            <a:ext cx="2087640" cy="216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E"/>
          <p:cNvPicPr/>
          <p:nvPr/>
        </p:nvPicPr>
        <p:blipFill>
          <a:blip r:embed="rId3"/>
          <a:stretch/>
        </p:blipFill>
        <p:spPr>
          <a:xfrm>
            <a:off x="2843280" y="3213000"/>
            <a:ext cx="3673440" cy="3645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TSI pict"/>
          <p:cNvPicPr/>
          <p:nvPr/>
        </p:nvPicPr>
        <p:blipFill>
          <a:blip r:embed="rId4"/>
          <a:stretch/>
        </p:blipFill>
        <p:spPr>
          <a:xfrm>
            <a:off x="6877080" y="189000"/>
            <a:ext cx="876240" cy="2160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2987640" y="2655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Klebsiella pict2"/>
          <p:cNvPicPr/>
          <p:nvPr/>
        </p:nvPicPr>
        <p:blipFill>
          <a:blip r:embed="rId1"/>
          <a:stretch/>
        </p:blipFill>
        <p:spPr>
          <a:xfrm>
            <a:off x="611280" y="170028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Klebsiella pict1"/>
          <p:cNvPicPr/>
          <p:nvPr/>
        </p:nvPicPr>
        <p:blipFill>
          <a:blip r:embed="rId2"/>
          <a:stretch/>
        </p:blipFill>
        <p:spPr>
          <a:xfrm>
            <a:off x="5148360" y="1413000"/>
            <a:ext cx="3746520" cy="3744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059280" y="56088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Arial"/>
              </a:rPr>
              <a:t>Klebsiella pneumoni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Arial"/>
              </a:rPr>
              <a:t>Vibrios, Campylobacters, &amp; Helicobac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brio, Campylobacter and Helicobacter species are gram-negative rods that are all widely distributed in nature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brios are found in marine and surface wa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brio cholera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e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otox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a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l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profuse watery diarrhea that rapidly lead to dehydration and dea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 pande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orldwide pandemic) occurred between 1817 and 1923, caused most likely b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.cholera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c bio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largely originating in Asia, usually the Indian subcontinent. Some consider the cholera cause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otype O13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ain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ight pande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began in the Indian subcontinent in 1992 – 1993, with spread to Asia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Vibrio pict1"/>
          <p:cNvPicPr/>
          <p:nvPr/>
        </p:nvPicPr>
        <p:blipFill>
          <a:blip r:embed="rId1"/>
          <a:stretch/>
        </p:blipFill>
        <p:spPr>
          <a:xfrm>
            <a:off x="826920" y="260280"/>
            <a:ext cx="2376720" cy="2232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vibrio pict2"/>
          <p:cNvPicPr/>
          <p:nvPr/>
        </p:nvPicPr>
        <p:blipFill>
          <a:blip r:embed="rId2"/>
          <a:stretch/>
        </p:blipFill>
        <p:spPr>
          <a:xfrm>
            <a:off x="5651640" y="333360"/>
            <a:ext cx="2374920" cy="2160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vibrio pict3"/>
          <p:cNvPicPr/>
          <p:nvPr/>
        </p:nvPicPr>
        <p:blipFill>
          <a:blip r:embed="rId3"/>
          <a:stretch/>
        </p:blipFill>
        <p:spPr>
          <a:xfrm>
            <a:off x="2195640" y="3325680"/>
            <a:ext cx="4897440" cy="3532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2916360" y="28004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Arial"/>
              </a:rPr>
              <a:t>Vibrio choler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vibrio pict4"/>
          <p:cNvPicPr/>
          <p:nvPr/>
        </p:nvPicPr>
        <p:blipFill>
          <a:blip r:embed="rId1"/>
          <a:stretch/>
        </p:blipFill>
        <p:spPr>
          <a:xfrm>
            <a:off x="826920" y="0"/>
            <a:ext cx="75614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55308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AMBAR: PENDERITA KOLERA DENGAN DEHIDR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vir1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Arial"/>
              </a:rPr>
              <a:t>Vibrios, Campylobacters, &amp; Helicobac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ampylobac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found in many specie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cluding many domestic animal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mpylo</a:t>
            </a:r>
            <a:r>
              <a:rPr b="1" i="1" lang="id-ID" sz="2400" spc="-1" strike="noStrike">
                <a:solidFill>
                  <a:srgbClr val="000000"/>
                </a:solidFill>
                <a:latin typeface="Arial"/>
              </a:rPr>
              <a:t>ba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r jenun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mpylobacter co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emerged as common human pathogens, causing main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i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occasional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ic inf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.jejun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.col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 infections that are clinical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stinguish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laboratories generally do not differentiate between the two spe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bacteria are at least as common as salmonellae and shigellae as a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 of diarrhea; and estimated 2 million cases occur in the United States each ye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ampylobacter pict2"/>
          <p:cNvPicPr/>
          <p:nvPr/>
        </p:nvPicPr>
        <p:blipFill>
          <a:blip r:embed="rId1"/>
          <a:stretch/>
        </p:blipFill>
        <p:spPr>
          <a:xfrm>
            <a:off x="539640" y="260280"/>
            <a:ext cx="2737080" cy="2141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ampylobacter pocy1"/>
          <p:cNvPicPr/>
          <p:nvPr/>
        </p:nvPicPr>
        <p:blipFill>
          <a:blip r:embed="rId2"/>
          <a:stretch/>
        </p:blipFill>
        <p:spPr>
          <a:xfrm>
            <a:off x="5724360" y="189000"/>
            <a:ext cx="2232360" cy="221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ampylobacter pict4"/>
          <p:cNvPicPr/>
          <p:nvPr/>
        </p:nvPicPr>
        <p:blipFill>
          <a:blip r:embed="rId3"/>
          <a:stretch/>
        </p:blipFill>
        <p:spPr>
          <a:xfrm>
            <a:off x="179280" y="3357720"/>
            <a:ext cx="3311640" cy="233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ampylobacter pict3"/>
          <p:cNvPicPr/>
          <p:nvPr/>
        </p:nvPicPr>
        <p:blipFill>
          <a:blip r:embed="rId4"/>
          <a:stretch/>
        </p:blipFill>
        <p:spPr>
          <a:xfrm>
            <a:off x="5435640" y="2708280"/>
            <a:ext cx="3319560" cy="3986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2843280" y="27288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Arial"/>
              </a:rPr>
              <a:t>Campylobacter jenj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Arial"/>
              </a:rPr>
              <a:t>Vibrios, Campylobacters, &amp; Helicobac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licobacter pyl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been associated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trit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odenal ulcer dis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.pyl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resent on the gastric mucosa of less th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 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ers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 age 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increases in prevalenc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 – 60 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ers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 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cluding persons who are asymptomatic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developing count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prevalence of infection may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 % or higher in adu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Person to person transmiss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.pylor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likely beca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afamilial cluste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infection occ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helicobacter pict1"/>
          <p:cNvPicPr/>
          <p:nvPr/>
        </p:nvPicPr>
        <p:blipFill>
          <a:blip r:embed="rId1"/>
          <a:stretch/>
        </p:blipFill>
        <p:spPr>
          <a:xfrm>
            <a:off x="2556000" y="260280"/>
            <a:ext cx="4157640" cy="64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Arial"/>
              </a:rPr>
              <a:t>GRAM NEGATIVE R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Enterobacteriace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Vibrios, Campylobacters, &amp; Helicob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Pseudomonas &amp; Acinetob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Haemophilus &amp; Bordet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helicobacter pict2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MONAS &amp; ACINETOB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eudomon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inetobac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d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tributed in soil and water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seudomonas aerugino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metimes colonizes humans and is the major human pathogen of the group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aerugino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requently present in small numbers in the normal intestine flora and on skin of huma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aeruginos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as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xigen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roduce infections in patients with abnormal host defenses, and is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t nosocomial pathogen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pseudomonas pict2"/>
          <p:cNvPicPr/>
          <p:nvPr/>
        </p:nvPicPr>
        <p:blipFill>
          <a:blip r:embed="rId1"/>
          <a:stretch/>
        </p:blipFill>
        <p:spPr>
          <a:xfrm>
            <a:off x="395280" y="189000"/>
            <a:ext cx="2338560" cy="3024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pseudomonas pict1"/>
          <p:cNvPicPr/>
          <p:nvPr/>
        </p:nvPicPr>
        <p:blipFill>
          <a:blip r:embed="rId2"/>
          <a:stretch/>
        </p:blipFill>
        <p:spPr>
          <a:xfrm>
            <a:off x="5580000" y="189000"/>
            <a:ext cx="3208320" cy="2958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seudomonas pict4"/>
          <p:cNvPicPr/>
          <p:nvPr/>
        </p:nvPicPr>
        <p:blipFill>
          <a:blip r:embed="rId3"/>
          <a:stretch/>
        </p:blipFill>
        <p:spPr>
          <a:xfrm>
            <a:off x="324000" y="3500280"/>
            <a:ext cx="3097080" cy="3070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pseudomonas pict3"/>
          <p:cNvPicPr/>
          <p:nvPr/>
        </p:nvPicPr>
        <p:blipFill>
          <a:blip r:embed="rId4"/>
          <a:stretch/>
        </p:blipFill>
        <p:spPr>
          <a:xfrm>
            <a:off x="5651640" y="3860640"/>
            <a:ext cx="3097080" cy="28130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2843280" y="330516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Arial"/>
              </a:rPr>
              <a:t>Pseudomonas aerugin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MONAS &amp; ACINETOB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inetobacte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es are aerobic gram-negative bacteria that are widely distributed in soil and water and can occasionally be cultured from skin, mucous membranes, secretions, and the hospital environment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inetobac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ten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ns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occasionally cause nosocomial inf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inetobacter bauman</a:t>
            </a:r>
            <a:r>
              <a:rPr b="1" i="1" lang="id-ID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pecies most commonly iso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acinetobacter pict2"/>
          <p:cNvPicPr/>
          <p:nvPr/>
        </p:nvPicPr>
        <p:blipFill>
          <a:blip r:embed="rId1"/>
          <a:stretch/>
        </p:blipFill>
        <p:spPr>
          <a:xfrm>
            <a:off x="395280" y="40464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acinetobacter pict3"/>
          <p:cNvPicPr/>
          <p:nvPr/>
        </p:nvPicPr>
        <p:blipFill>
          <a:blip r:embed="rId2"/>
          <a:stretch/>
        </p:blipFill>
        <p:spPr>
          <a:xfrm>
            <a:off x="4932360" y="1628640"/>
            <a:ext cx="3600360" cy="350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acinetobacter pict4"/>
          <p:cNvPicPr/>
          <p:nvPr/>
        </p:nvPicPr>
        <p:blipFill>
          <a:blip r:embed="rId3"/>
          <a:stretch/>
        </p:blipFill>
        <p:spPr>
          <a:xfrm>
            <a:off x="324000" y="3789360"/>
            <a:ext cx="3313080" cy="2486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5003640" y="53211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Arial"/>
              </a:rPr>
              <a:t>Acinetobacter baumann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acinetobacter pict1"/>
          <p:cNvPicPr/>
          <p:nvPr/>
        </p:nvPicPr>
        <p:blipFill>
          <a:blip r:embed="rId1"/>
          <a:stretch/>
        </p:blipFill>
        <p:spPr>
          <a:xfrm>
            <a:off x="2340000" y="189000"/>
            <a:ext cx="4511520" cy="5832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2411280" y="62564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Arial"/>
              </a:rPr>
              <a:t>Acinetobacter baumannii </a:t>
            </a: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inf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EMOPHILUS &amp; BORDET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emophi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es is agroup of small, gram-negative, pleomorphic bacteria that require enrich media, usually containing blood or its derivatives, for iso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emophilus influenza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important human pathogen;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emophilus ducreyi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xually transmitted pathogen, causes chancroid; oth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emophi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es are among normal flora of mucous membranes and only occasionally cause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aemophilus pict2"/>
          <p:cNvPicPr/>
          <p:nvPr/>
        </p:nvPicPr>
        <p:blipFill>
          <a:blip r:embed="rId1"/>
          <a:stretch/>
        </p:blipFill>
        <p:spPr>
          <a:xfrm>
            <a:off x="539640" y="333360"/>
            <a:ext cx="3456000" cy="2513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haemophilus pict2"/>
          <p:cNvPicPr/>
          <p:nvPr/>
        </p:nvPicPr>
        <p:blipFill>
          <a:blip r:embed="rId2"/>
          <a:stretch/>
        </p:blipFill>
        <p:spPr>
          <a:xfrm>
            <a:off x="5494320" y="333360"/>
            <a:ext cx="2490840" cy="251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aemophilus pict1"/>
          <p:cNvPicPr/>
          <p:nvPr/>
        </p:nvPicPr>
        <p:blipFill>
          <a:blip r:embed="rId3"/>
          <a:stretch/>
        </p:blipFill>
        <p:spPr>
          <a:xfrm>
            <a:off x="3203640" y="3068640"/>
            <a:ext cx="2950920" cy="2943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2050920" y="61848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Arial"/>
              </a:rPr>
              <a:t>Haemophilus influenz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haemophilus pict3"/>
          <p:cNvPicPr/>
          <p:nvPr/>
        </p:nvPicPr>
        <p:blipFill>
          <a:blip r:embed="rId1"/>
          <a:stretch/>
        </p:blipFill>
        <p:spPr>
          <a:xfrm>
            <a:off x="1908000" y="790560"/>
            <a:ext cx="5112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EMOPHILUS &amp; BORDET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ral specie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rdetella. Bordetella pertussi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ghly communicable and important pathogen of humans, causes whooping cough (pertussi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rdetella parapertus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cause a similar disea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rdetella bronchiseptic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disease in animals such as kennelcough in dogs and snuffles in rabbit, and only occasionally causes respiratory disease and bacteremia in humans, primarily in immunocompromised hos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Arial"/>
              </a:rPr>
              <a:t>ENTEROBACTERI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mily Enterobacteriaceae is composed a large number of closely related species that are found in soil, water, decaying matter, and the large intestines of humans , animals, and insec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ir normal habitat in humans, these organisms are referred to a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 enteric bacilli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“ enterics”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d in this family are some of the most important causes of gastrointestinal disease : the agent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hoid fe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illary dysentery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pertussis pict1"/>
          <p:cNvPicPr/>
          <p:nvPr/>
        </p:nvPicPr>
        <p:blipFill>
          <a:blip r:embed="rId1"/>
          <a:stretch/>
        </p:blipFill>
        <p:spPr>
          <a:xfrm>
            <a:off x="900000" y="620640"/>
            <a:ext cx="3324240" cy="3324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pertussis pict6"/>
          <p:cNvPicPr/>
          <p:nvPr/>
        </p:nvPicPr>
        <p:blipFill>
          <a:blip r:embed="rId2"/>
          <a:stretch/>
        </p:blipFill>
        <p:spPr>
          <a:xfrm>
            <a:off x="5508720" y="2924280"/>
            <a:ext cx="2743200" cy="35686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900000" y="49608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PERTUS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ertussis pict2"/>
          <p:cNvPicPr/>
          <p:nvPr/>
        </p:nvPicPr>
        <p:blipFill>
          <a:blip r:embed="rId1"/>
          <a:stretch/>
        </p:blipFill>
        <p:spPr>
          <a:xfrm>
            <a:off x="611280" y="476280"/>
            <a:ext cx="2857320" cy="2428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pertussis pict3"/>
          <p:cNvPicPr/>
          <p:nvPr/>
        </p:nvPicPr>
        <p:blipFill>
          <a:blip r:embed="rId2"/>
          <a:stretch/>
        </p:blipFill>
        <p:spPr>
          <a:xfrm>
            <a:off x="5003640" y="511200"/>
            <a:ext cx="3313440" cy="2195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pertussis pict4"/>
          <p:cNvPicPr/>
          <p:nvPr/>
        </p:nvPicPr>
        <p:blipFill>
          <a:blip r:embed="rId3"/>
          <a:stretch/>
        </p:blipFill>
        <p:spPr>
          <a:xfrm>
            <a:off x="611280" y="3668760"/>
            <a:ext cx="3600360" cy="2446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pertussis pict5"/>
          <p:cNvPicPr/>
          <p:nvPr/>
        </p:nvPicPr>
        <p:blipFill>
          <a:blip r:embed="rId4"/>
          <a:stretch/>
        </p:blipFill>
        <p:spPr>
          <a:xfrm>
            <a:off x="5003640" y="3573360"/>
            <a:ext cx="3313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763640" y="3108240"/>
            <a:ext cx="504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 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Arial"/>
              </a:rPr>
              <a:t>ENTEROBACTERI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pecies are not intestinal pathogens, however, but opportunistic organisms that can infect any body site when given an altered hos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act, the enterics are responsible for the majorit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ocomi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spital-acquired) infections seen to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 organisms isolated from nosocomial infection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ultiple antimicrobial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terobacteriacea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ultative anaerob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erobes, ferments a wide range of carbohydrates, posses a complex antigenic structures, and produce a variety of toxins and other virulence fac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Arial"/>
              </a:rPr>
              <a:t>ENTEROBACTERI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 the Enterobacteriaceae have been divided in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pportunistic pathog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stinal pathog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stinal pathogens traditionally have included the members of the gener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almonella, Shigel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ersini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opportunistic pathogens included all the other gener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d-ID" sz="2400" spc="-1" strike="noStrike">
                <a:solidFill>
                  <a:srgbClr val="000000"/>
                </a:solidFill>
                <a:latin typeface="Arial"/>
              </a:rPr>
              <a:t>Escherichia, Klebsiella, Enterobacter, Proteus etc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he opportunistic enteric bacilli are capable of causing similar diseases, but the epidemiology, frequency, severity, and treatment of these diseases differ for the vario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57200" y="106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447920" y="6094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304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erobacteriaceae most frequently isolated from Clinical Speci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762120" y="990720"/>
            <a:ext cx="7619400" cy="5257440"/>
            <a:chOff x="762120" y="990720"/>
            <a:chExt cx="7619400" cy="5257440"/>
          </a:xfrm>
        </p:grpSpPr>
        <p:grpSp>
          <p:nvGrpSpPr>
            <p:cNvPr id="56" name="Group 6"/>
            <p:cNvGrpSpPr/>
            <p:nvPr/>
          </p:nvGrpSpPr>
          <p:grpSpPr>
            <a:xfrm>
              <a:off x="768960" y="997560"/>
              <a:ext cx="7603920" cy="5243040"/>
              <a:chOff x="768960" y="997560"/>
              <a:chExt cx="7603920" cy="5243040"/>
            </a:xfrm>
          </p:grpSpPr>
          <p:grpSp>
            <p:nvGrpSpPr>
              <p:cNvPr id="57" name="Group 7"/>
              <p:cNvGrpSpPr/>
              <p:nvPr/>
            </p:nvGrpSpPr>
            <p:grpSpPr>
              <a:xfrm>
                <a:off x="768960" y="997560"/>
                <a:ext cx="3750480" cy="5243040"/>
                <a:chOff x="768960" y="997560"/>
                <a:chExt cx="3750480" cy="5243040"/>
              </a:xfrm>
            </p:grpSpPr>
            <p:sp>
              <p:nvSpPr>
                <p:cNvPr id="58" name="Rectangle 8"/>
                <p:cNvSpPr/>
                <p:nvPr/>
              </p:nvSpPr>
              <p:spPr>
                <a:xfrm>
                  <a:off x="873720" y="997560"/>
                  <a:ext cx="3541320" cy="524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itrobacter diversu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.fre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di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terobacter aeroge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.agglomera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.cloaca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cherichia col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afnia alve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lebsiella pneumonia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.oxytoc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rganella morgani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Rectangle 9"/>
                <p:cNvSpPr/>
                <p:nvPr/>
              </p:nvSpPr>
              <p:spPr>
                <a:xfrm>
                  <a:off x="768960" y="997560"/>
                  <a:ext cx="3750480" cy="524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Group 10"/>
              <p:cNvGrpSpPr/>
              <p:nvPr/>
            </p:nvGrpSpPr>
            <p:grpSpPr>
              <a:xfrm>
                <a:off x="4519800" y="997560"/>
                <a:ext cx="3853080" cy="5243040"/>
                <a:chOff x="4519800" y="997560"/>
                <a:chExt cx="3853080" cy="5243040"/>
              </a:xfrm>
            </p:grpSpPr>
            <p:sp>
              <p:nvSpPr>
                <p:cNvPr id="61" name="Rectangle 11"/>
                <p:cNvSpPr/>
                <p:nvPr/>
              </p:nvSpPr>
              <p:spPr>
                <a:xfrm>
                  <a:off x="4624560" y="997560"/>
                  <a:ext cx="3643200" cy="524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us mira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li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.vulgari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videncia alcalifacie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.rettger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.stuarti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almonella, </a:t>
                  </a: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mua subgroup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ratia marcesce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.liquifacie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higella</a:t>
                  </a: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, semua spesi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rsinia enterocolit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.pesti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Rectangle 12"/>
                <p:cNvSpPr/>
                <p:nvPr/>
              </p:nvSpPr>
              <p:spPr>
                <a:xfrm>
                  <a:off x="4519800" y="997560"/>
                  <a:ext cx="3853080" cy="524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" name="Rectangle 13"/>
            <p:cNvSpPr/>
            <p:nvPr/>
          </p:nvSpPr>
          <p:spPr>
            <a:xfrm>
              <a:off x="762120" y="990720"/>
              <a:ext cx="7619400" cy="5257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4"/>
          <p:cNvSpPr/>
          <p:nvPr/>
        </p:nvSpPr>
        <p:spPr>
          <a:xfrm>
            <a:off x="3240" y="5211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shigella pict4"/>
          <p:cNvPicPr/>
          <p:nvPr/>
        </p:nvPicPr>
        <p:blipFill>
          <a:blip r:embed="rId1"/>
          <a:stretch/>
        </p:blipFill>
        <p:spPr>
          <a:xfrm>
            <a:off x="1332000" y="476280"/>
            <a:ext cx="2592360" cy="2521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TSI pict"/>
          <p:cNvPicPr/>
          <p:nvPr/>
        </p:nvPicPr>
        <p:blipFill>
          <a:blip r:embed="rId2"/>
          <a:stretch/>
        </p:blipFill>
        <p:spPr>
          <a:xfrm>
            <a:off x="6300720" y="836640"/>
            <a:ext cx="720720" cy="2016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3924360" y="2708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Shigella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464328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shigella pict3"/>
          <p:cNvPicPr/>
          <p:nvPr/>
        </p:nvPicPr>
        <p:blipFill>
          <a:blip r:embed="rId3"/>
          <a:stretch/>
        </p:blipFill>
        <p:spPr>
          <a:xfrm>
            <a:off x="1835280" y="3357720"/>
            <a:ext cx="53290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salmonella pict1"/>
          <p:cNvPicPr/>
          <p:nvPr/>
        </p:nvPicPr>
        <p:blipFill>
          <a:blip r:embed="rId1"/>
          <a:stretch/>
        </p:blipFill>
        <p:spPr>
          <a:xfrm>
            <a:off x="611280" y="620640"/>
            <a:ext cx="1728720" cy="180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salmonella pict2"/>
          <p:cNvPicPr/>
          <p:nvPr/>
        </p:nvPicPr>
        <p:blipFill>
          <a:blip r:embed="rId2"/>
          <a:stretch/>
        </p:blipFill>
        <p:spPr>
          <a:xfrm>
            <a:off x="3492360" y="620640"/>
            <a:ext cx="1871640" cy="1728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salmonella pict5"/>
          <p:cNvPicPr/>
          <p:nvPr/>
        </p:nvPicPr>
        <p:blipFill>
          <a:blip r:embed="rId3"/>
          <a:stretch/>
        </p:blipFill>
        <p:spPr>
          <a:xfrm>
            <a:off x="7451640" y="260280"/>
            <a:ext cx="432000" cy="287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salmonella pict7"/>
          <p:cNvPicPr/>
          <p:nvPr/>
        </p:nvPicPr>
        <p:blipFill>
          <a:blip r:embed="rId4"/>
          <a:stretch/>
        </p:blipFill>
        <p:spPr>
          <a:xfrm>
            <a:off x="1547640" y="3133800"/>
            <a:ext cx="5715000" cy="3724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2411280" y="2655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Arial"/>
              </a:rPr>
              <a:t>Salmonella </a:t>
            </a: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Typ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yersinia pict3"/>
          <p:cNvPicPr/>
          <p:nvPr/>
        </p:nvPicPr>
        <p:blipFill>
          <a:blip r:embed="rId1"/>
          <a:stretch/>
        </p:blipFill>
        <p:spPr>
          <a:xfrm>
            <a:off x="1908000" y="189000"/>
            <a:ext cx="2016360" cy="180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yersinia pict2"/>
          <p:cNvPicPr/>
          <p:nvPr/>
        </p:nvPicPr>
        <p:blipFill>
          <a:blip r:embed="rId2"/>
          <a:stretch/>
        </p:blipFill>
        <p:spPr>
          <a:xfrm>
            <a:off x="5148360" y="189000"/>
            <a:ext cx="2147760" cy="180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yersinia pict1"/>
          <p:cNvPicPr/>
          <p:nvPr/>
        </p:nvPicPr>
        <p:blipFill>
          <a:blip r:embed="rId3"/>
          <a:stretch/>
        </p:blipFill>
        <p:spPr>
          <a:xfrm>
            <a:off x="1835280" y="2602080"/>
            <a:ext cx="5473440" cy="4255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771640" y="22240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Arial"/>
              </a:rPr>
              <a:t>Yersinia entero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00:06:19Z</dcterms:created>
  <dc:creator>vaio</dc:creator>
  <dc:description/>
  <dc:language>en-US</dc:language>
  <cp:lastModifiedBy>firda aushi</cp:lastModifiedBy>
  <dcterms:modified xsi:type="dcterms:W3CDTF">2011-03-24T10:34:33Z</dcterms:modified>
  <cp:revision>16</cp:revision>
  <dc:subject/>
  <dc:title>Slide 1</dc:title>
</cp:coreProperties>
</file>