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amera.wav" ContentType="audio/x-wav"/>
  <Override PartName="/ppt/media/laser.wav" ContentType="audio/x-wav"/>
  <Override PartName="/ppt/media/cashreg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DD5ECB-C0E9-4045-8EA1-AA5B8AFBB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2784A-36C4-409B-A644-7E58FD2DE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FE671-E369-4EC2-BF53-962D58B19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CA01B-BBD9-4EDB-8A0C-C66BFADF4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530F-9235-4658-97E9-88B0C78FB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BC3C9-B152-4830-A395-F95DFD71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BAA9E-7B69-4F7D-AFFB-853CCFEDA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13886-06F9-4FE0-ADFB-EF510315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8691-CB33-4E60-8DE8-CB06C8A84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1463-79D7-4369-81D5-0BF93669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4758-5EAD-4345-A25F-7CC4E2EF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F3FF5-ADCA-43E4-82ED-BEFBA65F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185E-E0B4-40C8-BB8A-E36DB827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5DB4F-20F3-4D5D-8A33-92C47871E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7794-5D19-43AE-9AA3-49EF8863B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BC53-011B-46A0-9C39-51E05258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50964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524280" y="198072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9500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50964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524280" y="4010760"/>
            <a:ext cx="287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77C7-F37D-42A3-937C-331FCEEB8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A4E24-FE38-4D89-9A2D-6986332D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EF7DD-7997-4604-9FA6-911E1B865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247B3-D029-498D-8108-DD0EC8984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95000" y="457200"/>
            <a:ext cx="89154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7E445A-3E3F-4151-9529-2E8F0476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3EE34-1FF5-4C94-9D97-45B5DFBF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63400" y="401076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5518C5-310C-45A9-B5A0-3452E29F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0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63400" y="1980720"/>
            <a:ext cx="4350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95000" y="4010760"/>
            <a:ext cx="8915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DF57D-7392-477A-B137-C8BE724F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1114 KALKULUS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C0511-BADA-4C20-B142-C5311E57DA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905760" cy="546120"/>
            <a:chOff x="0" y="0"/>
            <a:chExt cx="990576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30960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47120" y="135000"/>
              <a:ext cx="945864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43520" y="135000"/>
              <a:ext cx="14904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92920" y="0"/>
              <a:ext cx="1512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92920" y="135000"/>
              <a:ext cx="15120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97360" y="274680"/>
              <a:ext cx="14760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42560" y="136440"/>
              <a:ext cx="15264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3520" y="271440"/>
              <a:ext cx="14904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7360" y="409680"/>
              <a:ext cx="14760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95000" y="1980720"/>
            <a:ext cx="8915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8724960" y="65160"/>
            <a:ext cx="1152360" cy="12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79728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859040" y="1690560"/>
              <a:ext cx="804672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3105360" cy="3157560"/>
              <a:chOff x="0" y="1066680"/>
              <a:chExt cx="310536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620640" y="3583080"/>
                <a:ext cx="62424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58680" y="1690560"/>
                <a:ext cx="62208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71040" y="1066680"/>
                <a:ext cx="6343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236240" y="3583080"/>
                <a:ext cx="6325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471040" y="1690560"/>
                <a:ext cx="6343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236240" y="2324160"/>
                <a:ext cx="6325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63072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858680" y="2324160"/>
                <a:ext cx="62208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620640" y="2948040"/>
                <a:ext cx="62424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236240" y="2948040"/>
                <a:ext cx="6325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95360" y="6248520"/>
            <a:ext cx="2311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1114 KALKULUS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311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5667D-C4D4-4AAF-A3B0-090F1CABE8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769240" y="0"/>
            <a:ext cx="1152720" cy="126828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19120" y="1828800"/>
            <a:ext cx="6521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9. TEKNIK PENGINTEGRA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3844F-7892-4042-ACFD-BFBECDB0B1C5}" type="slidenum">
              <a:t>1</a:t>
            </a:fld>
          </a:p>
        </p:txBody>
      </p:sp>
    </p:spTree>
  </p:cSld>
  <p:transition spd="med" advTm="1000">
    <p:split dir="out" orient="vert"/>
    <p:sndAc>
      <p:stSnd>
        <p:snd r:embed="rId1" name="camera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080" y="2941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80" y="2941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994040" y="1897200"/>
                <a:ext cx="26542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8" name=""/>
          <p:cNvSpPr/>
          <p:nvPr/>
        </p:nvSpPr>
        <p:spPr>
          <a:xfrm>
            <a:off x="1080" y="2181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0" y="3166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4657680" y="1920960"/>
                <a:ext cx="242892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,cot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1080" y="33850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129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2057400" y="704880"/>
                <a:ext cx="507672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a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</m:e>
                              <m:sup>
                                <m:r>
                                  <m:t xml:space="preserve">m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  <m:sSup>
                              <m:e>
                                <m:r>
                                  <m:t xml:space="preserve">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04" name=""/>
          <p:cNvSpPr/>
          <p:nvPr/>
        </p:nvSpPr>
        <p:spPr>
          <a:xfrm>
            <a:off x="1080" y="34232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2505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800" y="31424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530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15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00" y="3429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1543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800" y="3429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3097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00" y="3486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88560" y="746280"/>
            <a:ext cx="109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ntu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910080" y="1454040"/>
            <a:ext cx="236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nakan ident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869760" y="2368440"/>
            <a:ext cx="446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ta turunan tangen dan kota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325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8" name=""/>
              <p:cNvSpPr txBox="1"/>
              <p:nvPr/>
            </p:nvSpPr>
            <p:spPr>
              <a:xfrm>
                <a:off x="1905120" y="2743200"/>
                <a:ext cx="259056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9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4572000" y="2735280"/>
                <a:ext cx="3252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21" name=""/>
          <p:cNvSpPr/>
          <p:nvPr/>
        </p:nvSpPr>
        <p:spPr>
          <a:xfrm>
            <a:off x="1036440" y="3276720"/>
            <a:ext cx="11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295280" y="3846600"/>
                <a:ext cx="15242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3048120" y="3949560"/>
                <a:ext cx="274320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6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5827680" y="3908520"/>
                <a:ext cx="297648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28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3048120" y="4572000"/>
                <a:ext cx="44956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x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3124080" y="5218200"/>
                <a:ext cx="457200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124080" y="5791320"/>
                <a:ext cx="388620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4" name=""/>
          <p:cNvSpPr/>
          <p:nvPr/>
        </p:nvSpPr>
        <p:spPr>
          <a:xfrm>
            <a:off x="978480" y="396864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ECB9D-9BB4-483C-9980-3395B1ED8831}" type="slidenum">
              <a:t>10</a:t>
            </a:fld>
          </a:p>
        </p:txBody>
      </p:sp>
    </p:spTree>
  </p:cSld>
  <p:transition spd="med">
    <p:push dir="r"/>
    <p:sndAc>
      <p:stSnd>
        <p:snd r:embed="rId1" name="laser.wav"/>
      </p:stSnd>
    </p:sndAc>
  </p:transition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06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1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6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9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9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2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5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5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0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5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3886200" y="3276720"/>
                <a:ext cx="37339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1295280" y="868320"/>
                <a:ext cx="63248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 </m:t>
                            </m:r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739800" y="92088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3886200" y="1614600"/>
                <a:ext cx="419112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3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3854520" y="2514600"/>
                <a:ext cx="318924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932F5-4B7C-47F9-9E88-08591D92B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7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0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5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0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95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1176840" y="69228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1905120" y="3432240"/>
                <a:ext cx="1295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1905120" y="4114800"/>
                <a:ext cx="2209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w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w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0" y="3186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1828800" y="2362320"/>
                <a:ext cx="1905120" cy="90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6" name=""/>
          <p:cNvSpPr/>
          <p:nvPr/>
        </p:nvSpPr>
        <p:spPr>
          <a:xfrm>
            <a:off x="1166040" y="11494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1905120" y="1676520"/>
                <a:ext cx="22096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1905120" y="4876920"/>
                <a:ext cx="13716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1" name=""/>
          <p:cNvSpPr/>
          <p:nvPr/>
        </p:nvSpPr>
        <p:spPr>
          <a:xfrm>
            <a:off x="1357200" y="17589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355400" y="2673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73040" y="35514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373040" y="4222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388880" y="4959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F8595-A893-497F-950C-02443C8DB9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2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5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0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3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6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9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4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2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5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360" y="457200"/>
            <a:ext cx="72770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Arial"/>
              </a:rPr>
              <a:t>9.3 </a:t>
            </a:r>
            <a:r>
              <a:rPr b="0" lang="id-ID" sz="3200" spc="-1" strike="noStrike">
                <a:solidFill>
                  <a:srgbClr val="3333ff"/>
                </a:solidFill>
                <a:latin typeface="Arial"/>
              </a:rPr>
              <a:t>Substitusi Trigonometr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594320" y="2998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4191120" y="1635120"/>
                <a:ext cx="114300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59" name=""/>
          <p:cNvSpPr/>
          <p:nvPr/>
        </p:nvSpPr>
        <p:spPr>
          <a:xfrm>
            <a:off x="4592880" y="3539520"/>
            <a:ext cx="23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6294600" y="1698480"/>
                <a:ext cx="140328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2" name=""/>
          <p:cNvSpPr/>
          <p:nvPr/>
        </p:nvSpPr>
        <p:spPr>
          <a:xfrm>
            <a:off x="1080" y="38988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3048120" y="2193840"/>
                <a:ext cx="152388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5" name=""/>
          <p:cNvSpPr/>
          <p:nvPr/>
        </p:nvSpPr>
        <p:spPr>
          <a:xfrm>
            <a:off x="1080" y="44712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1371600" y="3962520"/>
                <a:ext cx="14493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67" name=""/>
          <p:cNvSpPr/>
          <p:nvPr/>
        </p:nvSpPr>
        <p:spPr>
          <a:xfrm>
            <a:off x="1080" y="3463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1352520" y="2954160"/>
                <a:ext cx="16956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1080" y="4658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127160" y="1835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85600" y="1676520"/>
            <a:ext cx="348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. Integran memuat be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93880" y="166356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80360" y="240192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84640" y="396252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281600" y="441972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x = 5 cost 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04920" y="3962520"/>
            <a:ext cx="29718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3463920" y="2878200"/>
                <a:ext cx="3394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505320" y="3794040"/>
                <a:ext cx="297180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e>
                            </m:rad>
                          </m:num>
                          <m:den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rPr>
                        <m:lit/>
                        <m:nor/>
                      </m:rPr>
                      <m:t xml:space="preserve">t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2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6553080" y="3809880"/>
                <a:ext cx="3048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3505320" y="4724280"/>
                <a:ext cx="457344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s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t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t</m:t>
                    </m:r>
                    <m:r>
                      <m:t xml:space="preserve">−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 flipH="1">
            <a:off x="533520" y="5029200"/>
            <a:ext cx="8380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5794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29200" y="541656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3640" y="5264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533520" y="6172200"/>
                <a:ext cx="83808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2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3581280" y="5334120"/>
                <a:ext cx="3353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−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482F-5E52-4A75-8547-A10994A6B61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2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7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0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8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6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1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6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2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2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2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7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2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0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4594320" y="2998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4290840" y="923760"/>
                <a:ext cx="9432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396" name=""/>
          <p:cNvSpPr/>
          <p:nvPr/>
        </p:nvSpPr>
        <p:spPr>
          <a:xfrm>
            <a:off x="4592880" y="3539520"/>
            <a:ext cx="23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6281640" y="968400"/>
                <a:ext cx="14302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080" y="38988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916360" y="1366920"/>
                <a:ext cx="1788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1080" y="44712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1357200" y="3603600"/>
                <a:ext cx="147816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4" name=""/>
          <p:cNvSpPr/>
          <p:nvPr/>
        </p:nvSpPr>
        <p:spPr>
          <a:xfrm>
            <a:off x="1080" y="3463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204920" y="2279520"/>
                <a:ext cx="1990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7" name=""/>
          <p:cNvSpPr/>
          <p:nvPr/>
        </p:nvSpPr>
        <p:spPr>
          <a:xfrm>
            <a:off x="1080" y="4658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27160" y="1835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10720" y="898560"/>
            <a:ext cx="349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. Integran memuat be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93880" y="9208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07360" y="15843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84640" y="3603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3429000"/>
            <a:ext cx="3352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3500280" y="2257560"/>
                <a:ext cx="32004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a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3879720" y="3336840"/>
                <a:ext cx="2216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a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19" name=""/>
              <p:cNvSpPr txBox="1"/>
              <p:nvPr/>
            </p:nvSpPr>
            <p:spPr>
              <a:xfrm>
                <a:off x="6095880" y="3429000"/>
                <a:ext cx="396252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i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nary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2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1" name=""/>
              <p:cNvSpPr txBox="1"/>
              <p:nvPr/>
            </p:nvSpPr>
            <p:spPr>
              <a:xfrm>
                <a:off x="3689280" y="4390920"/>
                <a:ext cx="230184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22" name=""/>
          <p:cNvSpPr/>
          <p:nvPr/>
        </p:nvSpPr>
        <p:spPr>
          <a:xfrm flipH="1">
            <a:off x="533520" y="5029200"/>
            <a:ext cx="8380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03800" y="5794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29200" y="541656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18640" y="613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228600" y="5208480"/>
                <a:ext cx="82080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2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6095880" y="4343400"/>
                <a:ext cx="236232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1219320" y="4114800"/>
                <a:ext cx="1904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828800" y="4572000"/>
                <a:ext cx="11430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71D7D-CC6F-45D4-A584-04C8BE0AE2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6" dur="indefinite" restart="never" nodeType="tmRoot">
          <p:childTnLst>
            <p:seq>
              <p:cTn id="847" dur="indefinite" nodeType="mainSeq">
                <p:childTnLst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2" dur="2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0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1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6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1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4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7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2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2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7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2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2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0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5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594320" y="299808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5" name=""/>
              <p:cNvSpPr txBox="1"/>
              <p:nvPr/>
            </p:nvSpPr>
            <p:spPr>
              <a:xfrm>
                <a:off x="4290840" y="923760"/>
                <a:ext cx="9432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36" name=""/>
          <p:cNvSpPr/>
          <p:nvPr/>
        </p:nvSpPr>
        <p:spPr>
          <a:xfrm>
            <a:off x="4592880" y="3539520"/>
            <a:ext cx="234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6281640" y="981000"/>
                <a:ext cx="1430280" cy="3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1080" y="38988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916360" y="1366920"/>
                <a:ext cx="178884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  <m:r>
                          <m:t xml:space="preserve"> 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1080" y="44712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982800" y="3603600"/>
                <a:ext cx="15318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1080" y="3463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1204920" y="2279520"/>
                <a:ext cx="199080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080" y="4658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127160" y="18352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7200" y="898560"/>
            <a:ext cx="346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. Integran memuat be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393880" y="920880"/>
            <a:ext cx="94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107360" y="15843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6880" y="360360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3429000"/>
            <a:ext cx="3352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500280" y="2281320"/>
                <a:ext cx="3200400" cy="83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 </m:t>
                            </m:r>
                            <m:r>
                              <m:t xml:space="preserve">5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sec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3828960" y="3362400"/>
                <a:ext cx="23194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6222960" y="3429000"/>
                <a:ext cx="370836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  <m:r>
                              <m:t xml:space="preserve">t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ec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t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t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3781440" y="4390920"/>
                <a:ext cx="211788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 flipH="1">
            <a:off x="533520" y="5029200"/>
            <a:ext cx="838080" cy="1143000"/>
          </a:xfrm>
          <a:prstGeom prst="rtTriangl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03800" y="5794200"/>
            <a:ext cx="27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6960" y="518148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8640" y="6137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447920" y="5562720"/>
                <a:ext cx="820440" cy="35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6219720" y="4343400"/>
                <a:ext cx="2114640" cy="96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914400" y="4100400"/>
                <a:ext cx="259092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3" name=""/>
              <p:cNvSpPr txBox="1"/>
              <p:nvPr/>
            </p:nvSpPr>
            <p:spPr>
              <a:xfrm>
                <a:off x="1841400" y="4572000"/>
                <a:ext cx="11178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172313-6D93-466F-A8C9-E5123BF9CD9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2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55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0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3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1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6" dur="2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1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4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7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2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7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2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7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2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2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7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2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0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5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840240" y="69228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29440" y="123192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6" name=""/>
              <p:cNvSpPr txBox="1"/>
              <p:nvPr/>
            </p:nvSpPr>
            <p:spPr>
              <a:xfrm>
                <a:off x="1905120" y="1606680"/>
                <a:ext cx="12952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9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7" name=""/>
              <p:cNvSpPr txBox="1"/>
              <p:nvPr/>
            </p:nvSpPr>
            <p:spPr>
              <a:xfrm>
                <a:off x="1905120" y="2478240"/>
                <a:ext cx="13716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8" name=""/>
              <p:cNvSpPr txBox="1"/>
              <p:nvPr/>
            </p:nvSpPr>
            <p:spPr>
              <a:xfrm>
                <a:off x="1905120" y="3317760"/>
                <a:ext cx="13716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4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1905120" y="4179960"/>
                <a:ext cx="129528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0" y="2486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3905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1905120" y="5105520"/>
                <a:ext cx="15238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4952880" y="1755720"/>
                <a:ext cx="129564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9</m:t>
                                    </m:r>
                                  </m:e>
                                </m:d>
                              </m:e>
                              <m:sup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3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4952880" y="2743200"/>
                <a:ext cx="137160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4952880" y="3635280"/>
                <a:ext cx="190512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4952880" y="4487760"/>
                <a:ext cx="190512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0" y="2814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3281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3624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204560" y="1828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204560" y="2666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204560" y="3581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03120" y="44197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220760" y="5410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74920" y="19051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174920" y="28954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174920" y="3809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174920" y="46483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F8EF6-4570-4A2D-853A-66C1305E7F4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6" dur="indefinite" restart="never" nodeType="tmRoot">
          <p:childTnLst>
            <p:seq>
              <p:cTn id="1047" dur="indefinite" nodeType="mainSeq">
                <p:childTnLst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2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5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0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6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9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7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2" dur="2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5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0" dur="2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08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1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6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9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4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7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Substitusi Bentuk Ak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752480" y="4514760"/>
                <a:ext cx="91440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2971800" y="1809720"/>
                <a:ext cx="13273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3" name=""/>
          <p:cNvSpPr/>
          <p:nvPr/>
        </p:nvSpPr>
        <p:spPr>
          <a:xfrm>
            <a:off x="1080" y="2368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5" name=""/>
              <p:cNvSpPr txBox="1"/>
              <p:nvPr/>
            </p:nvSpPr>
            <p:spPr>
              <a:xfrm>
                <a:off x="5410080" y="1744560"/>
                <a:ext cx="189864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06" name=""/>
          <p:cNvSpPr/>
          <p:nvPr/>
        </p:nvSpPr>
        <p:spPr>
          <a:xfrm>
            <a:off x="1080" y="2275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8" name=""/>
              <p:cNvSpPr txBox="1"/>
              <p:nvPr/>
            </p:nvSpPr>
            <p:spPr>
              <a:xfrm>
                <a:off x="2590920" y="2492280"/>
                <a:ext cx="129852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09" name=""/>
          <p:cNvSpPr/>
          <p:nvPr/>
        </p:nvSpPr>
        <p:spPr>
          <a:xfrm>
            <a:off x="1080" y="4086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4822920" y="3429000"/>
                <a:ext cx="3101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udu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u</m:t>
                            </m:r>
                          </m:den>
                        </m:f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u</m:t>
                                </m:r>
                              </m:num>
                              <m:den>
                                <m:r>
                                  <m:t xml:space="preserve">u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2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080" y="34898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4" name=""/>
              <p:cNvSpPr txBox="1"/>
              <p:nvPr/>
            </p:nvSpPr>
            <p:spPr>
              <a:xfrm>
                <a:off x="4876920" y="5662440"/>
                <a:ext cx="321948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e>
                    </m:d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5" name=""/>
          <p:cNvSpPr/>
          <p:nvPr/>
        </p:nvSpPr>
        <p:spPr>
          <a:xfrm>
            <a:off x="1800" y="3429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76800" y="1835280"/>
            <a:ext cx="236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n memu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472280" y="1828800"/>
            <a:ext cx="88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m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22520" y="265104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85800" y="4343400"/>
            <a:ext cx="36576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813240" y="45370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666880" y="4800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3" name=""/>
              <p:cNvSpPr txBox="1"/>
              <p:nvPr/>
            </p:nvSpPr>
            <p:spPr>
              <a:xfrm>
                <a:off x="3200400" y="4487760"/>
                <a:ext cx="99072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4" name=""/>
          <p:cNvSpPr/>
          <p:nvPr/>
        </p:nvSpPr>
        <p:spPr>
          <a:xfrm>
            <a:off x="725040" y="4959360"/>
            <a:ext cx="30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turunan implis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6" name=""/>
              <p:cNvSpPr txBox="1"/>
              <p:nvPr/>
            </p:nvSpPr>
            <p:spPr>
              <a:xfrm>
                <a:off x="1143000" y="5389560"/>
                <a:ext cx="11430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u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7" name=""/>
          <p:cNvSpPr/>
          <p:nvPr/>
        </p:nvSpPr>
        <p:spPr>
          <a:xfrm>
            <a:off x="2438280" y="57913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011760" y="5492880"/>
            <a:ext cx="123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x=2u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786960" y="33526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3187800" y="3400560"/>
                <a:ext cx="13078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31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4876920" y="4343400"/>
                <a:ext cx="182880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3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6858000" y="4340160"/>
                <a:ext cx="1828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5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4876920" y="5257800"/>
                <a:ext cx="2286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u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41028-46FF-4C58-97C6-5822E0A3830B}" type="slidenum">
              <a:t>17</a:t>
            </a:fld>
          </a:p>
        </p:txBody>
      </p:sp>
    </p:spTree>
  </p:cSld>
  <p:transition spd="med">
    <p:wedge/>
    <p:sndAc>
      <p:stSnd>
        <p:snd r:embed="rId1" name="cashreg.wav"/>
      </p:stSnd>
    </p:sndAc>
  </p:transition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9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2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7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0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5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8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1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4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2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7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7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0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5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5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0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974880" y="768240"/>
            <a:ext cx="16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"/>
              <p:cNvSpPr txBox="1"/>
              <p:nvPr/>
            </p:nvSpPr>
            <p:spPr>
              <a:xfrm>
                <a:off x="1981080" y="1676520"/>
                <a:ext cx="167652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ad>
                          <m:deg>
                            <m:r>
                              <m:t xml:space="preserve">3</m:t>
                            </m:r>
                          </m:deg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rad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0" name=""/>
              <p:cNvSpPr txBox="1"/>
              <p:nvPr/>
            </p:nvSpPr>
            <p:spPr>
              <a:xfrm>
                <a:off x="1981080" y="2289240"/>
                <a:ext cx="144792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"/>
              <p:cNvSpPr txBox="1"/>
              <p:nvPr/>
            </p:nvSpPr>
            <p:spPr>
              <a:xfrm>
                <a:off x="1981080" y="3144960"/>
                <a:ext cx="114300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t</m:t>
                                </m:r>
                              </m:e>
                            </m:rad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2" name=""/>
          <p:cNvSpPr/>
          <p:nvPr/>
        </p:nvSpPr>
        <p:spPr>
          <a:xfrm>
            <a:off x="609480" y="3429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3" name=""/>
              <p:cNvSpPr txBox="1"/>
              <p:nvPr/>
            </p:nvSpPr>
            <p:spPr>
              <a:xfrm>
                <a:off x="1981080" y="4621320"/>
                <a:ext cx="1295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t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4" name=""/>
              <p:cNvSpPr txBox="1"/>
              <p:nvPr/>
            </p:nvSpPr>
            <p:spPr>
              <a:xfrm>
                <a:off x="1981080" y="4114800"/>
                <a:ext cx="14479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5" name=""/>
          <p:cNvSpPr/>
          <p:nvPr/>
        </p:nvSpPr>
        <p:spPr>
          <a:xfrm>
            <a:off x="0" y="3081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0" y="35002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"/>
              <p:cNvSpPr txBox="1"/>
              <p:nvPr/>
            </p:nvSpPr>
            <p:spPr>
              <a:xfrm>
                <a:off x="1981080" y="5489640"/>
                <a:ext cx="17528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2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49" name=""/>
          <p:cNvSpPr/>
          <p:nvPr/>
        </p:nvSpPr>
        <p:spPr>
          <a:xfrm>
            <a:off x="953280" y="124776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509480" y="17589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508040" y="2575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77800" y="34894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77800" y="4175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477800" y="48610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477800" y="5546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2089B-B598-4ACA-8D0D-414632D237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7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0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5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3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6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1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4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9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0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5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9.4 Integral Fungsi Ras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95000" y="121896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Integran berbentuk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gsi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rasional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, der (P)&lt; der(Q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ff"/>
                </a:solidFill>
                <a:latin typeface="Arial"/>
              </a:rPr>
              <a:t>Ada 4 kasus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dari pemfaktoran penyebut ( 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id-ID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) )  yaitu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1. Faktor linear tidak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2. Faktor linear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3. Faktor kuadratik tidak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4. Faktor kuadratik berula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2000" spc="-1" strike="noStrike">
                <a:solidFill>
                  <a:srgbClr val="3333ff"/>
                </a:solidFill>
                <a:latin typeface="Arial"/>
              </a:rPr>
              <a:t>Kasus 1 ( linier tidak berula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mak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dengan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Arial"/>
              </a:rPr>
              <a:t>konstanta yang dica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9" name=""/>
              <p:cNvSpPr txBox="1"/>
              <p:nvPr/>
            </p:nvSpPr>
            <p:spPr>
              <a:xfrm>
                <a:off x="5181480" y="1022400"/>
                <a:ext cx="15177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0" name=""/>
          <p:cNvSpPr/>
          <p:nvPr/>
        </p:nvSpPr>
        <p:spPr>
          <a:xfrm>
            <a:off x="1080" y="4276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2" name=""/>
              <p:cNvSpPr txBox="1"/>
              <p:nvPr/>
            </p:nvSpPr>
            <p:spPr>
              <a:xfrm>
                <a:off x="1905120" y="4419720"/>
                <a:ext cx="544824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3" name=""/>
          <p:cNvSpPr/>
          <p:nvPr/>
        </p:nvSpPr>
        <p:spPr>
          <a:xfrm>
            <a:off x="1080" y="3322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0" y="3052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5" name=""/>
              <p:cNvSpPr txBox="1"/>
              <p:nvPr/>
            </p:nvSpPr>
            <p:spPr>
              <a:xfrm>
                <a:off x="2057400" y="5105520"/>
                <a:ext cx="5035680" cy="69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º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66" name=""/>
          <p:cNvSpPr/>
          <p:nvPr/>
        </p:nvSpPr>
        <p:spPr>
          <a:xfrm>
            <a:off x="1080" y="3499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0" y="3157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8" name=""/>
              <p:cNvSpPr txBox="1"/>
              <p:nvPr/>
            </p:nvSpPr>
            <p:spPr>
              <a:xfrm>
                <a:off x="1917720" y="5943600"/>
                <a:ext cx="18162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69" name=""/>
          <p:cNvSpPr/>
          <p:nvPr/>
        </p:nvSpPr>
        <p:spPr>
          <a:xfrm>
            <a:off x="1080" y="33944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EEF57-D99A-48C4-96CD-1BCE5A7A9E70}" type="slidenum">
              <a:t>19</a:t>
            </a:fld>
          </a:p>
        </p:txBody>
      </p:sp>
    </p:spTree>
  </p:cSld>
  <p:transition spd="med">
    <p:wipe dir="d"/>
    <p:sndAc>
      <p:stSnd>
        <p:snd r:embed="rId1" name="camera.wav"/>
      </p:stSnd>
    </p:sndAc>
  </p:transition>
  <p:timing>
    <p:tnLst>
      <p:par>
        <p:cTn id="1289" dur="indefinite" restart="never" nodeType="tmRoot">
          <p:childTnLst>
            <p:seq>
              <p:cTn id="1290" dur="indefinite" nodeType="mainSeq">
                <p:childTnLst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5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9" dur="500" autoRev="1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00" dur="500" autoRev="1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52,-103,-103)"/>
                                      </p:to>
                                    </p:set>
                                    <p:set>
                                      <p:cBhvr>
                                        <p:cTn id="1301" dur="500" autoRev="1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6" dur="2000"/>
                                        <p:tgtEl>
                                          <p:spTgt spid="5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9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4" dur="2000"/>
                                        <p:tgtEl>
                                          <p:spTgt spid="5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9" dur="2000"/>
                                        <p:tgtEl>
                                          <p:spTgt spid="5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4" dur="2000"/>
                                        <p:tgtEl>
                                          <p:spTgt spid="5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9" dur="2000"/>
                                        <p:tgtEl>
                                          <p:spTgt spid="5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4" dur="2000"/>
                                        <p:tgtEl>
                                          <p:spTgt spid="5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9" dur="2000"/>
                                        <p:tgtEl>
                                          <p:spTgt spid="5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4" dur="2000"/>
                                        <p:tgtEl>
                                          <p:spTgt spid="5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7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2" dur="2000"/>
                                        <p:tgtEl>
                                          <p:spTgt spid="55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0" dur="2000"/>
                                        <p:tgtEl>
                                          <p:spTgt spid="55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9.1 Integral Pars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447920"/>
            <a:ext cx="8915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3333ff"/>
                </a:solidFill>
                <a:latin typeface="Arial"/>
              </a:rPr>
              <a:t>Formula Integral Parsial</a:t>
            </a:r>
            <a:r>
              <a:rPr b="0" lang="id-ID" sz="2400" spc="-1" strike="noStrike">
                <a:solidFill>
                  <a:srgbClr val="ffff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Cara : pilih </a:t>
            </a:r>
            <a:r>
              <a:rPr b="0" i="1" lang="id-ID" sz="24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id-ID" sz="2400" spc="-1" strike="noStrike">
                <a:solidFill>
                  <a:srgbClr val="000000"/>
                </a:solidFill>
                <a:latin typeface="Tahoma"/>
              </a:rPr>
              <a:t> yang turunannya lebih sederh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ff0066"/>
                </a:solidFill>
                <a:latin typeface="Arial"/>
              </a:rPr>
              <a:t>Contoh :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misal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, maka </a:t>
            </a:r>
            <a:r>
              <a:rPr b="0" i="1" lang="id-ID" sz="2400" spc="-1" strike="noStrike">
                <a:solidFill>
                  <a:srgbClr val="000000"/>
                </a:solidFill>
                <a:latin typeface="Arial"/>
              </a:rPr>
              <a:t>du=d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d-ID" sz="2400" spc="-1" strike="noStrike">
                <a:solidFill>
                  <a:srgbClr val="000000"/>
                </a:solidFill>
                <a:latin typeface="Arial"/>
              </a:rPr>
              <a:t>sehingg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6480" y="0"/>
                <a:ext cx="112680" cy="2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3" name=""/>
          <p:cNvSpPr/>
          <p:nvPr/>
        </p:nvSpPr>
        <p:spPr>
          <a:xfrm>
            <a:off x="0" y="2001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300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05120" y="1862280"/>
                <a:ext cx="3124080" cy="66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u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v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0" y="3375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98280" y="30942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743200" y="3152880"/>
                <a:ext cx="114300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1800" y="-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905120" y="4114800"/>
                <a:ext cx="152388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2160" y="540720"/>
            <a:ext cx="39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3541680" y="4118040"/>
                <a:ext cx="2478240" cy="6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196920" y="122400"/>
            <a:ext cx="18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2532240" y="5361120"/>
                <a:ext cx="6002280" cy="65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0" y="396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D25BA-FDAA-4FC9-B4ED-933CD8F403D2}" type="slidenum">
              <a:t>2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" dur="2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2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3063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1" name=""/>
              <p:cNvSpPr txBox="1"/>
              <p:nvPr/>
            </p:nvSpPr>
            <p:spPr>
              <a:xfrm>
                <a:off x="2590920" y="619200"/>
                <a:ext cx="1191960" cy="82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2" name=""/>
          <p:cNvSpPr/>
          <p:nvPr/>
        </p:nvSpPr>
        <p:spPr>
          <a:xfrm>
            <a:off x="1800" y="3520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0" y="3063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4" name=""/>
              <p:cNvSpPr txBox="1"/>
              <p:nvPr/>
            </p:nvSpPr>
            <p:spPr>
              <a:xfrm>
                <a:off x="1828800" y="2479680"/>
                <a:ext cx="490068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9</m:t>
                        </m:r>
                        <m:r>
                          <m:t xml:space="preserve">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5" name=""/>
          <p:cNvSpPr/>
          <p:nvPr/>
        </p:nvSpPr>
        <p:spPr>
          <a:xfrm>
            <a:off x="1800" y="3520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8580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7" name=""/>
              <p:cNvSpPr txBox="1"/>
              <p:nvPr/>
            </p:nvSpPr>
            <p:spPr>
              <a:xfrm>
                <a:off x="1828800" y="3581280"/>
                <a:ext cx="26449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A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t xml:space="preserve"></m:t>
                        </m:r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t xml:space="preserve">3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B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78" name=""/>
          <p:cNvSpPr/>
          <p:nvPr/>
        </p:nvSpPr>
        <p:spPr>
          <a:xfrm>
            <a:off x="1800" y="31536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9" name=""/>
              <p:cNvSpPr txBox="1"/>
              <p:nvPr/>
            </p:nvSpPr>
            <p:spPr>
              <a:xfrm>
                <a:off x="4557600" y="3581280"/>
                <a:ext cx="2405160" cy="3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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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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3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0" name=""/>
          <p:cNvSpPr/>
          <p:nvPr/>
        </p:nvSpPr>
        <p:spPr>
          <a:xfrm>
            <a:off x="1800" y="3695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4952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800" y="34869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-914400" y="3048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4" name=""/>
              <p:cNvSpPr txBox="1"/>
              <p:nvPr/>
            </p:nvSpPr>
            <p:spPr>
              <a:xfrm>
                <a:off x="1936800" y="5486400"/>
                <a:ext cx="3432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9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  <m:r>
                              <m:t xml:space="preserve">3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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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3</m:t>
                                    </m:r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  <m:r>
                      <m:rPr>
                        <m:lit/>
                        <m:nor/>
                      </m:rPr>
                      <m:t xml:space="preserve">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5" name=""/>
          <p:cNvSpPr/>
          <p:nvPr/>
        </p:nvSpPr>
        <p:spPr>
          <a:xfrm>
            <a:off x="1800" y="35582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080" y="35182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080" y="33944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080" y="3895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80" y="151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2640" y="746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65000" y="13017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936000" y="183528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ktorkan penyebut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403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8" name=""/>
              <p:cNvSpPr txBox="1"/>
              <p:nvPr/>
            </p:nvSpPr>
            <p:spPr>
              <a:xfrm>
                <a:off x="3524400" y="1828800"/>
                <a:ext cx="29718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9" name=""/>
          <p:cNvSpPr/>
          <p:nvPr/>
        </p:nvSpPr>
        <p:spPr>
          <a:xfrm>
            <a:off x="732960" y="4022640"/>
            <a:ext cx="536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makan koefisien ruas kiri dan ruas k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93840" y="442584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  +B  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3A+3B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581280" y="451152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3651120" y="4419720"/>
            <a:ext cx="461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191120" y="46483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013360" y="4495680"/>
            <a:ext cx="161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A +3B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3A+3B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105520" y="51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6433920" y="4883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626800" y="513072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B=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553080" y="5257800"/>
            <a:ext cx="457200" cy="15228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304400" y="509256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089200" y="508968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A=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877320" y="518796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hing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5410080" y="5638680"/>
                <a:ext cx="3429000" cy="70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20CAB-6CD3-425E-89E2-9A31C8BC2FC6}" type="slidenum">
              <a:t>20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0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3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78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3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4" fill="hold">
                      <p:stCondLst>
                        <p:cond delay="indefinite"/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8" dur="2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3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8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fill="hold">
                      <p:stCondLst>
                        <p:cond delay="indefinite"/>
                      </p:stCondLst>
                      <p:childTnLst>
                        <p:par>
                          <p:cTn id="1400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3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08" dur="2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3" dur="2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8" dur="2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1" dur="2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fill="hold">
                      <p:stCondLst>
                        <p:cond delay="indefinite"/>
                      </p:stCondLst>
                      <p:childTnLst>
                        <p:par>
                          <p:cTn id="1423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6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1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4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7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fill="hold">
                      <p:stCondLst>
                        <p:cond delay="indefinite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2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7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8" fill="hold">
                      <p:stCondLst>
                        <p:cond delay="indefinite"/>
                      </p:stCondLst>
                      <p:childTnLst>
                        <p:par>
                          <p:cTn id="1449" fill="hold">
                            <p:stCondLst>
                              <p:cond delay="0"/>
                            </p:stCondLst>
                            <p:childTnLst>
                              <p:par>
                                <p:cTn id="14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2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fill="hold">
                      <p:stCondLst>
                        <p:cond delay="indefinite"/>
                      </p:stCondLst>
                      <p:childTnLst>
                        <p:par>
                          <p:cTn id="1454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57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fill="hold">
                      <p:stCondLst>
                        <p:cond delay="indefinite"/>
                      </p:stCondLst>
                      <p:childTnLst>
                        <p:par>
                          <p:cTn id="1459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8" fill="hold">
                      <p:stCondLst>
                        <p:cond delay="indefinite"/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2895480" y="3886200"/>
                <a:ext cx="19814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5" name=""/>
              <p:cNvSpPr txBox="1"/>
              <p:nvPr/>
            </p:nvSpPr>
            <p:spPr>
              <a:xfrm>
                <a:off x="1733400" y="1219320"/>
                <a:ext cx="28893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6" name=""/>
              <p:cNvSpPr txBox="1"/>
              <p:nvPr/>
            </p:nvSpPr>
            <p:spPr>
              <a:xfrm>
                <a:off x="2057400" y="2095560"/>
                <a:ext cx="65530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7" name=""/>
              <p:cNvSpPr txBox="1"/>
              <p:nvPr/>
            </p:nvSpPr>
            <p:spPr>
              <a:xfrm>
                <a:off x="3152880" y="3151080"/>
                <a:ext cx="231120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8" name=""/>
              <p:cNvSpPr txBox="1"/>
              <p:nvPr/>
            </p:nvSpPr>
            <p:spPr>
              <a:xfrm>
                <a:off x="1676520" y="5183280"/>
                <a:ext cx="4114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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19" name=""/>
          <p:cNvSpPr/>
          <p:nvPr/>
        </p:nvSpPr>
        <p:spPr>
          <a:xfrm>
            <a:off x="791280" y="642960"/>
            <a:ext cx="363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sus 2 Linear beru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905040" y="12952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891360" y="182880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02240" y="3168720"/>
            <a:ext cx="56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konstanta                               akan dic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851760" y="402264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917280" y="47242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23469-30AB-4AC0-BA89-DCFF5ED52AC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3" dur="indefinite" restart="never" nodeType="tmRoot">
          <p:childTnLst>
            <p:seq>
              <p:cTn id="1474" dur="indefinite" nodeType="mainSeq">
                <p:childTnLst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0" fill="hold">
                      <p:stCondLst>
                        <p:cond delay="indefinite"/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7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8" fill="hold">
                      <p:stCondLst>
                        <p:cond delay="indefinite"/>
                      </p:stCondLst>
                      <p:childTnLst>
                        <p:par>
                          <p:cTn id="1489" fill="hold">
                            <p:stCondLst>
                              <p:cond delay="0"/>
                            </p:stCondLst>
                            <p:childTnLst>
                              <p:par>
                                <p:cTn id="1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2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5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0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5" dur="2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0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25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25" name=""/>
              <p:cNvSpPr txBox="1"/>
              <p:nvPr/>
            </p:nvSpPr>
            <p:spPr>
              <a:xfrm>
                <a:off x="1600200" y="636480"/>
                <a:ext cx="5562720" cy="8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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6" name=""/>
              <p:cNvSpPr txBox="1"/>
              <p:nvPr/>
            </p:nvSpPr>
            <p:spPr>
              <a:xfrm>
                <a:off x="1523880" y="1677960"/>
                <a:ext cx="502920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7" name=""/>
              <p:cNvSpPr txBox="1"/>
              <p:nvPr/>
            </p:nvSpPr>
            <p:spPr>
              <a:xfrm>
                <a:off x="1523880" y="2308320"/>
                <a:ext cx="55627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8" name=""/>
          <p:cNvSpPr/>
          <p:nvPr/>
        </p:nvSpPr>
        <p:spPr>
          <a:xfrm>
            <a:off x="7026120" y="1600200"/>
            <a:ext cx="2590920" cy="838080"/>
          </a:xfrm>
          <a:prstGeom prst="wedgeRectCallout">
            <a:avLst>
              <a:gd name="adj1" fmla="val -97611"/>
              <a:gd name="adj2" fmla="val -7992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0160" y="1600200"/>
            <a:ext cx="280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ebut ruas kiri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nyebut ruas kan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1298160" y="3054240"/>
            <a:ext cx="156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+4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A-B+4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2971800" y="3505320"/>
            <a:ext cx="228600" cy="457200"/>
          </a:xfrm>
          <a:custGeom>
            <a:avLst/>
            <a:gdLst>
              <a:gd name="textAreaLeft" fmla="*/ 0 w 228600"/>
              <a:gd name="textAreaRight" fmla="*/ 82440 w 22860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508200" y="3282840"/>
            <a:ext cx="156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+4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2A-B+4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81280" y="39625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110200" y="3587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744360" y="3968640"/>
            <a:ext cx="117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A+8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"/>
          <p:cNvCxnSpPr/>
          <p:nvPr/>
        </p:nvCxnSpPr>
        <p:spPr>
          <a:xfrm flipV="1">
            <a:off x="5105520" y="3580560"/>
            <a:ext cx="838800" cy="6865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7" name=""/>
          <p:cNvCxnSpPr/>
          <p:nvPr/>
        </p:nvCxnSpPr>
        <p:spPr>
          <a:xfrm flipH="1" rot="16200000">
            <a:off x="4035240" y="1386360"/>
            <a:ext cx="299160" cy="3861360"/>
          </a:xfrm>
          <a:prstGeom prst="curvedConnector5">
            <a:avLst>
              <a:gd name="adj1" fmla="val -76506"/>
              <a:gd name="adj2" fmla="val 30172"/>
              <a:gd name="adj3" fmla="val -76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8" name=""/>
          <p:cNvSpPr/>
          <p:nvPr/>
        </p:nvSpPr>
        <p:spPr>
          <a:xfrm>
            <a:off x="6563520" y="3282840"/>
            <a:ext cx="117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A+8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553080" y="40384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869240" y="3740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002360" y="40449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9C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924680" y="4267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8584560" y="4025880"/>
            <a:ext cx="8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=1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8628480" y="3718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-1/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8604720" y="3359160"/>
            <a:ext cx="96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-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6" name=""/>
              <p:cNvSpPr txBox="1"/>
              <p:nvPr/>
            </p:nvSpPr>
            <p:spPr>
              <a:xfrm>
                <a:off x="1830240" y="4664160"/>
                <a:ext cx="662652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</m:t>
                                    </m:r>
                                    <m:r>
                                      <m:t xml:space="preserve">x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</m:t>
                                </m:r>
                              </m:e>
                            </m:d>
                            <m:r>
                              <m:t xml:space="preserve">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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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47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8" name=""/>
              <p:cNvSpPr txBox="1"/>
              <p:nvPr/>
            </p:nvSpPr>
            <p:spPr>
              <a:xfrm>
                <a:off x="3581280" y="5510160"/>
                <a:ext cx="518184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29490-0ED7-49F0-8C51-826780C40CB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6" dur="indefinite" restart="never" nodeType="tmRoot">
          <p:childTnLst>
            <p:seq>
              <p:cTn id="1527" dur="indefinite" nodeType="mainSeq">
                <p:childTnLst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2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7" dur="2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0" dur="2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5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0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5" dur="2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0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3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8" dur="2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1" dur="2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74" dur="2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79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582" dur="3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87" dur="2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0" dur="2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3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4" fill="hold">
                      <p:stCondLst>
                        <p:cond delay="indefinite"/>
                      </p:stCondLst>
                      <p:childTnLst>
                        <p:par>
                          <p:cTn id="1595" fill="hold">
                            <p:stCondLst>
                              <p:cond delay="0"/>
                            </p:stCondLst>
                            <p:childTnLst>
                              <p:par>
                                <p:cTn id="15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8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3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4" fill="hold">
                      <p:stCondLst>
                        <p:cond delay="indefinite"/>
                      </p:stCondLst>
                      <p:childTnLst>
                        <p:par>
                          <p:cTn id="1605" fill="hold">
                            <p:stCondLst>
                              <p:cond delay="0"/>
                            </p:stCondLst>
                            <p:childTnLst>
                              <p:par>
                                <p:cTn id="16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8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3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8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3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28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0" y="3029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080" y="35233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800" y="3539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0" y="3081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080" y="3470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0" y="300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1800" y="35773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"/>
              <p:cNvSpPr txBox="1"/>
              <p:nvPr/>
            </p:nvSpPr>
            <p:spPr>
              <a:xfrm>
                <a:off x="1352520" y="1913040"/>
                <a:ext cx="81723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57" name=""/>
          <p:cNvSpPr/>
          <p:nvPr/>
        </p:nvSpPr>
        <p:spPr>
          <a:xfrm>
            <a:off x="1080" y="34470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0" y="3033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9" name=""/>
              <p:cNvSpPr txBox="1"/>
              <p:nvPr/>
            </p:nvSpPr>
            <p:spPr>
              <a:xfrm>
                <a:off x="914400" y="3352680"/>
                <a:ext cx="866772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t xml:space="preserve">º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60" name=""/>
          <p:cNvSpPr/>
          <p:nvPr/>
        </p:nvSpPr>
        <p:spPr>
          <a:xfrm>
            <a:off x="1080" y="35182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2" name=""/>
              <p:cNvSpPr txBox="1"/>
              <p:nvPr/>
            </p:nvSpPr>
            <p:spPr>
              <a:xfrm>
                <a:off x="1981080" y="4495680"/>
                <a:ext cx="381312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63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080" y="151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3067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080" y="34851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671760" y="795240"/>
            <a:ext cx="46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sus 3 Kuadratik tak beru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49160" y="1454040"/>
            <a:ext cx="8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951840" y="259704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952560" y="4495680"/>
            <a:ext cx="125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691960" y="4502160"/>
            <a:ext cx="33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onstanta yang akan dic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C06CB-0FFC-4C05-A0A1-888E0EE7D6A3}" type="slidenum">
              <a:t>23</a:t>
            </a:fld>
          </a:p>
        </p:txBody>
      </p:sp>
    </p:spTree>
  </p:cSld>
  <p:transition spd="med">
    <p:split dir="out" orient="vert"/>
    <p:sndAc>
      <p:stSnd>
        <p:snd r:embed="rId1" name="lase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692640" y="746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3" name=""/>
              <p:cNvSpPr txBox="1"/>
              <p:nvPr/>
            </p:nvSpPr>
            <p:spPr>
              <a:xfrm>
                <a:off x="2666880" y="622440"/>
                <a:ext cx="1143000" cy="69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4" name=""/>
              <p:cNvSpPr txBox="1"/>
              <p:nvPr/>
            </p:nvSpPr>
            <p:spPr>
              <a:xfrm>
                <a:off x="1219320" y="1762200"/>
                <a:ext cx="25146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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5" name=""/>
              <p:cNvSpPr txBox="1"/>
              <p:nvPr/>
            </p:nvSpPr>
            <p:spPr>
              <a:xfrm>
                <a:off x="3962520" y="1806480"/>
                <a:ext cx="259056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x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6" name=""/>
          <p:cNvSpPr/>
          <p:nvPr/>
        </p:nvSpPr>
        <p:spPr>
          <a:xfrm>
            <a:off x="825120" y="13557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7" name=""/>
              <p:cNvSpPr txBox="1"/>
              <p:nvPr/>
            </p:nvSpPr>
            <p:spPr>
              <a:xfrm>
                <a:off x="1219320" y="2666880"/>
                <a:ext cx="320040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A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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8" name=""/>
          <p:cNvSpPr/>
          <p:nvPr/>
        </p:nvSpPr>
        <p:spPr>
          <a:xfrm>
            <a:off x="0" y="331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9" name=""/>
              <p:cNvSpPr txBox="1"/>
              <p:nvPr/>
            </p:nvSpPr>
            <p:spPr>
              <a:xfrm>
                <a:off x="5562720" y="2765520"/>
                <a:ext cx="25905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x</m:t>
                    </m:r>
                    <m:r>
                      <m:t xml:space="preserve">+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0" name=""/>
          <p:cNvSpPr/>
          <p:nvPr/>
        </p:nvSpPr>
        <p:spPr>
          <a:xfrm>
            <a:off x="4724280" y="2994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850400" y="3200400"/>
            <a:ext cx="94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048120" y="36576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899160" y="3413160"/>
            <a:ext cx="7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1295280" y="4572000"/>
                <a:ext cx="38102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</m:t>
                    </m:r>
                    <m:r>
                      <m:t xml:space="preserve">=</m:t>
                    </m:r>
                    <m:r>
                      <m:t xml:space="preserve">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5791320" y="3352680"/>
            <a:ext cx="3200400" cy="1676520"/>
          </a:xfrm>
          <a:prstGeom prst="borderCallout2">
            <a:avLst>
              <a:gd name="adj1" fmla="val 18750"/>
              <a:gd name="adj2" fmla="val -8333"/>
              <a:gd name="adj3" fmla="val 6819"/>
              <a:gd name="adj4" fmla="val -19888"/>
              <a:gd name="adj5" fmla="val 77273"/>
              <a:gd name="adj6" fmla="val -3809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"/>
              <p:cNvSpPr txBox="1"/>
              <p:nvPr/>
            </p:nvSpPr>
            <p:spPr>
              <a:xfrm>
                <a:off x="5867280" y="3429000"/>
                <a:ext cx="30607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7" name=""/>
              <p:cNvSpPr txBox="1"/>
              <p:nvPr/>
            </p:nvSpPr>
            <p:spPr>
              <a:xfrm>
                <a:off x="7086600" y="4140360"/>
                <a:ext cx="1676520" cy="73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88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9" name=""/>
              <p:cNvSpPr txBox="1"/>
              <p:nvPr/>
            </p:nvSpPr>
            <p:spPr>
              <a:xfrm>
                <a:off x="2787480" y="5219640"/>
                <a:ext cx="31482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8A8613-C826-4690-8415-CFF293489F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5" dur="2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8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3" dur="2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4" fill="hold">
                      <p:stCondLst>
                        <p:cond delay="indefinite"/>
                      </p:stCondLst>
                      <p:childTnLst>
                        <p:par>
                          <p:cTn id="1645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8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3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58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3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66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1" dur="2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6" dur="2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9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4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9" dur="2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4" dur="2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9" dur="2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4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3029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1080" y="35233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0" y="304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800" y="3539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1080" y="3389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0" y="3044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800" y="35395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080" y="34992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3090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9" name=""/>
              <p:cNvSpPr txBox="1"/>
              <p:nvPr/>
            </p:nvSpPr>
            <p:spPr>
              <a:xfrm>
                <a:off x="1752480" y="1503360"/>
                <a:ext cx="321948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00" name=""/>
          <p:cNvSpPr/>
          <p:nvPr/>
        </p:nvSpPr>
        <p:spPr>
          <a:xfrm>
            <a:off x="1080" y="34614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2" name=""/>
              <p:cNvSpPr txBox="1"/>
              <p:nvPr/>
            </p:nvSpPr>
            <p:spPr>
              <a:xfrm>
                <a:off x="1143000" y="2971800"/>
                <a:ext cx="844056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r>
                          <m:t xml:space="preserve">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≡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p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3" name=""/>
          <p:cNvSpPr/>
          <p:nvPr/>
        </p:nvSpPr>
        <p:spPr>
          <a:xfrm>
            <a:off x="1800" y="53280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0" y="31575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"/>
              <p:cNvSpPr txBox="1"/>
              <p:nvPr/>
            </p:nvSpPr>
            <p:spPr>
              <a:xfrm>
                <a:off x="2181240" y="4419720"/>
                <a:ext cx="37623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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,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</m:t>
                    </m:r>
                    <m:r>
                      <m:t xml:space="preserve">,</m:t>
                    </m:r>
                    <m:r>
                      <m:t xml:space="preserve">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06" name=""/>
          <p:cNvSpPr/>
          <p:nvPr/>
        </p:nvSpPr>
        <p:spPr>
          <a:xfrm>
            <a:off x="1080" y="33944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95880" y="795240"/>
            <a:ext cx="412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asus 4 Kuadratik berula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873360" y="160668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75520" y="236844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284840" y="4349880"/>
            <a:ext cx="786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mana                                                      konstanta yang akan dic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149B3-D964-4A8B-BB25-B00FB9C60EA6}" type="slidenum">
              <a:t>25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752760" y="82224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2" name=""/>
              <p:cNvSpPr txBox="1"/>
              <p:nvPr/>
            </p:nvSpPr>
            <p:spPr>
              <a:xfrm>
                <a:off x="2666880" y="561960"/>
                <a:ext cx="198144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6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+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3" name=""/>
              <p:cNvSpPr txBox="1"/>
              <p:nvPr/>
            </p:nvSpPr>
            <p:spPr>
              <a:xfrm>
                <a:off x="2514600" y="1798560"/>
                <a:ext cx="434340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  <m:r>
                          <m:t xml:space="preserve">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</m:t>
                        </m:r>
                        <m:r>
                          <m:t xml:space="preserve">−</m:t>
                        </m:r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  <m:r>
                              <m:t xml:space="preserve">+</m:t>
                            </m:r>
                            <m:r>
                              <m:t xml:space="preserve"></m:t>
                            </m:r>
                            <m:r>
                              <m:t xml:space="preserve">3</m:t>
                            </m:r>
                            <m:r>
                              <m:t xml:space="preserve"></m:t>
                            </m:r>
                          </m:e>
                        </m:d>
                        <m:r>
                          <m:t xml:space="preserve">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  <m:r>
                      <m:t xml:space="preserve">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E</m:t>
                        </m:r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4" name=""/>
              <p:cNvSpPr txBox="1"/>
              <p:nvPr/>
            </p:nvSpPr>
            <p:spPr>
              <a:xfrm>
                <a:off x="3822840" y="2895480"/>
                <a:ext cx="5626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A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t xml:space="preserve"></m:t>
                        </m:r>
                        <m:r>
                          <m:t xml:space="preserve">E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3</m:t>
                            </m:r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2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5" name=""/>
          <p:cNvSpPr/>
          <p:nvPr/>
        </p:nvSpPr>
        <p:spPr>
          <a:xfrm>
            <a:off x="912240" y="160668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6" name=""/>
              <p:cNvSpPr txBox="1"/>
              <p:nvPr/>
            </p:nvSpPr>
            <p:spPr>
              <a:xfrm>
                <a:off x="1295280" y="3943440"/>
                <a:ext cx="8153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A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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C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2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3</m:t>
                        </m:r>
                      </m:e>
                    </m:d>
                    <m:r>
                      <m:t xml:space="preserve">+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r>
                      <m:t xml:space="preserve">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1238400" y="4626000"/>
                <a:ext cx="83818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D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8" name=""/>
              <p:cNvSpPr txBox="1"/>
              <p:nvPr/>
            </p:nvSpPr>
            <p:spPr>
              <a:xfrm>
                <a:off x="3352680" y="5205240"/>
                <a:ext cx="51818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6</m:t>
                    </m:r>
                    <m:r>
                      <m:t xml:space="preserve">B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D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6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08006-5BDF-47AA-98C2-08305F3D10A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5" dur="indefinite" restart="never" nodeType="tmRoot">
          <p:childTnLst>
            <p:seq>
              <p:cTn id="1706" dur="indefinite" nodeType="mainSeq">
                <p:childTnLst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1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4" dur="2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9" dur="2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0" fill="hold">
                      <p:stCondLst>
                        <p:cond delay="indefinite"/>
                      </p:stCondLst>
                      <p:childTnLst>
                        <p:par>
                          <p:cTn id="1721" fill="hold">
                            <p:stCondLst>
                              <p:cond delay="0"/>
                            </p:stCondLst>
                            <p:childTnLst>
                              <p:par>
                                <p:cTn id="17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9" dur="2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4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9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4" dur="2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435240" y="844560"/>
            <a:ext cx="75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yamakan koefisien ruas kiri dan kanan diperol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170000" y="1378080"/>
            <a:ext cx="22352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+B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B+C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A+2B+3C+D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B+2C+3D+E=-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A+6C+3E=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581280" y="1523880"/>
            <a:ext cx="609840" cy="1295640"/>
          </a:xfrm>
          <a:custGeom>
            <a:avLst/>
            <a:gdLst>
              <a:gd name="textAreaLeft" fmla="*/ 0 w 609840"/>
              <a:gd name="textAreaRight" fmla="*/ 220320 w 60984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698360" y="1911240"/>
            <a:ext cx="410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eliminasi : A=1,B=-1, C=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=-5, E=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"/>
              <p:cNvSpPr txBox="1"/>
              <p:nvPr/>
            </p:nvSpPr>
            <p:spPr>
              <a:xfrm>
                <a:off x="914400" y="3429000"/>
                <a:ext cx="693432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6</m:t>
                            </m:r>
                            <m:r>
                              <m:t xml:space="preserve">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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x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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</m:t>
                            </m:r>
                            <m:f>
                              <m:num>
                                <m:r>
                                  <m:t xml:space="preserve">x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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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</m:t>
                        </m:r>
                      </m:e>
                    </m:nary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5</m:t>
                    </m:r>
                    <m:r>
                      <m:t xml:space="preserve">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</m:t>
                        </m:r>
                        <m:f>
                          <m:num>
                            <m:r>
                              <m:t xml:space="preserve">x</m:t>
                            </m:r>
                            <m:r>
                              <m:t xml:space="preserve"></m:t>
                            </m:r>
                          </m:num>
                          <m:den>
                            <m:r>
                              <m:t xml:space="preserve">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  <m:r>
                                      <m:t xml:space="preserve">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</m:t>
                                    </m:r>
                                    <m:r>
                                      <m:t xml:space="preserve">2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4" name=""/>
              <p:cNvSpPr txBox="1"/>
              <p:nvPr/>
            </p:nvSpPr>
            <p:spPr>
              <a:xfrm>
                <a:off x="3124080" y="4410000"/>
                <a:ext cx="640080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3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5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5" name=""/>
              <p:cNvSpPr txBox="1"/>
              <p:nvPr/>
            </p:nvSpPr>
            <p:spPr>
              <a:xfrm>
                <a:off x="3048120" y="5334120"/>
                <a:ext cx="67053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|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den>
                        </m:f>
                      </m:e>
                    </m:d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6" name=""/>
          <p:cNvSpPr/>
          <p:nvPr/>
        </p:nvSpPr>
        <p:spPr>
          <a:xfrm>
            <a:off x="651960" y="297828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hingg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06B1-A8AC-4F49-AD35-852470BD9C8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fill="hold">
                      <p:stCondLst>
                        <p:cond delay="indefinite"/>
                      </p:stCondLst>
                      <p:childTnLst>
                        <p:par>
                          <p:cTn id="1748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1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6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1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4" dur="2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9" dur="2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4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9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4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0" y="2967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080" y="3585240"/>
            <a:ext cx="11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0" y="2982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1800" y="3601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0" y="3176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080" y="33753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800" y="3601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0" y="30607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080" y="335160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0" y="30672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080" y="34851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00" y="35060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00" y="3520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939600" y="636480"/>
            <a:ext cx="703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ahoma"/>
              </a:rPr>
              <a:t>Catata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jika                                      , bagi terleb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hulu P(x) dengan Q(x), sehingga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3" name=""/>
              <p:cNvSpPr txBox="1"/>
              <p:nvPr/>
            </p:nvSpPr>
            <p:spPr>
              <a:xfrm>
                <a:off x="2819520" y="709560"/>
                <a:ext cx="342900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4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5" name=""/>
              <p:cNvSpPr txBox="1"/>
              <p:nvPr/>
            </p:nvSpPr>
            <p:spPr>
              <a:xfrm>
                <a:off x="2209680" y="1693800"/>
                <a:ext cx="25909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"/>
              <p:cNvSpPr txBox="1"/>
              <p:nvPr/>
            </p:nvSpPr>
            <p:spPr>
              <a:xfrm>
                <a:off x="4952880" y="1814400"/>
                <a:ext cx="31575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der</m:t>
                    </m:r>
                    <m:r>
                      <m:t xml:space="preserve">(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8" name=""/>
          <p:cNvSpPr/>
          <p:nvPr/>
        </p:nvSpPr>
        <p:spPr>
          <a:xfrm>
            <a:off x="676800" y="257796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0" name=""/>
              <p:cNvSpPr txBox="1"/>
              <p:nvPr/>
            </p:nvSpPr>
            <p:spPr>
              <a:xfrm>
                <a:off x="1981080" y="3022560"/>
                <a:ext cx="251460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1" name=""/>
          <p:cNvSpPr/>
          <p:nvPr/>
        </p:nvSpPr>
        <p:spPr>
          <a:xfrm>
            <a:off x="4876920" y="3352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5692320" y="3130560"/>
            <a:ext cx="298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(P(x))=3&gt;der(Q(x))=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799920" y="3892680"/>
            <a:ext cx="464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gi terlebih dahulu P(x) dengan Q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1828800" y="464832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523880" y="4648320"/>
            <a:ext cx="304920" cy="533160"/>
          </a:xfrm>
          <a:custGeom>
            <a:avLst/>
            <a:gdLst/>
            <a:ahLst/>
            <a:rect l="l" t="t" r="r" b="b"/>
            <a:pathLst>
              <a:path w="192" h="336">
                <a:moveTo>
                  <a:pt x="192" y="0"/>
                </a:moveTo>
                <a:cubicBezTo>
                  <a:pt x="184" y="44"/>
                  <a:pt x="176" y="88"/>
                  <a:pt x="144" y="144"/>
                </a:cubicBezTo>
                <a:cubicBezTo>
                  <a:pt x="112" y="200"/>
                  <a:pt x="56" y="268"/>
                  <a:pt x="0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7" name=""/>
              <p:cNvSpPr txBox="1"/>
              <p:nvPr/>
            </p:nvSpPr>
            <p:spPr>
              <a:xfrm>
                <a:off x="1865160" y="4648320"/>
                <a:ext cx="206064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8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9" name=""/>
              <p:cNvSpPr txBox="1"/>
              <p:nvPr/>
            </p:nvSpPr>
            <p:spPr>
              <a:xfrm>
                <a:off x="685800" y="4705200"/>
                <a:ext cx="8380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0" name=""/>
          <p:cNvSpPr/>
          <p:nvPr/>
        </p:nvSpPr>
        <p:spPr>
          <a:xfrm>
            <a:off x="2278800" y="4251240"/>
            <a:ext cx="31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"/>
              <p:cNvSpPr txBox="1"/>
              <p:nvPr/>
            </p:nvSpPr>
            <p:spPr>
              <a:xfrm>
                <a:off x="1917720" y="5029200"/>
                <a:ext cx="103968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3" name=""/>
          <p:cNvSpPr/>
          <p:nvPr/>
        </p:nvSpPr>
        <p:spPr>
          <a:xfrm>
            <a:off x="1828800" y="54864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411480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6" name=""/>
              <p:cNvSpPr txBox="1"/>
              <p:nvPr/>
            </p:nvSpPr>
            <p:spPr>
              <a:xfrm>
                <a:off x="2438280" y="5486400"/>
                <a:ext cx="144792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7" name=""/>
          <p:cNvSpPr/>
          <p:nvPr/>
        </p:nvSpPr>
        <p:spPr>
          <a:xfrm>
            <a:off x="2515320" y="4273560"/>
            <a:ext cx="47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"/>
              <p:cNvSpPr txBox="1"/>
              <p:nvPr/>
            </p:nvSpPr>
            <p:spPr>
              <a:xfrm>
                <a:off x="2438280" y="5791320"/>
                <a:ext cx="99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70" name=""/>
          <p:cNvSpPr/>
          <p:nvPr/>
        </p:nvSpPr>
        <p:spPr>
          <a:xfrm>
            <a:off x="2133720" y="6172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34340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056040" y="6172200"/>
            <a:ext cx="7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x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4" name=""/>
              <p:cNvSpPr txBox="1"/>
              <p:nvPr/>
            </p:nvSpPr>
            <p:spPr>
              <a:xfrm>
                <a:off x="5486400" y="4871880"/>
                <a:ext cx="4114800" cy="84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5" name=""/>
          <p:cNvSpPr/>
          <p:nvPr/>
        </p:nvSpPr>
        <p:spPr>
          <a:xfrm>
            <a:off x="4724280" y="5029200"/>
            <a:ext cx="45720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3E7E8-8140-4CA1-B2DD-B72F1147AF6C}" type="slidenum">
              <a:t>28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1785" dur="indefinite" restart="never" nodeType="tmRoot">
          <p:childTnLst>
            <p:seq>
              <p:cTn id="1786" dur="indefinite" nodeType="mainSeq">
                <p:childTnLst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1" dur="2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4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9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2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7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0" dur="2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5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8" dur="20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3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1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4" dur="2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7" dur="2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8" fill="hold">
                      <p:stCondLst>
                        <p:cond delay="indefinite"/>
                      </p:stCondLst>
                      <p:childTnLst>
                        <p:par>
                          <p:cTn id="1839" fill="hold">
                            <p:stCondLst>
                              <p:cond delay="0"/>
                            </p:stCondLst>
                            <p:childTnLst>
                              <p:par>
                                <p:cTn id="18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2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7" dur="2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2" dur="2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55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6" fill="hold">
                      <p:stCondLst>
                        <p:cond delay="indefinite"/>
                      </p:stCondLst>
                      <p:childTnLst>
                        <p:par>
                          <p:cTn id="1857" fill="hold">
                            <p:stCondLst>
                              <p:cond delay="0"/>
                            </p:stCondLst>
                            <p:childTnLst>
                              <p:par>
                                <p:cTn id="18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0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5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0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5" dur="2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8" dur="2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3" dur="2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fill="hold">
                      <p:stCondLst>
                        <p:cond delay="indefinite"/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8" dur="20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93" dur="2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7" name=""/>
              <p:cNvSpPr txBox="1"/>
              <p:nvPr/>
            </p:nvSpPr>
            <p:spPr>
              <a:xfrm>
                <a:off x="1079640" y="728640"/>
                <a:ext cx="478764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9" name=""/>
              <p:cNvSpPr txBox="1"/>
              <p:nvPr/>
            </p:nvSpPr>
            <p:spPr>
              <a:xfrm>
                <a:off x="3733920" y="1600200"/>
                <a:ext cx="236196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0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1" name=""/>
              <p:cNvSpPr txBox="1"/>
              <p:nvPr/>
            </p:nvSpPr>
            <p:spPr>
              <a:xfrm>
                <a:off x="2743200" y="2438280"/>
                <a:ext cx="320040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2" name=""/>
          <p:cNvSpPr/>
          <p:nvPr/>
        </p:nvSpPr>
        <p:spPr>
          <a:xfrm>
            <a:off x="5987160" y="2368440"/>
            <a:ext cx="242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………………………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.(*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815760" y="2803680"/>
            <a:ext cx="88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samaan (*) berlaku untuk sembarang x, sehingga berlaku juga unt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uk x=2 dan x=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508400" y="3587760"/>
            <a:ext cx="15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uk x =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276720" y="38098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4155840" y="3565440"/>
            <a:ext cx="173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2+4=A(2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095880" y="38098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850440" y="3587760"/>
            <a:ext cx="8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=7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529280" y="4098960"/>
            <a:ext cx="161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tuk x = -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276720" y="4267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164480" y="402264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(-2)+4=B(-2-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624852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6847200" y="3968640"/>
            <a:ext cx="88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=3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4" name=""/>
              <p:cNvSpPr txBox="1"/>
              <p:nvPr/>
            </p:nvSpPr>
            <p:spPr>
              <a:xfrm>
                <a:off x="1257480" y="4876920"/>
                <a:ext cx="6667200" cy="75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5" name=""/>
          <p:cNvSpPr/>
          <p:nvPr/>
        </p:nvSpPr>
        <p:spPr>
          <a:xfrm>
            <a:off x="932400" y="4425840"/>
            <a:ext cx="447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gan menggunakan hasil diata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"/>
              <p:cNvSpPr txBox="1"/>
              <p:nvPr/>
            </p:nvSpPr>
            <p:spPr>
              <a:xfrm>
                <a:off x="3429000" y="5648400"/>
                <a:ext cx="510552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1CFFD-708C-4B96-B38D-4AF4F34A9CA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4" dur="indefinite" restart="never" nodeType="tmRoot">
          <p:childTnLst>
            <p:seq>
              <p:cTn id="1895" dur="indefinite" nodeType="mainSeq">
                <p:childTnLst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0" dur="2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5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6" fill="hold">
                      <p:stCondLst>
                        <p:cond delay="indefinite"/>
                      </p:stCondLst>
                      <p:childTnLst>
                        <p:par>
                          <p:cTn id="1907" fill="hold">
                            <p:stCondLst>
                              <p:cond delay="0"/>
                            </p:stCondLst>
                            <p:childTnLst>
                              <p:par>
                                <p:cTn id="19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0" dur="2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3" dur="2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4" fill="hold">
                      <p:stCondLst>
                        <p:cond delay="indefinite"/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8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3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6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1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6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1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6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9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4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9" dur="2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2" dur="2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7" dur="2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2" dur="2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7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25120" y="719280"/>
            <a:ext cx="743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gral parsial dapat dilakukan lebih dari satu k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676520"/>
            <a:ext cx="19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200400" y="1558800"/>
                <a:ext cx="1828800" cy="66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1222200" y="213984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996920" y="2709720"/>
                <a:ext cx="106704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914400" y="2590920"/>
            <a:ext cx="4191120" cy="27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06480" y="2825640"/>
            <a:ext cx="109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Mi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04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54360" y="2825640"/>
            <a:ext cx="13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 = 2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23480" y="328284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= sin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52080" y="327672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=-co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5105520" y="1563840"/>
                <a:ext cx="39621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 rot="10800000">
            <a:off x="7162920" y="2514600"/>
            <a:ext cx="2286000" cy="533520"/>
          </a:xfrm>
          <a:prstGeom prst="wedgeRectCallout">
            <a:avLst>
              <a:gd name="adj1" fmla="val 7495"/>
              <a:gd name="adj2" fmla="val 135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160400" y="267336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par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91720" y="3968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30480" y="3968640"/>
            <a:ext cx="14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sal u 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75400" y="3968640"/>
            <a:ext cx="106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u =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28440" y="4502160"/>
            <a:ext cx="163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= cosx 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053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035600" y="4502160"/>
            <a:ext cx="106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 = sin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5181480" y="3317760"/>
                <a:ext cx="472464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5181480" y="4103640"/>
                <a:ext cx="457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2540C-6F10-46CB-8D2D-0D8BD498462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4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3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763920" y="69228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"/>
              <p:cNvSpPr txBox="1"/>
              <p:nvPr/>
            </p:nvSpPr>
            <p:spPr>
              <a:xfrm>
                <a:off x="1752480" y="1709640"/>
                <a:ext cx="1828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6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0" name=""/>
              <p:cNvSpPr txBox="1"/>
              <p:nvPr/>
            </p:nvSpPr>
            <p:spPr>
              <a:xfrm>
                <a:off x="1752480" y="2481120"/>
                <a:ext cx="205740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1" name=""/>
              <p:cNvSpPr txBox="1"/>
              <p:nvPr/>
            </p:nvSpPr>
            <p:spPr>
              <a:xfrm>
                <a:off x="1752480" y="3336840"/>
                <a:ext cx="1905120" cy="74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5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2" name=""/>
          <p:cNvSpPr/>
          <p:nvPr/>
        </p:nvSpPr>
        <p:spPr>
          <a:xfrm>
            <a:off x="0" y="32148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3" name=""/>
              <p:cNvSpPr txBox="1"/>
              <p:nvPr/>
            </p:nvSpPr>
            <p:spPr>
              <a:xfrm>
                <a:off x="1752480" y="4162320"/>
                <a:ext cx="15242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x</m:t>
                            </m:r>
                            <m:r>
                              <m:t xml:space="preserve">(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04" name=""/>
          <p:cNvSpPr/>
          <p:nvPr/>
        </p:nvSpPr>
        <p:spPr>
          <a:xfrm>
            <a:off x="0" y="3138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5" name=""/>
              <p:cNvSpPr txBox="1"/>
              <p:nvPr/>
            </p:nvSpPr>
            <p:spPr>
              <a:xfrm>
                <a:off x="4876920" y="1600200"/>
                <a:ext cx="2286000" cy="96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2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r>
                                  <m:t xml:space="preserve">9</m:t>
                                </m:r>
                              </m:e>
                            </m:d>
                          </m:den>
                        </m:f>
                      </m:e>
                    </m:nary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6" name=""/>
          <p:cNvSpPr/>
          <p:nvPr/>
        </p:nvSpPr>
        <p:spPr>
          <a:xfrm>
            <a:off x="0" y="3195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7" name=""/>
              <p:cNvSpPr txBox="1"/>
              <p:nvPr/>
            </p:nvSpPr>
            <p:spPr>
              <a:xfrm>
                <a:off x="1752480" y="5000760"/>
                <a:ext cx="1981440" cy="86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5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den>
                        </m:f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8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9" name=""/>
              <p:cNvSpPr txBox="1"/>
              <p:nvPr/>
            </p:nvSpPr>
            <p:spPr>
              <a:xfrm>
                <a:off x="4876920" y="2562120"/>
                <a:ext cx="18288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6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10" name=""/>
          <p:cNvSpPr/>
          <p:nvPr/>
        </p:nvSpPr>
        <p:spPr>
          <a:xfrm>
            <a:off x="1280880" y="18828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280880" y="2720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280880" y="35370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280880" y="43909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280880" y="538812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329000" y="18064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29000" y="27972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1173960" y="114948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C602-1084-4B27-A243-3BCDDA52228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8" dur="indefinite" restart="never" nodeType="tmRoot">
          <p:childTnLst>
            <p:seq>
              <p:cTn id="1979" dur="indefinite" nodeType="mainSeq">
                <p:childTnLst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4" dur="2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9" dur="2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2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7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0" dur="2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5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8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3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6" dur="2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1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4" dur="2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9" dur="2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2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7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0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902160" y="768240"/>
            <a:ext cx="526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Fungsi Rasional dalam sin dan 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0" name=""/>
              <p:cNvSpPr txBox="1"/>
              <p:nvPr/>
            </p:nvSpPr>
            <p:spPr>
              <a:xfrm>
                <a:off x="1371600" y="1403280"/>
                <a:ext cx="282096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,si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1" name=""/>
          <p:cNvSpPr/>
          <p:nvPr/>
        </p:nvSpPr>
        <p:spPr>
          <a:xfrm>
            <a:off x="4059360" y="1454040"/>
            <a:ext cx="22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f fungsi ra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125720" y="2216160"/>
            <a:ext cx="86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r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278000" y="2673360"/>
            <a:ext cx="244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nakan subsitu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4" name=""/>
              <p:cNvSpPr txBox="1"/>
              <p:nvPr/>
            </p:nvSpPr>
            <p:spPr>
              <a:xfrm>
                <a:off x="3672000" y="2695680"/>
                <a:ext cx="1066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5" name=""/>
              <p:cNvSpPr txBox="1"/>
              <p:nvPr/>
            </p:nvSpPr>
            <p:spPr>
              <a:xfrm>
                <a:off x="1916280" y="3276720"/>
                <a:ext cx="172872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6" name=""/>
              <p:cNvSpPr txBox="1"/>
              <p:nvPr/>
            </p:nvSpPr>
            <p:spPr>
              <a:xfrm>
                <a:off x="4387680" y="3276720"/>
                <a:ext cx="196884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7" name=""/>
              <p:cNvSpPr txBox="1"/>
              <p:nvPr/>
            </p:nvSpPr>
            <p:spPr>
              <a:xfrm>
                <a:off x="7520040" y="3263760"/>
                <a:ext cx="1722240" cy="6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28" name=""/>
          <p:cNvSpPr/>
          <p:nvPr/>
        </p:nvSpPr>
        <p:spPr>
          <a:xfrm>
            <a:off x="0" y="2614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0" y="36813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828960" y="3457440"/>
            <a:ext cx="381240" cy="304920"/>
          </a:xfrm>
          <a:prstGeom prst="rightArrow">
            <a:avLst>
              <a:gd name="adj1" fmla="val 50000"/>
              <a:gd name="adj2" fmla="val 3125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753240" y="3505320"/>
            <a:ext cx="380880" cy="304560"/>
          </a:xfrm>
          <a:prstGeom prst="rightArrow">
            <a:avLst>
              <a:gd name="adj1" fmla="val 50000"/>
              <a:gd name="adj2" fmla="val 31265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4" name=""/>
              <p:cNvSpPr txBox="1"/>
              <p:nvPr/>
            </p:nvSpPr>
            <p:spPr>
              <a:xfrm>
                <a:off x="1905120" y="4125960"/>
                <a:ext cx="464796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x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5" name=""/>
          <p:cNvSpPr/>
          <p:nvPr/>
        </p:nvSpPr>
        <p:spPr>
          <a:xfrm>
            <a:off x="0" y="32004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6" name=""/>
              <p:cNvSpPr txBox="1"/>
              <p:nvPr/>
            </p:nvSpPr>
            <p:spPr>
              <a:xfrm>
                <a:off x="2606760" y="4964040"/>
                <a:ext cx="33192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t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7" name=""/>
          <p:cNvSpPr/>
          <p:nvPr/>
        </p:nvSpPr>
        <p:spPr>
          <a:xfrm>
            <a:off x="4689000" y="2673360"/>
            <a:ext cx="323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dari sini dapat diperol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22C25-1E0E-434A-8768-F0E81784D4C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9" name=""/>
              <p:cNvSpPr txBox="1"/>
              <p:nvPr/>
            </p:nvSpPr>
            <p:spPr>
              <a:xfrm>
                <a:off x="914400" y="404640"/>
                <a:ext cx="3657600" cy="81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e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0" name=""/>
          <p:cNvSpPr/>
          <p:nvPr/>
        </p:nvSpPr>
        <p:spPr>
          <a:xfrm>
            <a:off x="0" y="32050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1" name=""/>
              <p:cNvSpPr txBox="1"/>
              <p:nvPr/>
            </p:nvSpPr>
            <p:spPr>
              <a:xfrm>
                <a:off x="4799160" y="420840"/>
                <a:ext cx="266832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2" name=""/>
          <p:cNvSpPr/>
          <p:nvPr/>
        </p:nvSpPr>
        <p:spPr>
          <a:xfrm>
            <a:off x="0" y="32194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3" name=""/>
              <p:cNvSpPr txBox="1"/>
              <p:nvPr/>
            </p:nvSpPr>
            <p:spPr>
              <a:xfrm>
                <a:off x="1646280" y="987480"/>
                <a:ext cx="898560" cy="76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4" name=""/>
          <p:cNvSpPr/>
          <p:nvPr/>
        </p:nvSpPr>
        <p:spPr>
          <a:xfrm>
            <a:off x="768600" y="1889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"/>
              <p:cNvSpPr txBox="1"/>
              <p:nvPr/>
            </p:nvSpPr>
            <p:spPr>
              <a:xfrm>
                <a:off x="2057400" y="2328840"/>
                <a:ext cx="198108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7" name=""/>
          <p:cNvSpPr/>
          <p:nvPr/>
        </p:nvSpPr>
        <p:spPr>
          <a:xfrm>
            <a:off x="861120" y="3054240"/>
            <a:ext cx="8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3110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9" name=""/>
              <p:cNvSpPr txBox="1"/>
              <p:nvPr/>
            </p:nvSpPr>
            <p:spPr>
              <a:xfrm>
                <a:off x="1109520" y="3780000"/>
                <a:ext cx="6324840" cy="117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50" name=""/>
          <p:cNvSpPr/>
          <p:nvPr/>
        </p:nvSpPr>
        <p:spPr>
          <a:xfrm>
            <a:off x="678600" y="3435480"/>
            <a:ext cx="44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unakan substitusi diatas diperole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1" name=""/>
              <p:cNvSpPr txBox="1"/>
              <p:nvPr/>
            </p:nvSpPr>
            <p:spPr>
              <a:xfrm>
                <a:off x="7620120" y="3801960"/>
                <a:ext cx="114300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2" name=""/>
              <p:cNvSpPr txBox="1"/>
              <p:nvPr/>
            </p:nvSpPr>
            <p:spPr>
              <a:xfrm>
                <a:off x="685800" y="5181480"/>
                <a:ext cx="1828800" cy="66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3" name=""/>
              <p:cNvSpPr txBox="1"/>
              <p:nvPr/>
            </p:nvSpPr>
            <p:spPr>
              <a:xfrm>
                <a:off x="2590920" y="5180040"/>
                <a:ext cx="320040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den>
                        </m:f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4" name=""/>
              <p:cNvSpPr txBox="1"/>
              <p:nvPr/>
            </p:nvSpPr>
            <p:spPr>
              <a:xfrm>
                <a:off x="5881680" y="5419800"/>
                <a:ext cx="403848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t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C8AA-F2B8-4B7F-A7F8-8A2E50035E0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1" dur="indefinite" restart="never" nodeType="tmRoot">
          <p:childTnLst>
            <p:seq>
              <p:cTn id="2042" dur="indefinite" nodeType="mainSeq">
                <p:childTnLst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7" dur="2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2" dur="20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7" dur="20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2" dur="20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7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8" fill="hold">
                      <p:stCondLst>
                        <p:cond delay="indefinite"/>
                      </p:stCondLst>
                      <p:childTnLst>
                        <p:par>
                          <p:cTn id="2069" fill="hold">
                            <p:stCondLst>
                              <p:cond delay="0"/>
                            </p:stCondLst>
                            <p:childTnLst>
                              <p:par>
                                <p:cTn id="20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2" dur="20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5" dur="20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0" dur="2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1" fill="hold">
                      <p:stCondLst>
                        <p:cond delay="indefinite"/>
                      </p:stCondLst>
                      <p:childTnLst>
                        <p:par>
                          <p:cTn id="2082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5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6" fill="hold">
                      <p:stCondLst>
                        <p:cond delay="indefinite"/>
                      </p:stCondLst>
                      <p:childTnLst>
                        <p:par>
                          <p:cTn id="2087" fill="hold">
                            <p:stCondLst>
                              <p:cond delay="0"/>
                            </p:stCondLst>
                            <p:childTnLst>
                              <p:par>
                                <p:cTn id="20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0" dur="2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5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6" fill="hold">
                      <p:stCondLst>
                        <p:cond delay="indefinite"/>
                      </p:stCondLst>
                      <p:childTnLst>
                        <p:par>
                          <p:cTn id="2097" fill="hold">
                            <p:stCondLst>
                              <p:cond delay="0"/>
                            </p:stCondLst>
                            <p:childTnLst>
                              <p:par>
                                <p:cTn id="20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0" dur="20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795600" y="669960"/>
            <a:ext cx="164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92720" y="1225440"/>
            <a:ext cx="99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7" name=""/>
              <p:cNvSpPr txBox="1"/>
              <p:nvPr/>
            </p:nvSpPr>
            <p:spPr>
              <a:xfrm>
                <a:off x="2133720" y="1752480"/>
                <a:ext cx="1600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8" name=""/>
              <p:cNvSpPr txBox="1"/>
              <p:nvPr/>
            </p:nvSpPr>
            <p:spPr>
              <a:xfrm>
                <a:off x="2133720" y="2514600"/>
                <a:ext cx="12189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5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9" name=""/>
              <p:cNvSpPr txBox="1"/>
              <p:nvPr/>
            </p:nvSpPr>
            <p:spPr>
              <a:xfrm>
                <a:off x="2133720" y="3352680"/>
                <a:ext cx="1371600" cy="64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0" name=""/>
              <p:cNvSpPr txBox="1"/>
              <p:nvPr/>
            </p:nvSpPr>
            <p:spPr>
              <a:xfrm>
                <a:off x="2133720" y="4191120"/>
                <a:ext cx="137160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x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1" name=""/>
              <p:cNvSpPr txBox="1"/>
              <p:nvPr/>
            </p:nvSpPr>
            <p:spPr>
              <a:xfrm>
                <a:off x="2133720" y="4965840"/>
                <a:ext cx="1295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t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2" name=""/>
          <p:cNvSpPr/>
          <p:nvPr/>
        </p:nvSpPr>
        <p:spPr>
          <a:xfrm>
            <a:off x="0" y="2367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0" y="27576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3147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35384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0" y="3929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449360" y="19112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449360" y="2673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449360" y="35114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449360" y="4349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449360" y="51116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DD2B77-EB12-4D89-B053-F48C83A8D20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1" dur="indefinite" restart="never" nodeType="tmRoot">
          <p:childTnLst>
            <p:seq>
              <p:cTn id="2102" dur="indefinite" nodeType="mainSeq">
                <p:childTnLst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7" dur="20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0" dur="20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5" dur="20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8" dur="20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3" dur="20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6" dur="20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1" dur="2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4" dur="20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9" dur="20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2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7" dur="20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0" dur="20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77800" y="609480"/>
            <a:ext cx="710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 kemungkinan integran (f(x)) muncul lagi diruas k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2640" y="1295280"/>
            <a:ext cx="193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2590920" y="1214280"/>
                <a:ext cx="16761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782640" y="196524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743200"/>
            <a:ext cx="3962520" cy="21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895480" y="1946160"/>
                <a:ext cx="152424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676520" y="3862440"/>
                <a:ext cx="838080" cy="4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1447920" y="5033880"/>
                <a:ext cx="19047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592920" y="2901960"/>
            <a:ext cx="115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) 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1676520" y="2840040"/>
                <a:ext cx="9144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2590920" y="31050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33526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3048120" y="2847960"/>
                <a:ext cx="129528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175760" y="335268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=cos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432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123360" y="337176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=sin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572000" y="1905120"/>
                <a:ext cx="342900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 rot="10800000">
            <a:off x="6248160" y="1218960"/>
            <a:ext cx="1981080" cy="533160"/>
          </a:xfrm>
          <a:prstGeom prst="wedgeRectCallout">
            <a:avLst>
              <a:gd name="adj1" fmla="val 18268"/>
              <a:gd name="adj2" fmla="val -8274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338160" y="1295280"/>
            <a:ext cx="199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pars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00" y="3892680"/>
            <a:ext cx="12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ii) Mis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14600" y="412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2971800" y="3865680"/>
                <a:ext cx="1295280" cy="40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1" name=""/>
          <p:cNvSpPr/>
          <p:nvPr/>
        </p:nvSpPr>
        <p:spPr>
          <a:xfrm>
            <a:off x="1499760" y="427356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v = sinxd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495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43680" y="42512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=-cos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572000" y="2619360"/>
                <a:ext cx="52578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572000" y="3276720"/>
                <a:ext cx="50292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7238880" y="3962520"/>
            <a:ext cx="2362320" cy="761760"/>
          </a:xfrm>
          <a:prstGeom prst="wedgeRectCallout">
            <a:avLst>
              <a:gd name="adj1" fmla="val -8263"/>
              <a:gd name="adj2" fmla="val -7604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223040" y="4022640"/>
            <a:ext cx="245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gral yang dicari ,bawa keruas k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33289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3376440" y="5029200"/>
                <a:ext cx="37864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1523880" y="5791320"/>
                <a:ext cx="182880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429000" y="5791320"/>
                <a:ext cx="428940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BEFDB-25D3-4421-ADDF-B7097218A5A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0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al latih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6560" y="125244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tu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752480" y="1685880"/>
                <a:ext cx="106704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e</m:t>
                        </m:r>
                      </m:sup>
                      <m:e>
                        <m:r>
                          <m:t xml:space="preserve">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1695600" y="2590920"/>
                <a:ext cx="129528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1676520" y="3200400"/>
                <a:ext cx="175248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1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1676520" y="3886200"/>
                <a:ext cx="1523880" cy="62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3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76520" y="4648320"/>
                <a:ext cx="1447560" cy="5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1066680" y="32767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676520" y="5410080"/>
                <a:ext cx="198108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1052280" y="19875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10880" y="267336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92160" y="3206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92160" y="39686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92160" y="48830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92160" y="55688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B61B-EA3C-464F-B4FC-BBA8F4EF7E1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311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5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8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3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800" spc="-1" strike="noStrike">
                <a:solidFill>
                  <a:srgbClr val="3333ff"/>
                </a:solidFill>
                <a:latin typeface="Arial"/>
              </a:rPr>
              <a:t>9.2 Integral Fungsi Trigonomet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95360" y="1447920"/>
            <a:ext cx="9182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ff"/>
                </a:solidFill>
                <a:latin typeface="Tahoma"/>
              </a:rPr>
              <a:t>Bentuk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*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ganjil,  Tuliskan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dan gunakan identi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*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genap, Tuliska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dan gunakan identit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00" y="-72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587600" y="1741320"/>
                <a:ext cx="31366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∧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1080" y="56880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219320" y="2581200"/>
                <a:ext cx="36320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4876920" y="2562120"/>
                <a:ext cx="297180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486240" y="3181320"/>
                <a:ext cx="222876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3" name=""/>
          <p:cNvSpPr/>
          <p:nvPr/>
        </p:nvSpPr>
        <p:spPr>
          <a:xfrm>
            <a:off x="1080" y="2368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-1825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9480" y="19944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0099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79480" y="3391560"/>
            <a:ext cx="22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80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1751040" y="4495680"/>
                <a:ext cx="632628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3581280" y="4991040"/>
                <a:ext cx="445788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33098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422F1-B92C-4E2F-AF0F-C9BF0A8FA93D}" type="slidenum">
              <a:t>6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1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1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6" dur="2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9" dur="20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7" dur="20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2" dur="20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2" dur="2000"/>
                                        <p:tgtEl>
                                          <p:spTgt spid="2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7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371600" y="3030480"/>
                <a:ext cx="32004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648320" y="3048120"/>
                <a:ext cx="23619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7086600" y="3059280"/>
                <a:ext cx="2438280" cy="4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912240" y="844560"/>
            <a:ext cx="200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toh Hitu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1981080" y="1371600"/>
                <a:ext cx="137160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1433160" y="150804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82320" y="25210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wa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968480" y="1981080"/>
                <a:ext cx="12952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5" name=""/>
          <p:cNvSpPr/>
          <p:nvPr/>
        </p:nvSpPr>
        <p:spPr>
          <a:xfrm>
            <a:off x="1433160" y="20638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2160" y="308628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92160" y="3886200"/>
            <a:ext cx="3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2907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1447920" y="3886200"/>
                <a:ext cx="327636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0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4876920" y="3822840"/>
                <a:ext cx="304776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2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2590920" y="4495680"/>
                <a:ext cx="32004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867280" y="4572000"/>
                <a:ext cx="3886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−</m:t>
                        </m:r>
                      </m:e>
                    </m:nary>
                    <m:r>
                      <m:t xml:space="preserve">2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56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2666880" y="5257800"/>
                <a:ext cx="35816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6400800" y="5237280"/>
                <a:ext cx="312408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4BCE7-6254-4FFB-8AC9-8C929503AE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5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8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1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6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45720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533160"/>
            <a:ext cx="910584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3333ff"/>
                </a:solidFill>
                <a:latin typeface="Tahoma"/>
              </a:rPr>
              <a:t>Bentu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a).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atau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ganjil, keluarkan sin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atau cos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d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gunakan ident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b). Untuk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dan </a:t>
            </a:r>
            <a:r>
              <a:rPr b="0" i="1" lang="id-ID" sz="2000" spc="-1" strike="noStrike">
                <a:solidFill>
                  <a:srgbClr val="000000"/>
                </a:solidFill>
                <a:latin typeface="Tahoma"/>
              </a:rPr>
              <a:t>n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genap, tuliskan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menjadi jumlah suku-suku dalam cosinus, gunak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ident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d-ID" sz="2000" spc="-1" strike="noStrike">
                <a:solidFill>
                  <a:srgbClr val="3333ff"/>
                </a:solidFill>
                <a:latin typeface="Tahoma"/>
              </a:rPr>
              <a:t>Contoh :</a:t>
            </a:r>
            <a:r>
              <a:rPr b="0" lang="id-ID" sz="20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838080" y="4365720"/>
                <a:ext cx="50292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</m:t>
                            </m:r>
                            <m:r>
                              <m:t xml:space="preserve">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0" y="3081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080" y="3470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847880" y="762120"/>
                <a:ext cx="22287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67" name=""/>
          <p:cNvSpPr/>
          <p:nvPr/>
        </p:nvSpPr>
        <p:spPr>
          <a:xfrm>
            <a:off x="1080" y="29412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352680" y="1870200"/>
                <a:ext cx="238788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1080" y="23688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2362320" y="3257640"/>
                <a:ext cx="510516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3" name=""/>
          <p:cNvSpPr/>
          <p:nvPr/>
        </p:nvSpPr>
        <p:spPr>
          <a:xfrm>
            <a:off x="1080" y="2750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-680760" y="212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971800" y="5602320"/>
                <a:ext cx="33526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0" y="312912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0" y="342324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1622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" name=""/>
              <p:cNvSpPr txBox="1"/>
              <p:nvPr/>
            </p:nvSpPr>
            <p:spPr>
              <a:xfrm>
                <a:off x="4876920" y="2647800"/>
                <a:ext cx="264132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</m:e>
                      <m:sup>
                        <m:r>
                          <m:t xml:space="preserve">m</m:t>
                        </m:r>
                      </m:sup>
                    </m:sSup>
                    <m:r>
                      <m:t xml:space="preserve">x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an</m:t>
                    </m:r>
                    <m:r>
                      <m:t xml:space="preserve"> 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0" name=""/>
          <p:cNvSpPr/>
          <p:nvPr/>
        </p:nvSpPr>
        <p:spPr>
          <a:xfrm>
            <a:off x="1080" y="3389760"/>
            <a:ext cx="27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842080" y="4343400"/>
                <a:ext cx="406404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2971800" y="5029200"/>
                <a:ext cx="411480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x</m:t>
                            </m:r>
                          </m:e>
                        </m:d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</m:t>
                        </m:r>
                        <m:r>
                          <m:t xml:space="preserve">d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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49033-6874-48C0-AD8B-5AD90B42EFAB}" type="slidenum">
              <a:t>8</a:t>
            </a:fld>
          </a:p>
        </p:txBody>
      </p:sp>
    </p:spTree>
  </p:cSld>
  <p:transition spd="med">
    <p:split dir="out" orient="vert"/>
    <p:sndAc>
      <p:stSnd>
        <p:snd r:embed="rId1" name="camera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6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1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2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4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9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1295280" y="914400"/>
                <a:ext cx="44197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f>
                              <m:num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4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971800" y="1676520"/>
                <a:ext cx="205740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86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181480" y="1706400"/>
                <a:ext cx="213372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(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971800" y="2438280"/>
                <a:ext cx="220968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0" y="3233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971800" y="3200400"/>
                <a:ext cx="19810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8AA04-DDB4-4530-9244-990611B2A7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1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6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1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16:06:57Z</dcterms:created>
  <dc:creator>Muthi-Wafa</dc:creator>
  <dc:description/>
  <dc:language>en-US</dc:language>
  <cp:lastModifiedBy>jdn</cp:lastModifiedBy>
  <dcterms:modified xsi:type="dcterms:W3CDTF">2006-08-23T05:00:36Z</dcterms:modified>
  <cp:revision>60</cp:revision>
  <dc:subject/>
  <dc:title>TEKNIK PENGINTEGRALAN</dc:title>
</cp:coreProperties>
</file>