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camera.wav" ContentType="audio/x-wav"/>
  <Override PartName="/ppt/media/laser.wav" ContentType="audio/x-wav"/>
  <Override PartName="/ppt/media/cashreg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530EB-FA20-44DE-A58B-14465AFAB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5F4DB-FC35-4741-8603-96291666C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6A466-4129-4FAC-9947-02A404413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0964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52428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9500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0964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52428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127BC-5728-45AA-B4C1-AFBC51593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0CDAD-8A96-45D4-8890-800211C6F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7603B-DEE6-47B1-A772-91CE7D8B1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78E38-37E8-4F29-A6F2-D9732F49D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D41C8-1A71-49C9-BFB3-092CB971C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2F4CE-C699-4C2A-AA70-4ABEB282A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95000" y="457200"/>
            <a:ext cx="8915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4F758-0E08-4EB3-A627-ED869FE02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2DE25-0C88-46D0-A53C-6B8A11D3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55187-8EFE-4210-85E8-633036BF9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02684-3BE6-4111-AE1E-1DB66525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3E54A-579E-4DE0-B0B2-D968446B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91771-B400-493C-9134-BDA285DC5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71844-6748-4091-8631-9A1F5966B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50964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52428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9500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50964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52428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3FC58-72FD-4BF5-B195-ABF397116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B4ACB-4ED2-468A-A845-498E3040F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D41E3-A41C-4719-8E65-96D4A4817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280CF-6666-41A9-96AF-A734715B8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95000" y="457200"/>
            <a:ext cx="8915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F3DFB-0674-4937-818F-70D807E6F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41105-C83F-4AD2-93BE-897A2A5F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32A55-75C6-41F3-BCAF-4C06C378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BDCBD-38AE-4AC8-8EF4-516913EF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1114 KALKULUS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83391-0DDA-4AC3-9CDA-F71E8BE47B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905760" cy="546120"/>
            <a:chOff x="0" y="0"/>
            <a:chExt cx="990576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30960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47120" y="135000"/>
              <a:ext cx="945864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43520" y="135000"/>
              <a:ext cx="14904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2920" y="0"/>
              <a:ext cx="15120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92920" y="135000"/>
              <a:ext cx="15120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97360" y="274680"/>
              <a:ext cx="14760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42560" y="136440"/>
              <a:ext cx="15264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3520" y="271440"/>
              <a:ext cx="14904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97360" y="409680"/>
              <a:ext cx="14760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8724960" y="65160"/>
            <a:ext cx="1152360" cy="126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905760" cy="6858000"/>
            <a:chOff x="0" y="0"/>
            <a:chExt cx="990576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7972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859040" y="1690560"/>
              <a:ext cx="804672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3105360" cy="3157560"/>
              <a:chOff x="0" y="1066680"/>
              <a:chExt cx="310536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620640" y="3583080"/>
                <a:ext cx="62424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58680" y="1690560"/>
                <a:ext cx="62208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471040" y="1066680"/>
                <a:ext cx="6343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236240" y="3583080"/>
                <a:ext cx="6325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471040" y="1690560"/>
                <a:ext cx="6343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236240" y="2324160"/>
                <a:ext cx="6325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63072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858680" y="2324160"/>
                <a:ext cx="62208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620640" y="2948040"/>
                <a:ext cx="62424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236240" y="2948040"/>
                <a:ext cx="6325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1114 KALKULUS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E697E-DBFD-4468-916A-DD0546793B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3219120" y="1828800"/>
            <a:ext cx="6521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8769240" y="0"/>
            <a:ext cx="1152720" cy="12682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19120" y="1828800"/>
            <a:ext cx="6521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9. TEKNIK PENGINTEGRAL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71F8A-65F1-4A46-A0C5-F886495CFBC6}" type="slidenum">
              <a:t>1</a:t>
            </a:fld>
          </a:p>
        </p:txBody>
      </p:sp>
    </p:spTree>
  </p:cSld>
  <p:transition spd="med" advTm="1000">
    <p:split dir="out" orient="vert"/>
    <p:sndAc>
      <p:stSnd>
        <p:snd r:embed="rId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080" y="294120"/>
            <a:ext cx="27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080" y="294120"/>
            <a:ext cx="27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1994040" y="1897200"/>
                <a:ext cx="26542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e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8" name=""/>
          <p:cNvSpPr/>
          <p:nvPr/>
        </p:nvSpPr>
        <p:spPr>
          <a:xfrm>
            <a:off x="1080" y="218160"/>
            <a:ext cx="27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31669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4657680" y="1920960"/>
                <a:ext cx="24289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,co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s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1" name=""/>
          <p:cNvSpPr/>
          <p:nvPr/>
        </p:nvSpPr>
        <p:spPr>
          <a:xfrm>
            <a:off x="1080" y="3385080"/>
            <a:ext cx="27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31291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2057400" y="704880"/>
                <a:ext cx="50767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c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a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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sc</m:t>
                            </m:r>
                            <m:sSup>
                              <m:e>
                                <m:r>
                                  <m:t xml:space="preserve">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</m:t>
                            </m:r>
                            <m:r>
                              <m:t xml:space="preserve">x</m:t>
                            </m:r>
                            <m:r>
                              <m:t xml:space="preserve">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04" name=""/>
          <p:cNvSpPr/>
          <p:nvPr/>
        </p:nvSpPr>
        <p:spPr>
          <a:xfrm>
            <a:off x="1080" y="3423240"/>
            <a:ext cx="27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25052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800" y="31424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3530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31543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800" y="342972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31543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800" y="342972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30970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800" y="348696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988560" y="746280"/>
            <a:ext cx="109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ntu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910080" y="1454040"/>
            <a:ext cx="236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unakan identi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869760" y="2368440"/>
            <a:ext cx="446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ta turunan tangen dan kota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32576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1905120" y="2743200"/>
                <a:ext cx="259056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e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9" name="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4572000" y="2735280"/>
                <a:ext cx="325296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t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s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1" name=""/>
          <p:cNvSpPr/>
          <p:nvPr/>
        </p:nvSpPr>
        <p:spPr>
          <a:xfrm>
            <a:off x="1036440" y="3276720"/>
            <a:ext cx="112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32907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1295280" y="3846600"/>
                <a:ext cx="15242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24" name=""/>
          <p:cNvSpPr/>
          <p:nvPr/>
        </p:nvSpPr>
        <p:spPr>
          <a:xfrm>
            <a:off x="0" y="32907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3048120" y="3949560"/>
                <a:ext cx="27432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26" name=""/>
          <p:cNvSpPr/>
          <p:nvPr/>
        </p:nvSpPr>
        <p:spPr>
          <a:xfrm>
            <a:off x="0" y="32907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5827680" y="3908520"/>
                <a:ext cx="297648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28" name=""/>
          <p:cNvSpPr/>
          <p:nvPr/>
        </p:nvSpPr>
        <p:spPr>
          <a:xfrm>
            <a:off x="0" y="32907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3048120" y="4572000"/>
                <a:ext cx="44956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a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x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30" name=""/>
          <p:cNvSpPr/>
          <p:nvPr/>
        </p:nvSpPr>
        <p:spPr>
          <a:xfrm>
            <a:off x="0" y="32907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3124080" y="5218200"/>
                <a:ext cx="457200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xd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e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32" name=""/>
          <p:cNvSpPr/>
          <p:nvPr/>
        </p:nvSpPr>
        <p:spPr>
          <a:xfrm>
            <a:off x="0" y="3309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3124080" y="5791320"/>
                <a:ext cx="388620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4" name=""/>
          <p:cNvSpPr/>
          <p:nvPr/>
        </p:nvSpPr>
        <p:spPr>
          <a:xfrm>
            <a:off x="978480" y="396864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02CE2-5741-4010-8156-9AB314B7FDBC}" type="slidenum">
              <a:t>10</a:t>
            </a:fld>
          </a:p>
        </p:txBody>
      </p:sp>
    </p:spTree>
  </p:cSld>
  <p:transition spd="med">
    <p:push dir="r"/>
    <p:sndAc>
      <p:stSnd>
        <p:snd r:embed="rId1" name="laser.wav"/>
      </p:stSnd>
    </p:sndAc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3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6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1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6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9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4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9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2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7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2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5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0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5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0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5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0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3886200" y="3276720"/>
                <a:ext cx="373392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1295280" y="868320"/>
                <a:ext cx="632484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c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a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  <m:r>
                              <m:t xml:space="preserve"></m:t>
                            </m:r>
                            <m:r>
                              <m:t xml:space="preserve"> </m:t>
                            </m:r>
                            <m:r>
                              <m:t xml:space="preserve"></m:t>
                            </m:r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e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  <m:r>
                              <m:t xml:space="preserve"></m:t>
                            </m:r>
                            <m:r>
                              <m:t xml:space="preserve"> </m:t>
                            </m:r>
                            <m:r>
                              <m:t xml:space="preserve">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e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37" name=""/>
          <p:cNvSpPr/>
          <p:nvPr/>
        </p:nvSpPr>
        <p:spPr>
          <a:xfrm>
            <a:off x="739800" y="92088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3886200" y="1614600"/>
                <a:ext cx="419112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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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39" name=""/>
          <p:cNvSpPr/>
          <p:nvPr/>
        </p:nvSpPr>
        <p:spPr>
          <a:xfrm>
            <a:off x="0" y="32907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3854520" y="2514600"/>
                <a:ext cx="318924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E8576-23C1-493A-8430-8BB96F7CC34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7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0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5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0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5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176840" y="692280"/>
            <a:ext cx="164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al Latih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1905120" y="3432240"/>
                <a:ext cx="129528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c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1905120" y="4114800"/>
                <a:ext cx="22096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w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sc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w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w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44" name=""/>
          <p:cNvSpPr/>
          <p:nvPr/>
        </p:nvSpPr>
        <p:spPr>
          <a:xfrm>
            <a:off x="0" y="31860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1828800" y="2362320"/>
                <a:ext cx="1905120" cy="90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t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46" name=""/>
          <p:cNvSpPr/>
          <p:nvPr/>
        </p:nvSpPr>
        <p:spPr>
          <a:xfrm>
            <a:off x="1166040" y="1149480"/>
            <a:ext cx="99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32907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1905120" y="1676520"/>
                <a:ext cx="22096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x</m:t>
                        </m:r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9" name=""/>
          <p:cNvSpPr/>
          <p:nvPr/>
        </p:nvSpPr>
        <p:spPr>
          <a:xfrm>
            <a:off x="0" y="32907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1905120" y="4876920"/>
                <a:ext cx="13716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sc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x</m:t>
                        </m:r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1" name=""/>
          <p:cNvSpPr/>
          <p:nvPr/>
        </p:nvSpPr>
        <p:spPr>
          <a:xfrm>
            <a:off x="1357200" y="175896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355400" y="267336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373040" y="355140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373040" y="422280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388880" y="495936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006C7-4ACE-40E0-826A-545B4E54886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2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5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0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3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8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1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6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9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4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7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2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5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95360" y="457200"/>
            <a:ext cx="7277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9.3 </a:t>
            </a:r>
            <a:r>
              <a:rPr b="0" lang="id-ID" sz="3200" spc="-1" strike="noStrike">
                <a:solidFill>
                  <a:srgbClr val="3333ff"/>
                </a:solidFill>
                <a:latin typeface="Arial"/>
              </a:rPr>
              <a:t>Substitusi Trigonometr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594320" y="299808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4191120" y="1635120"/>
                <a:ext cx="11430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59" name=""/>
          <p:cNvSpPr/>
          <p:nvPr/>
        </p:nvSpPr>
        <p:spPr>
          <a:xfrm>
            <a:off x="4592880" y="3539520"/>
            <a:ext cx="234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6294600" y="1698480"/>
                <a:ext cx="14032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t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2" name=""/>
          <p:cNvSpPr/>
          <p:nvPr/>
        </p:nvSpPr>
        <p:spPr>
          <a:xfrm>
            <a:off x="1080" y="38988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3048120" y="2193840"/>
                <a:ext cx="152388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 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5" name=""/>
          <p:cNvSpPr/>
          <p:nvPr/>
        </p:nvSpPr>
        <p:spPr>
          <a:xfrm>
            <a:off x="1080" y="44712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1371600" y="3962520"/>
                <a:ext cx="144936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t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7" name=""/>
          <p:cNvSpPr/>
          <p:nvPr/>
        </p:nvSpPr>
        <p:spPr>
          <a:xfrm>
            <a:off x="1080" y="3463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1352520" y="2954160"/>
                <a:ext cx="169560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0" name=""/>
          <p:cNvSpPr/>
          <p:nvPr/>
        </p:nvSpPr>
        <p:spPr>
          <a:xfrm>
            <a:off x="1080" y="4658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127160" y="18352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85600" y="1676520"/>
            <a:ext cx="348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. Integran memuat bent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393880" y="1663560"/>
            <a:ext cx="94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mis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080360" y="2401920"/>
            <a:ext cx="20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oh Hitu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84640" y="3962520"/>
            <a:ext cx="8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s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281600" y="4419720"/>
            <a:ext cx="17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x = 5 cost 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04920" y="3962520"/>
            <a:ext cx="2971800" cy="26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32050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3463920" y="2878200"/>
                <a:ext cx="339408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i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t</m:t>
                                </m:r>
                              </m:e>
                            </m:rad>
                            <m:r>
                              <m:t xml:space="preserve"> </m:t>
                            </m:r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t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80" name=""/>
          <p:cNvSpPr/>
          <p:nvPr/>
        </p:nvSpPr>
        <p:spPr>
          <a:xfrm>
            <a:off x="0" y="32004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3505320" y="3794040"/>
                <a:ext cx="297180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i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e>
                            </m:rad>
                          </m:num>
                          <m:den>
                            <m:r>
                              <m:t xml:space="preserve">5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t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t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2" name=""/>
          <p:cNvSpPr/>
          <p:nvPr/>
        </p:nvSpPr>
        <p:spPr>
          <a:xfrm>
            <a:off x="0" y="32194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6553080" y="3809880"/>
                <a:ext cx="304812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t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t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t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84" name=""/>
          <p:cNvSpPr/>
          <p:nvPr/>
        </p:nvSpPr>
        <p:spPr>
          <a:xfrm>
            <a:off x="0" y="32907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3505320" y="4724280"/>
                <a:ext cx="457344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s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nary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t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6" name=""/>
          <p:cNvSpPr/>
          <p:nvPr/>
        </p:nvSpPr>
        <p:spPr>
          <a:xfrm flipH="1">
            <a:off x="533520" y="5029200"/>
            <a:ext cx="838080" cy="11430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03800" y="5794200"/>
            <a:ext cx="2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429200" y="5416560"/>
            <a:ext cx="3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83640" y="52642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33004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533520" y="6172200"/>
                <a:ext cx="83808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92" name=""/>
          <p:cNvSpPr/>
          <p:nvPr/>
        </p:nvSpPr>
        <p:spPr>
          <a:xfrm>
            <a:off x="0" y="32050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3581280" y="5334120"/>
                <a:ext cx="335304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7F834-78F9-4451-B198-B52FF2C790C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2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7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0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5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8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3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6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1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6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9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2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7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2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7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2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7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2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7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2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5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0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5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4594320" y="299808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4290840" y="923760"/>
                <a:ext cx="94320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96" name=""/>
          <p:cNvSpPr/>
          <p:nvPr/>
        </p:nvSpPr>
        <p:spPr>
          <a:xfrm>
            <a:off x="4592880" y="3539520"/>
            <a:ext cx="234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6281640" y="968400"/>
                <a:ext cx="14302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t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9" name=""/>
          <p:cNvSpPr/>
          <p:nvPr/>
        </p:nvSpPr>
        <p:spPr>
          <a:xfrm>
            <a:off x="1080" y="38988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2916360" y="1366920"/>
                <a:ext cx="178884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  <m:r>
                          <m:t xml:space="preserve"> 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2" name=""/>
          <p:cNvSpPr/>
          <p:nvPr/>
        </p:nvSpPr>
        <p:spPr>
          <a:xfrm>
            <a:off x="1080" y="44712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1357200" y="3603600"/>
                <a:ext cx="147816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t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4" name=""/>
          <p:cNvSpPr/>
          <p:nvPr/>
        </p:nvSpPr>
        <p:spPr>
          <a:xfrm>
            <a:off x="1080" y="3463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1204920" y="2279520"/>
                <a:ext cx="199080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7" name=""/>
          <p:cNvSpPr/>
          <p:nvPr/>
        </p:nvSpPr>
        <p:spPr>
          <a:xfrm>
            <a:off x="1080" y="4658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127160" y="18352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810720" y="898560"/>
            <a:ext cx="349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. Integran memuat bent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393880" y="920880"/>
            <a:ext cx="94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mis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107360" y="1584360"/>
            <a:ext cx="20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oh Hitu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84640" y="3603600"/>
            <a:ext cx="8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s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04920" y="3429000"/>
            <a:ext cx="335268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32050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3500280" y="2257560"/>
                <a:ext cx="32004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 </m:t>
                            </m:r>
                            <m:r>
                              <m:t xml:space="preserve">5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e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a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t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a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t</m:t>
                                </m:r>
                              </m:e>
                            </m:rad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16" name=""/>
          <p:cNvSpPr/>
          <p:nvPr/>
        </p:nvSpPr>
        <p:spPr>
          <a:xfrm>
            <a:off x="0" y="32004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3879720" y="3336840"/>
                <a:ext cx="22161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e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a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ec</m:t>
                            </m:r>
                            <m:r>
                              <m:t xml:space="preserve">t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18" name=""/>
          <p:cNvSpPr/>
          <p:nvPr/>
        </p:nvSpPr>
        <p:spPr>
          <a:xfrm>
            <a:off x="0" y="32194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6095880" y="3429000"/>
                <a:ext cx="396252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t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t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i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nary>
                        <m:r>
                          <m:t xml:space="preserve"> 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20" name=""/>
          <p:cNvSpPr/>
          <p:nvPr/>
        </p:nvSpPr>
        <p:spPr>
          <a:xfrm>
            <a:off x="0" y="32907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3689280" y="4390920"/>
                <a:ext cx="2301840" cy="9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2" name=""/>
          <p:cNvSpPr/>
          <p:nvPr/>
        </p:nvSpPr>
        <p:spPr>
          <a:xfrm flipH="1">
            <a:off x="533520" y="5029200"/>
            <a:ext cx="838080" cy="11430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03800" y="5794200"/>
            <a:ext cx="2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29200" y="5416560"/>
            <a:ext cx="3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818640" y="61372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33004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228600" y="5208480"/>
                <a:ext cx="82080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28" name=""/>
          <p:cNvSpPr/>
          <p:nvPr/>
        </p:nvSpPr>
        <p:spPr>
          <a:xfrm>
            <a:off x="0" y="32050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6095880" y="4343400"/>
                <a:ext cx="236232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0" name="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1219320" y="4114800"/>
                <a:ext cx="19047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r>
                      <m:t xml:space="preserve">5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e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2" name=""/>
          <p:cNvSpPr/>
          <p:nvPr/>
        </p:nvSpPr>
        <p:spPr>
          <a:xfrm>
            <a:off x="0" y="3233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1828800" y="4572000"/>
                <a:ext cx="114300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1DD04-F16E-4CC5-A762-1584050CBBF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2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5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0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3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8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1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6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1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4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7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2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7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2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7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2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7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2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7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2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5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0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5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4594320" y="299808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4290840" y="923760"/>
                <a:ext cx="94320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36" name=""/>
          <p:cNvSpPr/>
          <p:nvPr/>
        </p:nvSpPr>
        <p:spPr>
          <a:xfrm>
            <a:off x="4592880" y="3539520"/>
            <a:ext cx="234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6281640" y="981000"/>
                <a:ext cx="143028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sec</m:t>
                    </m:r>
                    <m:r>
                      <m:t xml:space="preserve">t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9" name=""/>
          <p:cNvSpPr/>
          <p:nvPr/>
        </p:nvSpPr>
        <p:spPr>
          <a:xfrm>
            <a:off x="1080" y="38988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2916360" y="1366920"/>
                <a:ext cx="178884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</m:rad>
                          </m:den>
                        </m:f>
                        <m:r>
                          <m:t xml:space="preserve"> 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>
            <a:off x="1080" y="44712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982800" y="3603600"/>
                <a:ext cx="153180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c</m:t>
                    </m:r>
                    <m:r>
                      <m:t xml:space="preserve">t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4" name=""/>
          <p:cNvSpPr/>
          <p:nvPr/>
        </p:nvSpPr>
        <p:spPr>
          <a:xfrm>
            <a:off x="1080" y="3463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1204920" y="2279520"/>
                <a:ext cx="199080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</m:rad>
                          </m:den>
                        </m:f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7" name=""/>
          <p:cNvSpPr/>
          <p:nvPr/>
        </p:nvSpPr>
        <p:spPr>
          <a:xfrm>
            <a:off x="1080" y="4658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127160" y="18352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817200" y="898560"/>
            <a:ext cx="346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. Integran memuat bent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393880" y="920880"/>
            <a:ext cx="94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mis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107360" y="1584360"/>
            <a:ext cx="20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oh Hitu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36880" y="3603600"/>
            <a:ext cx="8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s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04920" y="3429000"/>
            <a:ext cx="335268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32050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3500280" y="2281320"/>
                <a:ext cx="320040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 </m:t>
                            </m:r>
                            <m:r>
                              <m:t xml:space="preserve">5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ec</m:t>
                            </m:r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e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t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ec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</m:rad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56" name=""/>
          <p:cNvSpPr/>
          <p:nvPr/>
        </p:nvSpPr>
        <p:spPr>
          <a:xfrm>
            <a:off x="0" y="32004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3828960" y="3362400"/>
                <a:ext cx="23194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ec</m:t>
                            </m:r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num>
                          <m:den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e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t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58" name=""/>
          <p:cNvSpPr/>
          <p:nvPr/>
        </p:nvSpPr>
        <p:spPr>
          <a:xfrm>
            <a:off x="0" y="32194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6222960" y="3429000"/>
                <a:ext cx="370836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ec</m:t>
                            </m:r>
                            <m:r>
                              <m:t xml:space="preserve">t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e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t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 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60" name=""/>
          <p:cNvSpPr/>
          <p:nvPr/>
        </p:nvSpPr>
        <p:spPr>
          <a:xfrm>
            <a:off x="0" y="32907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3781440" y="4390920"/>
                <a:ext cx="2117880" cy="9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2" name=""/>
          <p:cNvSpPr/>
          <p:nvPr/>
        </p:nvSpPr>
        <p:spPr>
          <a:xfrm flipH="1">
            <a:off x="533520" y="5029200"/>
            <a:ext cx="838080" cy="11430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03800" y="5794200"/>
            <a:ext cx="2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06960" y="5181480"/>
            <a:ext cx="3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818640" y="61372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0" y="33004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1447920" y="5562720"/>
                <a:ext cx="82044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68" name=""/>
          <p:cNvSpPr/>
          <p:nvPr/>
        </p:nvSpPr>
        <p:spPr>
          <a:xfrm>
            <a:off x="0" y="32050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6219720" y="4343400"/>
                <a:ext cx="211464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0" name="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914400" y="4100400"/>
                <a:ext cx="25909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sec</m:t>
                    </m:r>
                    <m:r>
                      <m:t xml:space="preserve">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2" name=""/>
          <p:cNvSpPr/>
          <p:nvPr/>
        </p:nvSpPr>
        <p:spPr>
          <a:xfrm>
            <a:off x="0" y="3233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1841400" y="4572000"/>
                <a:ext cx="111780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c</m:t>
                    </m:r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EA2F3-3ADF-410E-B829-5C078AA6ABE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2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5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0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3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8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1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6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1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4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7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2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7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2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7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2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7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2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7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2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5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0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5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840240" y="692280"/>
            <a:ext cx="164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al Latih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829440" y="1231920"/>
            <a:ext cx="99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1905120" y="1606680"/>
                <a:ext cx="129528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9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1905120" y="2478240"/>
                <a:ext cx="137160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4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1905120" y="3317760"/>
                <a:ext cx="137160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4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1905120" y="4179960"/>
                <a:ext cx="129528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t xml:space="preserve">x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9</m:t>
                                </m:r>
                              </m:e>
                            </m:rad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80" name=""/>
          <p:cNvSpPr/>
          <p:nvPr/>
        </p:nvSpPr>
        <p:spPr>
          <a:xfrm>
            <a:off x="0" y="24861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0" y="39052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1905120" y="5105520"/>
                <a:ext cx="152388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e>
                            </m:rad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4952880" y="1755720"/>
                <a:ext cx="129564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r>
                                      <m:t xml:space="preserve">9</m:t>
                                    </m:r>
                                  </m:e>
                                </m:d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3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4952880" y="2743200"/>
                <a:ext cx="13716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</m:e>
                            </m:rad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4952880" y="3635280"/>
                <a:ext cx="190512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4952880" y="4487760"/>
                <a:ext cx="19051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7" name=""/>
          <p:cNvSpPr/>
          <p:nvPr/>
        </p:nvSpPr>
        <p:spPr>
          <a:xfrm>
            <a:off x="0" y="28144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32814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0" y="36241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204560" y="182880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204560" y="266688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204560" y="358128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203120" y="441972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220760" y="541008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174920" y="190512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174920" y="289548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174920" y="380988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174920" y="464832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1639F-9ED8-479A-A1C2-F8EFD118E75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6" dur="indefinite" restart="never" nodeType="tmRoot">
          <p:childTnLst>
            <p:seq>
              <p:cTn id="1047" dur="indefinite" nodeType="mainSeq">
                <p:childTnLst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2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5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0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3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8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1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6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9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4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7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2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5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0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3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8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1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6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9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4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7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3333ff"/>
                </a:solidFill>
                <a:latin typeface="Arial"/>
              </a:rPr>
              <a:t>Substitusi Bentuk Ak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0" name=""/>
              <p:cNvSpPr txBox="1"/>
              <p:nvPr/>
            </p:nvSpPr>
            <p:spPr>
              <a:xfrm>
                <a:off x="1752480" y="4514760"/>
                <a:ext cx="9144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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1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2971800" y="1809720"/>
                <a:ext cx="13273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n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03" name=""/>
          <p:cNvSpPr/>
          <p:nvPr/>
        </p:nvSpPr>
        <p:spPr>
          <a:xfrm>
            <a:off x="1080" y="236880"/>
            <a:ext cx="27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5410080" y="1744560"/>
                <a:ext cx="189864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06" name=""/>
          <p:cNvSpPr/>
          <p:nvPr/>
        </p:nvSpPr>
        <p:spPr>
          <a:xfrm>
            <a:off x="1080" y="227520"/>
            <a:ext cx="27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2590920" y="2492280"/>
                <a:ext cx="129852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x</m:t>
                                </m:r>
                              </m:e>
                            </m:rad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09" name=""/>
          <p:cNvSpPr/>
          <p:nvPr/>
        </p:nvSpPr>
        <p:spPr>
          <a:xfrm>
            <a:off x="1080" y="408600"/>
            <a:ext cx="27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4822920" y="3429000"/>
                <a:ext cx="310176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udu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u</m:t>
                            </m:r>
                          </m:den>
                        </m:f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u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</m:nary>
                      </m:e>
                    </m:nary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2" name=""/>
          <p:cNvSpPr/>
          <p:nvPr/>
        </p:nvSpPr>
        <p:spPr>
          <a:xfrm>
            <a:off x="1080" y="275040"/>
            <a:ext cx="27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080" y="3489840"/>
            <a:ext cx="27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4876920" y="5662440"/>
                <a:ext cx="3219480" cy="5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</m:e>
                        </m:rad>
                      </m:e>
                    </m:d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5" name=""/>
          <p:cNvSpPr/>
          <p:nvPr/>
        </p:nvSpPr>
        <p:spPr>
          <a:xfrm>
            <a:off x="1800" y="342972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76800" y="1835280"/>
            <a:ext cx="236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gran memu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472280" y="1828800"/>
            <a:ext cx="88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mi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22520" y="2651040"/>
            <a:ext cx="193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oh Hi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85800" y="4343400"/>
            <a:ext cx="36576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813240" y="4537080"/>
            <a:ext cx="8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s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666880" y="48006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0" y="33289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3200400" y="4487760"/>
                <a:ext cx="99072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4" name=""/>
          <p:cNvSpPr/>
          <p:nvPr/>
        </p:nvSpPr>
        <p:spPr>
          <a:xfrm>
            <a:off x="725040" y="4959360"/>
            <a:ext cx="309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ngan turunan implis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0" y="3233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1143000" y="5389560"/>
                <a:ext cx="11430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u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7" name=""/>
          <p:cNvSpPr/>
          <p:nvPr/>
        </p:nvSpPr>
        <p:spPr>
          <a:xfrm>
            <a:off x="2438280" y="57913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011760" y="5492880"/>
            <a:ext cx="123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x=2u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86960" y="3352680"/>
            <a:ext cx="102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wab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3187800" y="3400560"/>
                <a:ext cx="130788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x</m:t>
                                </m:r>
                              </m:e>
                            </m:rad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31" name=""/>
          <p:cNvSpPr/>
          <p:nvPr/>
        </p:nvSpPr>
        <p:spPr>
          <a:xfrm>
            <a:off x="0" y="3233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4876920" y="4343400"/>
                <a:ext cx="182880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u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u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3" name=""/>
          <p:cNvSpPr/>
          <p:nvPr/>
        </p:nvSpPr>
        <p:spPr>
          <a:xfrm>
            <a:off x="0" y="3233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6858000" y="4340160"/>
                <a:ext cx="182880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u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nary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5" name=""/>
          <p:cNvSpPr/>
          <p:nvPr/>
        </p:nvSpPr>
        <p:spPr>
          <a:xfrm>
            <a:off x="0" y="33289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4876920" y="5257800"/>
                <a:ext cx="228600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917FE-92C6-4402-B82B-241700F33523}" type="slidenum">
              <a:t>17</a:t>
            </a:fld>
          </a:p>
        </p:txBody>
      </p:sp>
    </p:spTree>
  </p:cSld>
  <p:transition spd="med">
    <p:wedge/>
    <p:sndAc>
      <p:stSnd>
        <p:snd r:embed="rId1" name="cashreg.wav"/>
      </p:stSnd>
    </p:sndAc>
  </p:transition>
  <p:timing>
    <p:tnLst>
      <p:par>
        <p:cTn id="1128" dur="indefinite" restart="never" nodeType="tmRoot">
          <p:childTnLst>
            <p:seq>
              <p:cTn id="1129" dur="indefinite" nodeType="mainSeq">
                <p:childTnLst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4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9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2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7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0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5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8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3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8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1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4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9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2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7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2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7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0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5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0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5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0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5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0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974880" y="768240"/>
            <a:ext cx="16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al Latih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0" y="3276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1981080" y="1676520"/>
                <a:ext cx="16765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x</m:t>
                        </m:r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e>
                        </m:rad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1981080" y="2289240"/>
                <a:ext cx="144792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ra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1981080" y="3144960"/>
                <a:ext cx="114300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t</m:t>
                                </m:r>
                              </m:e>
                            </m:rad>
                          </m:num>
                          <m:den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42" name=""/>
          <p:cNvSpPr/>
          <p:nvPr/>
        </p:nvSpPr>
        <p:spPr>
          <a:xfrm>
            <a:off x="609480" y="34290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1981080" y="4621320"/>
                <a:ext cx="129564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</m:e>
                            </m:ra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1981080" y="4114800"/>
                <a:ext cx="14479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x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ra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45" name=""/>
          <p:cNvSpPr/>
          <p:nvPr/>
        </p:nvSpPr>
        <p:spPr>
          <a:xfrm>
            <a:off x="0" y="30812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0" y="35002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0" y="32907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1981080" y="5489640"/>
                <a:ext cx="17528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49" name=""/>
          <p:cNvSpPr/>
          <p:nvPr/>
        </p:nvSpPr>
        <p:spPr>
          <a:xfrm>
            <a:off x="953280" y="1247760"/>
            <a:ext cx="99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509480" y="175896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508040" y="257508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477800" y="348948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477800" y="417528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477800" y="486108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477800" y="554688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747D2-5D84-4E3E-B6AC-3F0D6B5DA6B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1" dur="indefinite" restart="never" nodeType="tmRoot">
          <p:childTnLst>
            <p:seq>
              <p:cTn id="1232" dur="indefinite" nodeType="mainSeq">
                <p:childTnLst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7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0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5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8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3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6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1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4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9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2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7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0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5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8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3333ff"/>
                </a:solidFill>
                <a:latin typeface="Arial"/>
              </a:rPr>
              <a:t>9.4 Integral Fungsi Ras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8915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Integran berbentu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gsi 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rasional 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, der (P)&lt; der(Q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3333ff"/>
                </a:solidFill>
                <a:latin typeface="Arial"/>
              </a:rPr>
              <a:t>Ada 4 kasus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 dari pemfaktoran penyebut ( </a:t>
            </a:r>
            <a:r>
              <a:rPr b="0" i="1" lang="id-ID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id-ID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) )  yaitu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1. Faktor linear tidak berula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2. Faktor linear berula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3. Faktor kuadratik tidak berula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4. Faktor kuadratik berula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3333ff"/>
                </a:solidFill>
                <a:latin typeface="Arial"/>
              </a:rPr>
              <a:t>Kasus 1 ( linier tidak berulang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Mis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mak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dengan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konstanta yang dica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5181480" y="1022400"/>
                <a:ext cx="151776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0" name=""/>
          <p:cNvSpPr/>
          <p:nvPr/>
        </p:nvSpPr>
        <p:spPr>
          <a:xfrm>
            <a:off x="1080" y="427680"/>
            <a:ext cx="27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1905120" y="4419720"/>
                <a:ext cx="5448240" cy="59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63" name=""/>
          <p:cNvSpPr/>
          <p:nvPr/>
        </p:nvSpPr>
        <p:spPr>
          <a:xfrm>
            <a:off x="1080" y="332280"/>
            <a:ext cx="27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0" y="30528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2057400" y="5105520"/>
                <a:ext cx="503568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den>
                    </m:f>
                    <m:r>
                      <m:t xml:space="preserve">º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6" name=""/>
          <p:cNvSpPr/>
          <p:nvPr/>
        </p:nvSpPr>
        <p:spPr>
          <a:xfrm>
            <a:off x="1080" y="3499200"/>
            <a:ext cx="27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0" y="31575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1917720" y="5943600"/>
                <a:ext cx="18162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69" name=""/>
          <p:cNvSpPr/>
          <p:nvPr/>
        </p:nvSpPr>
        <p:spPr>
          <a:xfrm>
            <a:off x="1080" y="3394440"/>
            <a:ext cx="27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CFFBB-9CDC-405E-BAD5-A6CF2C7C06EE}" type="slidenum">
              <a:t>19</a:t>
            </a:fld>
          </a:p>
        </p:txBody>
      </p:sp>
    </p:spTree>
  </p:cSld>
  <p:transition spd="med">
    <p:wipe dir="d"/>
    <p:sndAc>
      <p:stSnd>
        <p:snd r:embed="rId1" name="camera.wav"/>
      </p:stSnd>
    </p:sndAc>
  </p:transition>
  <p:timing>
    <p:tnLst>
      <p:par>
        <p:cTn id="1289" dur="indefinite" restart="never" nodeType="tmRoot">
          <p:childTnLst>
            <p:seq>
              <p:cTn id="1290" dur="indefinite" nodeType="mainSeq">
                <p:childTnLst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5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9" dur="500" autoRev="1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300" dur="500" autoRev="1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301" dur="500" autoRev="1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6" dur="20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9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4" dur="2000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9" dur="2000"/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4" dur="2000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9" dur="2000"/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4" dur="2000"/>
                                        <p:tgtEl>
                                          <p:spTgt spid="5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9" dur="2000"/>
                                        <p:tgtEl>
                                          <p:spTgt spid="5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4" dur="2000"/>
                                        <p:tgtEl>
                                          <p:spTgt spid="5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7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2" dur="2000"/>
                                        <p:tgtEl>
                                          <p:spTgt spid="5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5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0" dur="2000"/>
                                        <p:tgtEl>
                                          <p:spTgt spid="5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3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3333ff"/>
                </a:solidFill>
                <a:latin typeface="Arial"/>
              </a:rPr>
              <a:t>9.1 Integral Pars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1447920"/>
            <a:ext cx="8915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3333ff"/>
                </a:solidFill>
                <a:latin typeface="Arial"/>
              </a:rPr>
              <a:t>Formula Integral Parsial</a:t>
            </a:r>
            <a:r>
              <a:rPr b="0" lang="id-ID" sz="2400" spc="-1" strike="noStrike">
                <a:solidFill>
                  <a:srgbClr val="ffff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Tahoma"/>
              </a:rPr>
              <a:t>Cara : pilih </a:t>
            </a:r>
            <a:r>
              <a:rPr b="0" i="1" lang="id-ID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id-ID" sz="2400" spc="-1" strike="noStrike">
                <a:solidFill>
                  <a:srgbClr val="000000"/>
                </a:solidFill>
                <a:latin typeface="Tahoma"/>
              </a:rPr>
              <a:t> yang turunannya lebih sederh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0066"/>
                </a:solidFill>
                <a:latin typeface="Arial"/>
              </a:rPr>
              <a:t>Contoh :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misal </a:t>
            </a:r>
            <a:r>
              <a:rPr b="0" i="1" lang="id-ID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id-ID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, maka </a:t>
            </a:r>
            <a:r>
              <a:rPr b="0" i="1" lang="id-ID" sz="2400" spc="-1" strike="noStrike">
                <a:solidFill>
                  <a:srgbClr val="000000"/>
                </a:solidFill>
                <a:latin typeface="Arial"/>
              </a:rPr>
              <a:t>du=d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sehingg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6480" y="0"/>
                <a:ext cx="11268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0" y="2001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3004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905120" y="1862280"/>
                <a:ext cx="312408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u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uv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v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0" y="337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98280" y="3094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743200" y="3152880"/>
                <a:ext cx="114300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1800" y="-72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905120" y="4114800"/>
                <a:ext cx="152388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2160" y="54072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3541680" y="4118040"/>
                <a:ext cx="247824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196920" y="122400"/>
            <a:ext cx="185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2532240" y="5361120"/>
                <a:ext cx="600228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0" y="396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93354-0D40-4C07-BDB7-B911498CA83F}" type="slidenum">
              <a:t>2</a:t>
            </a:fld>
          </a:p>
        </p:txBody>
      </p:sp>
    </p:spTree>
  </p:cSld>
  <p:transition spd="med">
    <p:split dir="out" orient="vert"/>
    <p:sndAc>
      <p:stSnd>
        <p:snd r:embed="rId1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0" y="30639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1" name=""/>
              <p:cNvSpPr txBox="1"/>
              <p:nvPr/>
            </p:nvSpPr>
            <p:spPr>
              <a:xfrm>
                <a:off x="2590920" y="619200"/>
                <a:ext cx="119196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</m:t>
                        </m:r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9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72" name=""/>
          <p:cNvSpPr/>
          <p:nvPr/>
        </p:nvSpPr>
        <p:spPr>
          <a:xfrm>
            <a:off x="1800" y="352044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0" y="30639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1828800" y="2479680"/>
                <a:ext cx="490068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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9</m:t>
                        </m:r>
                        <m:r>
                          <m:t xml:space="preserve"></m:t>
                        </m:r>
                      </m:den>
                    </m:f>
                    <m:r>
                      <m:t xml:space="preserve">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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3</m:t>
                            </m:r>
                          </m:e>
                        </m:d>
                      </m:den>
                    </m:f>
                    <m:r>
                      <m:t xml:space="preserve"></m:t>
                    </m:r>
                    <m:r>
                      <m:t xml:space="preserve"> </m:t>
                    </m:r>
                    <m:r>
                      <m:t xml:space="preserve">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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3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5" name=""/>
          <p:cNvSpPr/>
          <p:nvPr/>
        </p:nvSpPr>
        <p:spPr>
          <a:xfrm>
            <a:off x="1800" y="352044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85800" y="30481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7" name=""/>
              <p:cNvSpPr txBox="1"/>
              <p:nvPr/>
            </p:nvSpPr>
            <p:spPr>
              <a:xfrm>
                <a:off x="1828800" y="3581280"/>
                <a:ext cx="26449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r>
                      <m:rPr>
                        <m:lit/>
                        <m:nor/>
                      </m:rPr>
                      <m:t xml:space="preserve">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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A</m:t>
                    </m:r>
                    <m:r>
                      <m:t xml:space="preserve">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</m:t>
                        </m:r>
                        <m:r>
                          <m:t xml:space="preserve">x</m:t>
                        </m:r>
                        <m:r>
                          <m:t xml:space="preserve"></m:t>
                        </m:r>
                        <m:r>
                          <m:t xml:space="preserve">−</m:t>
                        </m:r>
                        <m:r>
                          <m:t xml:space="preserve"></m:t>
                        </m:r>
                        <m:r>
                          <m:t xml:space="preserve">3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</m:t>
                    </m:r>
                    <m:r>
                      <m:t xml:space="preserve">B</m:t>
                    </m:r>
                    <m:r>
                      <m:t xml:space="preserve">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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78" name=""/>
          <p:cNvSpPr/>
          <p:nvPr/>
        </p:nvSpPr>
        <p:spPr>
          <a:xfrm>
            <a:off x="1800" y="315360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4557600" y="3581280"/>
                <a:ext cx="240516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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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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3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80" name=""/>
          <p:cNvSpPr/>
          <p:nvPr/>
        </p:nvSpPr>
        <p:spPr>
          <a:xfrm>
            <a:off x="1800" y="369504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0" y="4952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800" y="348696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-914400" y="30481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1936800" y="5486400"/>
                <a:ext cx="343224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</m:t>
                        </m:r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9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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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</m:t>
                            </m:r>
                            <m:r>
                              <m:t xml:space="preserve">1</m:t>
                            </m:r>
                            <m:r>
                              <m:t xml:space="preserve">3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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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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rPr>
                            <m:lit/>
                            <m:nor/>
                          </m:rPr>
                          <m:t xml:space="preserve">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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3</m:t>
                                </m:r>
                              </m:num>
                              <m:den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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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</m:t>
                                    </m:r>
                                    <m:r>
                                      <m:t xml:space="preserve">3</m:t>
                                    </m:r>
                                  </m:e>
                                </m:d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  <m:r>
                      <m:rPr>
                        <m:lit/>
                        <m:nor/>
                      </m:rPr>
                      <m:t xml:space="preserve">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5" name=""/>
          <p:cNvSpPr/>
          <p:nvPr/>
        </p:nvSpPr>
        <p:spPr>
          <a:xfrm>
            <a:off x="1800" y="355824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080" y="275040"/>
            <a:ext cx="27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080" y="3518280"/>
            <a:ext cx="27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080" y="3394440"/>
            <a:ext cx="27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080" y="389520"/>
            <a:ext cx="27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080" y="151200"/>
            <a:ext cx="27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92640" y="746280"/>
            <a:ext cx="193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oh Hi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765000" y="130176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wa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936000" y="1835280"/>
            <a:ext cx="277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ktorkan penyebut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0" y="40384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3524400" y="1828800"/>
                <a:ext cx="29718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9" name=""/>
          <p:cNvSpPr/>
          <p:nvPr/>
        </p:nvSpPr>
        <p:spPr>
          <a:xfrm>
            <a:off x="732960" y="4022640"/>
            <a:ext cx="53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amakan koefisien ruas kiri dan ruas kan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193840" y="4425840"/>
            <a:ext cx="161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  +B  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3A+3B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581280" y="451152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651120" y="4419720"/>
            <a:ext cx="46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191120" y="464832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013360" y="4495680"/>
            <a:ext cx="161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A +3B=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3A+3B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105520" y="51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433920" y="4883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626800" y="513072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B=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553080" y="5257800"/>
            <a:ext cx="457200" cy="15228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7304400" y="5092560"/>
            <a:ext cx="88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=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8089200" y="5089680"/>
            <a:ext cx="94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A=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877320" y="5187960"/>
            <a:ext cx="13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hingg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0" y="3233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3" name=""/>
              <p:cNvSpPr txBox="1"/>
              <p:nvPr/>
            </p:nvSpPr>
            <p:spPr>
              <a:xfrm>
                <a:off x="5410080" y="5638680"/>
                <a:ext cx="342900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|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7D177-E304-4FE9-8F70-E2BF0513A1C8}" type="slidenum">
              <a:t>20</a:t>
            </a:fld>
          </a:p>
        </p:txBody>
      </p:sp>
    </p:spTree>
  </p:cSld>
  <p:transition spd="med">
    <p:split dir="out" orient="vert"/>
    <p:sndAc>
      <p:stSnd>
        <p:snd r:embed="rId1" name="camera.wav"/>
      </p:stSnd>
    </p:sndAc>
  </p:transition>
  <p:timing>
    <p:tnLst>
      <p:par>
        <p:cTn id="1364" dur="indefinite" restart="never" nodeType="tmRoot">
          <p:childTnLst>
            <p:seq>
              <p:cTn id="1365" dur="indefinite" nodeType="mainSeq">
                <p:childTnLst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0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3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8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3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8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3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8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3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8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3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8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1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6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1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4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7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2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7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2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7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2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7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2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14" name=""/>
              <p:cNvSpPr txBox="1"/>
              <p:nvPr/>
            </p:nvSpPr>
            <p:spPr>
              <a:xfrm>
                <a:off x="2895480" y="3886200"/>
                <a:ext cx="19814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5" name=""/>
              <p:cNvSpPr txBox="1"/>
              <p:nvPr/>
            </p:nvSpPr>
            <p:spPr>
              <a:xfrm>
                <a:off x="1733400" y="1219320"/>
                <a:ext cx="288936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p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6" name=""/>
              <p:cNvSpPr txBox="1"/>
              <p:nvPr/>
            </p:nvSpPr>
            <p:spPr>
              <a:xfrm>
                <a:off x="2057400" y="2095560"/>
                <a:ext cx="655308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t xml:space="preserve">Q</m:t>
                        </m:r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den>
                    </m:f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≡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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rPr>
                        <m:lit/>
                        <m:nor/>
                      </m:rPr>
                      <m:t xml:space="preserve">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</m:t>
                                </m:r>
                                <m:r>
                                  <m:t xml:space="preserve">x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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</m:t>
                                </m:r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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</m:t>
                                </m:r>
                                <m:r>
                                  <m:t xml:space="preserve">x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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</m:t>
                                </m:r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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</m:t>
                                </m:r>
                                <m:r>
                                  <m:t xml:space="preserve">x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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</m:t>
                                </m:r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</m:den>
                    </m:f>
                    <m:r>
                      <m:t xml:space="preserve">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7" name=""/>
              <p:cNvSpPr txBox="1"/>
              <p:nvPr/>
            </p:nvSpPr>
            <p:spPr>
              <a:xfrm>
                <a:off x="3152880" y="3151080"/>
                <a:ext cx="231120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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8" name=""/>
              <p:cNvSpPr txBox="1"/>
              <p:nvPr/>
            </p:nvSpPr>
            <p:spPr>
              <a:xfrm>
                <a:off x="1676520" y="5183280"/>
                <a:ext cx="411480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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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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</m:t>
                            </m:r>
                            <m:r>
                              <m:t xml:space="preserve">x</m:t>
                            </m:r>
                            <m:r>
                              <m:t xml:space="preserve"></m:t>
                            </m:r>
                            <m:r>
                              <m:t xml:space="preserve">−</m:t>
                            </m:r>
                            <m:r>
                              <m:t xml:space="preserve"></m:t>
                            </m:r>
                            <m:r>
                              <m:t xml:space="preserve">1</m:t>
                            </m:r>
                            <m:r>
                              <m:t xml:space="preserve"></m:t>
                            </m:r>
                          </m:e>
                        </m:d>
                        <m:r>
                          <m:t xml:space="preserve">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+</m:t>
                            </m:r>
                            <m:r>
                              <m:t xml:space="preserve">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  <m:r>
                      <m:t xml:space="preserve">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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 </m:t>
                    </m:r>
                    <m:r>
                      <m:t xml:space="preserve">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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9" name=""/>
          <p:cNvSpPr/>
          <p:nvPr/>
        </p:nvSpPr>
        <p:spPr>
          <a:xfrm>
            <a:off x="791280" y="642960"/>
            <a:ext cx="363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asus 2 Linear berul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905040" y="1295280"/>
            <a:ext cx="8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s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891360" y="1828800"/>
            <a:ext cx="89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002240" y="3168720"/>
            <a:ext cx="569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ngan konstanta                               akan dica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851760" y="4022640"/>
            <a:ext cx="20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oh Hitu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917280" y="472428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wa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E3BF1-4492-4A12-875C-742E1FD5B92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3" dur="indefinite" restart="never" nodeType="tmRoot">
          <p:childTnLst>
            <p:seq>
              <p:cTn id="1474" dur="indefinite" nodeType="mainSeq">
                <p:childTnLst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9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4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7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2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7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2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5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0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5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0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5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1600200" y="636480"/>
                <a:ext cx="556272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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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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</m:t>
                            </m:r>
                            <m:r>
                              <m:t xml:space="preserve">x</m:t>
                            </m:r>
                            <m:r>
                              <m:t xml:space="preserve"></m:t>
                            </m:r>
                            <m:r>
                              <m:t xml:space="preserve">−</m:t>
                            </m:r>
                            <m:r>
                              <m:t xml:space="preserve"></m:t>
                            </m:r>
                            <m:r>
                              <m:t xml:space="preserve">1</m:t>
                            </m:r>
                            <m:r>
                              <m:t xml:space="preserve"></m:t>
                            </m:r>
                          </m:e>
                        </m:d>
                        <m:r>
                          <m:t xml:space="preserve">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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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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1523880" y="1677960"/>
                <a:ext cx="502920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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1523880" y="2308320"/>
                <a:ext cx="556272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C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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8" name=""/>
          <p:cNvSpPr/>
          <p:nvPr/>
        </p:nvSpPr>
        <p:spPr>
          <a:xfrm>
            <a:off x="7026120" y="1600200"/>
            <a:ext cx="2590920" cy="838080"/>
          </a:xfrm>
          <a:prstGeom prst="wedgeRectCallout">
            <a:avLst>
              <a:gd name="adj1" fmla="val -97611"/>
              <a:gd name="adj2" fmla="val -7992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950160" y="1600200"/>
            <a:ext cx="2803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nyebut ruas kiri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nyebut ruas kan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298160" y="3054240"/>
            <a:ext cx="156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+C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+B+4C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2A-B+4C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2971800" y="350532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3508200" y="3282840"/>
            <a:ext cx="156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+B+4C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2A-B+4C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581280" y="39625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110200" y="35877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744360" y="3968640"/>
            <a:ext cx="117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A+8C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6" name=""/>
          <p:cNvCxnSpPr/>
          <p:nvPr/>
        </p:nvCxnSpPr>
        <p:spPr>
          <a:xfrm flipV="1">
            <a:off x="5105520" y="3580560"/>
            <a:ext cx="838800" cy="6865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7" name=""/>
          <p:cNvCxnSpPr/>
          <p:nvPr/>
        </p:nvCxnSpPr>
        <p:spPr>
          <a:xfrm flipH="1" rot="16200000">
            <a:off x="4035240" y="1386360"/>
            <a:ext cx="299160" cy="3861360"/>
          </a:xfrm>
          <a:prstGeom prst="curvedConnector5">
            <a:avLst>
              <a:gd name="adj1" fmla="val -76506"/>
              <a:gd name="adj2" fmla="val 30172"/>
              <a:gd name="adj3" fmla="val -7650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8" name=""/>
          <p:cNvSpPr/>
          <p:nvPr/>
        </p:nvSpPr>
        <p:spPr>
          <a:xfrm>
            <a:off x="6563520" y="3282840"/>
            <a:ext cx="117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+C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A+8C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553080" y="40384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7869240" y="3740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7002360" y="4044960"/>
            <a:ext cx="78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C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9246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8584560" y="4025880"/>
            <a:ext cx="8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=1/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8628480" y="371808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=-1/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8604720" y="335916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=-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1830240" y="4664160"/>
                <a:ext cx="662652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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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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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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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</m:t>
                                </m:r>
                              </m:e>
                            </m:d>
                            <m:r>
                              <m:t xml:space="preserve">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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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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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</m:t>
                                </m:r>
                                <m:r>
                                  <m:t xml:space="preserve">x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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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den>
                        </m:f>
                      </m:e>
                    </m:nary>
                    <m:r>
                      <m:t xml:space="preserve">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7" name=""/>
          <p:cNvSpPr/>
          <p:nvPr/>
        </p:nvSpPr>
        <p:spPr>
          <a:xfrm>
            <a:off x="0" y="32194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3581280" y="5510160"/>
                <a:ext cx="518184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|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F1971-58DC-48AF-8469-A2F2220DC77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6" dur="indefinite" restart="never" nodeType="tmRoot">
          <p:childTnLst>
            <p:seq>
              <p:cTn id="1527" dur="indefinite" nodeType="mainSeq">
                <p:childTnLst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2" dur="2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7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0" dur="2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5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0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5" dur="2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0" dur="2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3" dur="2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4" fill="hold">
                      <p:stCondLst>
                        <p:cond delay="indefinite"/>
                      </p:stCondLst>
                      <p:childTnLst>
                        <p:par>
                          <p:cTn id="1565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8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1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4" dur="2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fill="hold">
                      <p:stCondLst>
                        <p:cond delay="indefinite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79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82" dur="3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fill="hold">
                      <p:stCondLst>
                        <p:cond delay="indefinite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7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0" dur="2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3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fill="hold">
                      <p:stCondLst>
                        <p:cond delay="indefinite"/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8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3" dur="2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fill="hold">
                      <p:stCondLst>
                        <p:cond delay="indefinite"/>
                      </p:stCondLst>
                      <p:childTnLst>
                        <p:par>
                          <p:cTn id="1605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8" dur="2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3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4" fill="hold">
                      <p:stCondLst>
                        <p:cond delay="indefinite"/>
                      </p:stCondLst>
                      <p:childTnLst>
                        <p:par>
                          <p:cTn id="1615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8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3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fill="hold">
                      <p:stCondLst>
                        <p:cond delay="indefinite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8" dur="2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/>
          <p:nvPr/>
        </p:nvSpPr>
        <p:spPr>
          <a:xfrm>
            <a:off x="0" y="30290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080" y="3523320"/>
            <a:ext cx="27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800" y="353952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0" y="30812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080" y="3470760"/>
            <a:ext cx="27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0" y="3006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800" y="357732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1352520" y="1913040"/>
                <a:ext cx="817236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57" name=""/>
          <p:cNvSpPr/>
          <p:nvPr/>
        </p:nvSpPr>
        <p:spPr>
          <a:xfrm>
            <a:off x="1080" y="3447000"/>
            <a:ext cx="27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0" y="3033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914400" y="3352680"/>
                <a:ext cx="86677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den>
                    </m:f>
                    <m:r>
                      <m:t xml:space="preserve">º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0" name=""/>
          <p:cNvSpPr/>
          <p:nvPr/>
        </p:nvSpPr>
        <p:spPr>
          <a:xfrm>
            <a:off x="1080" y="3518280"/>
            <a:ext cx="27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1981080" y="4495680"/>
                <a:ext cx="381312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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an</m:t>
                    </m:r>
                    <m:r>
                      <m:rPr>
                        <m:lit/>
                        <m:nor/>
                      </m:rPr>
                      <m:t xml:space="preserve">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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,</m:t>
                    </m:r>
                    <m:r>
                      <m:t xml:space="preserve">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63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080" y="151200"/>
            <a:ext cx="27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0" y="30672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080" y="3485160"/>
            <a:ext cx="27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71760" y="795240"/>
            <a:ext cx="46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asus 3 Kuadratik tak berul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749160" y="1454040"/>
            <a:ext cx="80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951840" y="2597040"/>
            <a:ext cx="89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952560" y="449568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nga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5691960" y="4502160"/>
            <a:ext cx="339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stanta yang akan dica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15ECE-3B30-4400-90F8-4294EB1D4AA2}" type="slidenum">
              <a:t>23</a:t>
            </a:fld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692640" y="746280"/>
            <a:ext cx="193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oh Hi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2666880" y="622440"/>
                <a:ext cx="1143000" cy="69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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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1219320" y="1762200"/>
                <a:ext cx="251460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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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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rPr>
                        <m:lit/>
                        <m:nor/>
                      </m:rPr>
                      <m:t xml:space="preserve">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</m:t>
                    </m:r>
                    <m:r>
                      <m:t xml:space="preserve"> </m:t>
                    </m:r>
                    <m:r>
                      <m:t xml:space="preserve">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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C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3962520" y="1806480"/>
                <a:ext cx="259056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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f>
                      <m:num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Bx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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6" name=""/>
          <p:cNvSpPr/>
          <p:nvPr/>
        </p:nvSpPr>
        <p:spPr>
          <a:xfrm>
            <a:off x="825120" y="135576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wa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1219320" y="2666880"/>
                <a:ext cx="320040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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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8" name="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5562720" y="2765520"/>
                <a:ext cx="25905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x</m:t>
                    </m:r>
                    <m:r>
                      <m:t xml:space="preserve">+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0" name=""/>
          <p:cNvSpPr/>
          <p:nvPr/>
        </p:nvSpPr>
        <p:spPr>
          <a:xfrm>
            <a:off x="4724280" y="2994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1850400" y="3200400"/>
            <a:ext cx="948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+B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048120" y="36576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899160" y="3413160"/>
            <a:ext cx="72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=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1295280" y="4572000"/>
                <a:ext cx="38102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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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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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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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den>
                        </m:f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5" name=""/>
          <p:cNvSpPr/>
          <p:nvPr/>
        </p:nvSpPr>
        <p:spPr>
          <a:xfrm>
            <a:off x="5791320" y="3352680"/>
            <a:ext cx="3200400" cy="1676520"/>
          </a:xfrm>
          <a:prstGeom prst="borderCallout2">
            <a:avLst>
              <a:gd name="adj1" fmla="val 18750"/>
              <a:gd name="adj2" fmla="val -8333"/>
              <a:gd name="adj3" fmla="val 6819"/>
              <a:gd name="adj4" fmla="val -19888"/>
              <a:gd name="adj5" fmla="val 77273"/>
              <a:gd name="adj6" fmla="val -3809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6" name=""/>
              <p:cNvSpPr txBox="1"/>
              <p:nvPr/>
            </p:nvSpPr>
            <p:spPr>
              <a:xfrm>
                <a:off x="5867280" y="3429000"/>
                <a:ext cx="306072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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den>
                        </m:f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f>
                          <m:num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7086600" y="4140360"/>
                <a:ext cx="167652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88" name=""/>
          <p:cNvSpPr/>
          <p:nvPr/>
        </p:nvSpPr>
        <p:spPr>
          <a:xfrm>
            <a:off x="0" y="3233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9" name=""/>
              <p:cNvSpPr txBox="1"/>
              <p:nvPr/>
            </p:nvSpPr>
            <p:spPr>
              <a:xfrm>
                <a:off x="2787480" y="5219640"/>
                <a:ext cx="314820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AA8DE-499A-40CA-AABE-F7FC0E759D9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9" dur="indefinite" restart="never" nodeType="tmRoot">
          <p:childTnLst>
            <p:seq>
              <p:cTn id="1630" dur="indefinite" nodeType="mainSeq">
                <p:childTnLst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5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8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3" dur="2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4" fill="hold">
                      <p:stCondLst>
                        <p:cond delay="indefinite"/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8" dur="2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3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8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fill="hold">
                      <p:stCondLst>
                        <p:cond delay="indefinite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3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6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1" dur="2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fill="hold">
                      <p:stCondLst>
                        <p:cond delay="indefinite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6" dur="2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9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fill="hold">
                      <p:stCondLst>
                        <p:cond delay="indefinite"/>
                      </p:stCondLst>
                      <p:childTnLst>
                        <p:par>
                          <p:cTn id="1681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4" dur="2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5" fill="hold">
                      <p:stCondLst>
                        <p:cond delay="indefinite"/>
                      </p:stCondLst>
                      <p:childTnLst>
                        <p:par>
                          <p:cTn id="1686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9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fill="hold">
                      <p:stCondLst>
                        <p:cond delay="indefinite"/>
                      </p:stCondLst>
                      <p:childTnLst>
                        <p:par>
                          <p:cTn id="1691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4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fill="hold">
                      <p:stCondLst>
                        <p:cond delay="indefinite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9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0" fill="hold">
                      <p:stCondLst>
                        <p:cond delay="indefinite"/>
                      </p:stCondLst>
                      <p:childTnLst>
                        <p:par>
                          <p:cTn id="1701" fill="hold">
                            <p:stCondLst>
                              <p:cond delay="0"/>
                            </p:stCondLst>
                            <p:childTnLst>
                              <p:par>
                                <p:cTn id="17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4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0" y="30290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1080" y="3523320"/>
            <a:ext cx="27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0" y="304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800" y="353952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1080" y="3389760"/>
            <a:ext cx="27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0" y="304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1800" y="353952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080" y="3499200"/>
            <a:ext cx="27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0" y="30909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9" name=""/>
              <p:cNvSpPr txBox="1"/>
              <p:nvPr/>
            </p:nvSpPr>
            <p:spPr>
              <a:xfrm>
                <a:off x="1752480" y="1503360"/>
                <a:ext cx="321948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p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00" name=""/>
          <p:cNvSpPr/>
          <p:nvPr/>
        </p:nvSpPr>
        <p:spPr>
          <a:xfrm>
            <a:off x="1080" y="3461400"/>
            <a:ext cx="27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2" name=""/>
              <p:cNvSpPr txBox="1"/>
              <p:nvPr/>
            </p:nvSpPr>
            <p:spPr>
              <a:xfrm>
                <a:off x="1143000" y="2971800"/>
                <a:ext cx="844056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t xml:space="preserve">Q</m:t>
                        </m:r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den>
                    </m:f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≡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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+</m:t>
                        </m:r>
                        <m:r>
                          <m:t xml:space="preserve">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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x</m:t>
                            </m:r>
                            <m:r>
                              <m:t xml:space="preserve"></m:t>
                            </m:r>
                            <m:r>
                              <m:t xml:space="preserve">+</m:t>
                            </m:r>
                            <m:r>
                              <m:t xml:space="preserve">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rPr>
                        <m:lit/>
                        <m:nor/>
                      </m:rPr>
                      <m:t xml:space="preserve">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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+</m:t>
                        </m:r>
                        <m:r>
                          <m:t xml:space="preserve">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</m:t>
                                </m:r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x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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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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+</m:t>
                        </m:r>
                        <m:r>
                          <m:t xml:space="preserve">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</m:t>
                                </m:r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x</m:t>
                                </m:r>
                                <m:r>
                                  <m:t xml:space="preserve">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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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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+</m:t>
                        </m:r>
                        <m:r>
                          <m:t xml:space="preserve">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</m:t>
                                </m:r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x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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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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3" name=""/>
          <p:cNvSpPr/>
          <p:nvPr/>
        </p:nvSpPr>
        <p:spPr>
          <a:xfrm>
            <a:off x="1800" y="53280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0" y="31575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5" name=""/>
              <p:cNvSpPr txBox="1"/>
              <p:nvPr/>
            </p:nvSpPr>
            <p:spPr>
              <a:xfrm>
                <a:off x="2181240" y="4419720"/>
                <a:ext cx="376236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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</m:t>
                    </m:r>
                    <m:r>
                      <m:rPr>
                        <m:lit/>
                        <m:nor/>
                      </m:rPr>
                      <m:t xml:space="preserve">dan</m:t>
                    </m:r>
                    <m:r>
                      <m:rPr>
                        <m:lit/>
                        <m:nor/>
                      </m:rPr>
                      <m:t xml:space="preserve">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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,</m:t>
                    </m:r>
                    <m:r>
                      <m:t xml:space="preserve">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</m:t>
                    </m:r>
                    <m:r>
                      <m:t xml:space="preserve">,</m:t>
                    </m:r>
                    <m:r>
                      <m:t xml:space="preserve">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06" name=""/>
          <p:cNvSpPr/>
          <p:nvPr/>
        </p:nvSpPr>
        <p:spPr>
          <a:xfrm>
            <a:off x="1080" y="3394440"/>
            <a:ext cx="27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695880" y="795240"/>
            <a:ext cx="412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asus 4 Kuadratik berul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873360" y="1606680"/>
            <a:ext cx="8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s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875520" y="2368440"/>
            <a:ext cx="89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1284840" y="4349880"/>
            <a:ext cx="786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mana                                                      konstanta yang akan dica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CF1B7-6147-4C24-AB31-58DEEA843685}" type="slidenum">
              <a:t>25</a:t>
            </a:fld>
          </a:p>
        </p:txBody>
      </p:sp>
    </p:spTree>
  </p:cSld>
  <p:transition spd="med">
    <p:split dir="out" orient="vert"/>
    <p:sndAc>
      <p:stSnd>
        <p:snd r:embed="rId1" name="camera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752760" y="822240"/>
            <a:ext cx="193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oh Hi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2" name=""/>
              <p:cNvSpPr txBox="1"/>
              <p:nvPr/>
            </p:nvSpPr>
            <p:spPr>
              <a:xfrm>
                <a:off x="2666880" y="561960"/>
                <a:ext cx="198144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6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3" name=""/>
              <p:cNvSpPr txBox="1"/>
              <p:nvPr/>
            </p:nvSpPr>
            <p:spPr>
              <a:xfrm>
                <a:off x="2514600" y="1798560"/>
                <a:ext cx="434340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  <m:r>
                          <m:t xml:space="preserve">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</m:t>
                        </m:r>
                        <m:r>
                          <m:t xml:space="preserve">−</m:t>
                        </m:r>
                        <m:r>
                          <m:t xml:space="preserve">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</m:t>
                            </m:r>
                            <m:r>
                              <m:t xml:space="preserve">x</m:t>
                            </m:r>
                            <m:r>
                              <m:t xml:space="preserve"></m:t>
                            </m:r>
                            <m:r>
                              <m:t xml:space="preserve">+</m:t>
                            </m:r>
                            <m:r>
                              <m:t xml:space="preserve"></m:t>
                            </m:r>
                            <m:r>
                              <m:t xml:space="preserve">3</m:t>
                            </m:r>
                            <m:r>
                              <m:t xml:space="preserve"></m:t>
                            </m:r>
                          </m:e>
                        </m:d>
                        <m:r>
                          <m:t xml:space="preserve">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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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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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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3</m:t>
                            </m:r>
                          </m:e>
                        </m:d>
                      </m:den>
                    </m:f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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C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  <m:r>
                      <m:t xml:space="preserve">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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+</m:t>
                        </m:r>
                        <m:r>
                          <m:t xml:space="preserve"></m:t>
                        </m:r>
                        <m:r>
                          <m:t xml:space="preserve">E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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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3822840" y="2895480"/>
                <a:ext cx="56260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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f>
                      <m:num>
                        <m:r>
                          <m:t xml:space="preserve">A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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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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2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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+</m:t>
                        </m:r>
                        <m:r>
                          <m:t xml:space="preserve">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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3</m:t>
                            </m:r>
                          </m:e>
                        </m:d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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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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5" name=""/>
          <p:cNvSpPr/>
          <p:nvPr/>
        </p:nvSpPr>
        <p:spPr>
          <a:xfrm>
            <a:off x="912240" y="1606680"/>
            <a:ext cx="102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wab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1295280" y="3943440"/>
                <a:ext cx="815364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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A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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C</m:t>
                    </m:r>
                    <m:r>
                      <m:t xml:space="preserve">)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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+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+</m:t>
                    </m:r>
                    <m:r>
                      <m:t xml:space="preserve">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7" name=""/>
              <p:cNvSpPr txBox="1"/>
              <p:nvPr/>
            </p:nvSpPr>
            <p:spPr>
              <a:xfrm>
                <a:off x="1238400" y="4626000"/>
                <a:ext cx="838188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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D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8" name=""/>
              <p:cNvSpPr txBox="1"/>
              <p:nvPr/>
            </p:nvSpPr>
            <p:spPr>
              <a:xfrm>
                <a:off x="3352680" y="5205240"/>
                <a:ext cx="51818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D</m:t>
                    </m:r>
                    <m:r>
                      <m:t xml:space="preserve">+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105FC-B351-44CE-9DB8-1FF568FFB50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5" dur="indefinite" restart="never" nodeType="tmRoot">
          <p:childTnLst>
            <p:seq>
              <p:cTn id="1706" dur="indefinite" nodeType="mainSeq">
                <p:childTnLst>
                  <p:par>
                    <p:cTn id="1707" fill="hold">
                      <p:stCondLst>
                        <p:cond delay="indefinite"/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1" dur="2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4" dur="2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fill="hold">
                      <p:stCondLst>
                        <p:cond delay="indefinite"/>
                      </p:stCondLst>
                      <p:childTnLst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9" dur="2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0" fill="hold">
                      <p:stCondLst>
                        <p:cond delay="indefinite"/>
                      </p:stCondLst>
                      <p:childTnLst>
                        <p:par>
                          <p:cTn id="1721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4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9" dur="2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0" fill="hold">
                      <p:stCondLst>
                        <p:cond delay="indefinite"/>
                      </p:stCondLst>
                      <p:childTnLst>
                        <p:par>
                          <p:cTn id="1731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4" dur="2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5" fill="hold">
                      <p:stCondLst>
                        <p:cond delay="indefinite"/>
                      </p:stCondLst>
                      <p:childTnLst>
                        <p:par>
                          <p:cTn id="1736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9" dur="2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fill="hold">
                      <p:stCondLst>
                        <p:cond delay="indefinite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4" dur="2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435240" y="844560"/>
            <a:ext cx="75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ngan menyamakan koefisien ruas kiri dan kanan diperole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170000" y="1378080"/>
            <a:ext cx="22352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+B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B+C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A+2B+3C+D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B+2C+3D+E=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A+6C+3E=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581280" y="1523880"/>
            <a:ext cx="609840" cy="1295640"/>
          </a:xfrm>
          <a:custGeom>
            <a:avLst/>
            <a:gdLst>
              <a:gd name="textAreaLeft" fmla="*/ 0 w 609840"/>
              <a:gd name="textAreaRight" fmla="*/ 220320 w 60984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4698360" y="1911240"/>
            <a:ext cx="410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ngan eliminasi : A=1,B=-1, C=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=-5, E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3" name=""/>
              <p:cNvSpPr txBox="1"/>
              <p:nvPr/>
            </p:nvSpPr>
            <p:spPr>
              <a:xfrm>
                <a:off x="914400" y="3429000"/>
                <a:ext cx="693432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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t xml:space="preserve">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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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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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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 </m:t>
                    </m:r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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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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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rPr>
                            <m:lit/>
                            <m:nor/>
                          </m:rPr>
                          <m:t xml:space="preserve">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</m:t>
                            </m:r>
                            <m:f>
                              <m:num>
                                <m:r>
                                  <m:t xml:space="preserve">x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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</m:t>
                                </m:r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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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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</m:t>
                        </m:r>
                      </m:e>
                    </m:nary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5</m:t>
                    </m:r>
                    <m:r>
                      <m:t xml:space="preserve">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</m:t>
                        </m:r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</m:t>
                            </m:r>
                          </m:num>
                          <m:den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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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4" name=""/>
              <p:cNvSpPr txBox="1"/>
              <p:nvPr/>
            </p:nvSpPr>
            <p:spPr>
              <a:xfrm>
                <a:off x="3124080" y="4410000"/>
                <a:ext cx="640080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r>
                      <m:t xml:space="preserve">3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5" name=""/>
              <p:cNvSpPr txBox="1"/>
              <p:nvPr/>
            </p:nvSpPr>
            <p:spPr>
              <a:xfrm>
                <a:off x="3048120" y="53341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|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6" name=""/>
          <p:cNvSpPr/>
          <p:nvPr/>
        </p:nvSpPr>
        <p:spPr>
          <a:xfrm>
            <a:off x="651960" y="2978280"/>
            <a:ext cx="13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hingg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936FD-60BF-4A19-8353-FD65DD33BE3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5" dur="indefinite" restart="never" nodeType="tmRoot">
          <p:childTnLst>
            <p:seq>
              <p:cTn id="1746" dur="indefinite" nodeType="mainSeq">
                <p:childTnLst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1" dur="2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fill="hold">
                      <p:stCondLst>
                        <p:cond delay="indefinite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6" dur="2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7" fill="hold">
                      <p:stCondLst>
                        <p:cond delay="indefinite"/>
                      </p:stCondLst>
                      <p:childTnLst>
                        <p:par>
                          <p:cTn id="1758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1" dur="2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4" dur="2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fill="hold">
                      <p:stCondLst>
                        <p:cond delay="indefinite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9" dur="2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fill="hold">
                      <p:stCondLst>
                        <p:cond delay="indefinite"/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4" dur="2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9" dur="2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0" fill="hold">
                      <p:stCondLst>
                        <p:cond delay="indefinite"/>
                      </p:stCondLst>
                      <p:childTnLst>
                        <p:par>
                          <p:cTn id="1781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4" dur="2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0" y="29671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1080" y="3585240"/>
            <a:ext cx="118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0" y="29829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800" y="360144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0" y="31766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1080" y="3375360"/>
            <a:ext cx="27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800" y="360144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0" y="3060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0" y="32004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080" y="3351600"/>
            <a:ext cx="27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0" y="30672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080" y="3485160"/>
            <a:ext cx="27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1800" y="350604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800" y="352044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939600" y="636480"/>
            <a:ext cx="703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Catata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jika                                      , bagi terleb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hulu P(x) dengan Q(x), sehingga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0" y="33289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3" name=""/>
              <p:cNvSpPr txBox="1"/>
              <p:nvPr/>
            </p:nvSpPr>
            <p:spPr>
              <a:xfrm>
                <a:off x="2819520" y="709560"/>
                <a:ext cx="34290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r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der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4" name=""/>
          <p:cNvSpPr/>
          <p:nvPr/>
        </p:nvSpPr>
        <p:spPr>
          <a:xfrm>
            <a:off x="0" y="32194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5" name=""/>
              <p:cNvSpPr txBox="1"/>
              <p:nvPr/>
            </p:nvSpPr>
            <p:spPr>
              <a:xfrm>
                <a:off x="2209680" y="1693800"/>
                <a:ext cx="259092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6" name=""/>
          <p:cNvSpPr/>
          <p:nvPr/>
        </p:nvSpPr>
        <p:spPr>
          <a:xfrm>
            <a:off x="0" y="33289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4952880" y="1814400"/>
                <a:ext cx="31575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der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der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8" name=""/>
          <p:cNvSpPr/>
          <p:nvPr/>
        </p:nvSpPr>
        <p:spPr>
          <a:xfrm>
            <a:off x="676800" y="2577960"/>
            <a:ext cx="193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oh Hi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0" y="32194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0" name=""/>
              <p:cNvSpPr txBox="1"/>
              <p:nvPr/>
            </p:nvSpPr>
            <p:spPr>
              <a:xfrm>
                <a:off x="1981080" y="3022560"/>
                <a:ext cx="251460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1" name=""/>
          <p:cNvSpPr/>
          <p:nvPr/>
        </p:nvSpPr>
        <p:spPr>
          <a:xfrm>
            <a:off x="4876920" y="3352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5692320" y="3130560"/>
            <a:ext cx="29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(P(x))=3&gt;der(Q(x))=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799920" y="3892680"/>
            <a:ext cx="464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gi terlebih dahulu P(x) dengan Q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1828800" y="46483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523880" y="4648320"/>
            <a:ext cx="304920" cy="533160"/>
          </a:xfrm>
          <a:custGeom>
            <a:avLst/>
            <a:gdLst/>
            <a:ahLst/>
            <a:rect l="l" t="t" r="r" b="b"/>
            <a:pathLst>
              <a:path w="192" h="336">
                <a:moveTo>
                  <a:pt x="192" y="0"/>
                </a:moveTo>
                <a:cubicBezTo>
                  <a:pt x="184" y="44"/>
                  <a:pt x="176" y="88"/>
                  <a:pt x="144" y="144"/>
                </a:cubicBezTo>
                <a:cubicBezTo>
                  <a:pt x="112" y="200"/>
                  <a:pt x="56" y="268"/>
                  <a:pt x="0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0" y="33289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7" name=""/>
              <p:cNvSpPr txBox="1"/>
              <p:nvPr/>
            </p:nvSpPr>
            <p:spPr>
              <a:xfrm>
                <a:off x="1865160" y="4648320"/>
                <a:ext cx="206064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8" name=""/>
          <p:cNvSpPr/>
          <p:nvPr/>
        </p:nvSpPr>
        <p:spPr>
          <a:xfrm>
            <a:off x="0" y="33289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9" name=""/>
              <p:cNvSpPr txBox="1"/>
              <p:nvPr/>
            </p:nvSpPr>
            <p:spPr>
              <a:xfrm>
                <a:off x="685800" y="4705200"/>
                <a:ext cx="83808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0" name=""/>
          <p:cNvSpPr/>
          <p:nvPr/>
        </p:nvSpPr>
        <p:spPr>
          <a:xfrm>
            <a:off x="2278800" y="4251240"/>
            <a:ext cx="3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0" y="33289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2" name=""/>
              <p:cNvSpPr txBox="1"/>
              <p:nvPr/>
            </p:nvSpPr>
            <p:spPr>
              <a:xfrm>
                <a:off x="1917720" y="5029200"/>
                <a:ext cx="103968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3" name=""/>
          <p:cNvSpPr/>
          <p:nvPr/>
        </p:nvSpPr>
        <p:spPr>
          <a:xfrm>
            <a:off x="1828800" y="54864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411480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0" y="33289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6" name=""/>
              <p:cNvSpPr txBox="1"/>
              <p:nvPr/>
            </p:nvSpPr>
            <p:spPr>
              <a:xfrm>
                <a:off x="2438280" y="5486400"/>
                <a:ext cx="144792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7" name=""/>
          <p:cNvSpPr/>
          <p:nvPr/>
        </p:nvSpPr>
        <p:spPr>
          <a:xfrm>
            <a:off x="2515320" y="427356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0" y="33289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2438280" y="5791320"/>
                <a:ext cx="990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0" name=""/>
          <p:cNvSpPr/>
          <p:nvPr/>
        </p:nvSpPr>
        <p:spPr>
          <a:xfrm>
            <a:off x="2133720" y="61722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434340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3056040" y="617220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x+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0" y="32194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5486400" y="4871880"/>
                <a:ext cx="411480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5" name=""/>
          <p:cNvSpPr/>
          <p:nvPr/>
        </p:nvSpPr>
        <p:spPr>
          <a:xfrm>
            <a:off x="4724280" y="5029200"/>
            <a:ext cx="45720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A7887-05B9-4FDA-8E0D-6057DFFEBFFC}" type="slidenum">
              <a:t>28</a:t>
            </a:fld>
          </a:p>
        </p:txBody>
      </p:sp>
    </p:spTree>
  </p:cSld>
  <p:transition spd="med">
    <p:split dir="out" orient="vert"/>
    <p:sndAc>
      <p:stSnd>
        <p:snd r:embed="rId1" name="camera.wav"/>
      </p:stSnd>
    </p:sndAc>
  </p:transition>
  <p:timing>
    <p:tnLst>
      <p:par>
        <p:cTn id="1785" dur="indefinite" restart="never" nodeType="tmRoot">
          <p:childTnLst>
            <p:seq>
              <p:cTn id="1786" dur="indefinite" nodeType="mainSeq">
                <p:childTnLst>
                  <p:par>
                    <p:cTn id="1787" fill="hold">
                      <p:stCondLst>
                        <p:cond delay="indefinite"/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1" dur="2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4" dur="2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5" fill="hold">
                      <p:stCondLst>
                        <p:cond delay="indefinite"/>
                      </p:stCondLst>
                      <p:childTnLst>
                        <p:par>
                          <p:cTn id="1796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9" dur="2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2" dur="2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3" fill="hold">
                      <p:stCondLst>
                        <p:cond delay="indefinite"/>
                      </p:stCondLst>
                      <p:childTnLst>
                        <p:par>
                          <p:cTn id="1804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7" dur="2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0" dur="2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5" dur="2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8" dur="2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9" fill="hold">
                      <p:stCondLst>
                        <p:cond delay="indefinite"/>
                      </p:stCondLst>
                      <p:childTnLst>
                        <p:par>
                          <p:cTn id="1820" fill="hold">
                            <p:stCondLst>
                              <p:cond delay="0"/>
                            </p:stCondLst>
                            <p:childTnLst>
                              <p:par>
                                <p:cTn id="18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3" dur="2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4" fill="hold">
                      <p:stCondLst>
                        <p:cond delay="indefinite"/>
                      </p:stCondLst>
                      <p:childTnLst>
                        <p:par>
                          <p:cTn id="1825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8" dur="2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1" dur="2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4" dur="2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7" dur="2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8" fill="hold">
                      <p:stCondLst>
                        <p:cond delay="indefinite"/>
                      </p:stCondLst>
                      <p:childTnLst>
                        <p:par>
                          <p:cTn id="1839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2" dur="2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3" fill="hold">
                      <p:stCondLst>
                        <p:cond delay="indefinite"/>
                      </p:stCondLst>
                      <p:childTnLst>
                        <p:par>
                          <p:cTn id="1844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7" dur="2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8" fill="hold">
                      <p:stCondLst>
                        <p:cond delay="indefinite"/>
                      </p:stCondLst>
                      <p:childTnLst>
                        <p:par>
                          <p:cTn id="1849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2" dur="2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5" dur="2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6" fill="hold">
                      <p:stCondLst>
                        <p:cond delay="indefinite"/>
                      </p:stCondLst>
                      <p:childTnLst>
                        <p:par>
                          <p:cTn id="1857" fill="hold">
                            <p:stCondLst>
                              <p:cond delay="0"/>
                            </p:stCondLst>
                            <p:childTnLst>
                              <p:par>
                                <p:cTn id="18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0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fill="hold">
                      <p:stCondLst>
                        <p:cond delay="indefinite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5" dur="2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6" fill="hold">
                      <p:stCondLst>
                        <p:cond delay="indefinite"/>
                      </p:stCondLst>
                      <p:childTnLst>
                        <p:par>
                          <p:cTn id="1867" fill="hold">
                            <p:stCondLst>
                              <p:cond delay="0"/>
                            </p:stCondLst>
                            <p:childTnLst>
                              <p:par>
                                <p:cTn id="18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0" dur="2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1" fill="hold">
                      <p:stCondLst>
                        <p:cond delay="indefinite"/>
                      </p:stCondLst>
                      <p:childTnLst>
                        <p:par>
                          <p:cTn id="1872" fill="hold">
                            <p:stCondLst>
                              <p:cond delay="0"/>
                            </p:stCondLst>
                            <p:childTnLst>
                              <p:par>
                                <p:cTn id="18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5" dur="2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8" dur="2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3" dur="2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8" dur="2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fill="hold">
                      <p:stCondLst>
                        <p:cond delay="indefinite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3" dur="2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/>
          <p:nvPr/>
        </p:nvSpPr>
        <p:spPr>
          <a:xfrm>
            <a:off x="0" y="32194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7" name=""/>
              <p:cNvSpPr txBox="1"/>
              <p:nvPr/>
            </p:nvSpPr>
            <p:spPr>
              <a:xfrm>
                <a:off x="1079640" y="728640"/>
                <a:ext cx="478764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8" name=""/>
          <p:cNvSpPr/>
          <p:nvPr/>
        </p:nvSpPr>
        <p:spPr>
          <a:xfrm>
            <a:off x="0" y="32194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3733920" y="1600200"/>
                <a:ext cx="236196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0" name=""/>
          <p:cNvSpPr/>
          <p:nvPr/>
        </p:nvSpPr>
        <p:spPr>
          <a:xfrm>
            <a:off x="0" y="33289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1" name=""/>
              <p:cNvSpPr txBox="1"/>
              <p:nvPr/>
            </p:nvSpPr>
            <p:spPr>
              <a:xfrm>
                <a:off x="2743200" y="2438280"/>
                <a:ext cx="320040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2" name=""/>
          <p:cNvSpPr/>
          <p:nvPr/>
        </p:nvSpPr>
        <p:spPr>
          <a:xfrm>
            <a:off x="5987160" y="2368440"/>
            <a:ext cx="242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………………………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(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815760" y="2803680"/>
            <a:ext cx="881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samaan (*) berlaku untuk sembarang x, sehingga berlaku juga unt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tuk x=2 dan x=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1508400" y="3587760"/>
            <a:ext cx="153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tuk x =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276720" y="38098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4155840" y="3565440"/>
            <a:ext cx="173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.2+4=A(2+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09588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6850440" y="3587760"/>
            <a:ext cx="8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=7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1529280" y="4098960"/>
            <a:ext cx="161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tuk x =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3276720" y="42670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4164480" y="402264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.(-2)+4=B(-2-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624852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6847200" y="3968640"/>
            <a:ext cx="88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=3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1257480" y="4876920"/>
                <a:ext cx="666720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95" name=""/>
          <p:cNvSpPr/>
          <p:nvPr/>
        </p:nvSpPr>
        <p:spPr>
          <a:xfrm>
            <a:off x="932400" y="4425840"/>
            <a:ext cx="44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ngan menggunakan hasil diata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3233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7" name=""/>
              <p:cNvSpPr txBox="1"/>
              <p:nvPr/>
            </p:nvSpPr>
            <p:spPr>
              <a:xfrm>
                <a:off x="3429000" y="5648400"/>
                <a:ext cx="510552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|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017BE-5CE7-4049-AF4B-EDFDB8765DA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4" dur="indefinite" restart="never" nodeType="tmRoot">
          <p:childTnLst>
            <p:seq>
              <p:cTn id="1895" dur="indefinite" nodeType="mainSeq">
                <p:childTnLst>
                  <p:par>
                    <p:cTn id="1896" fill="hold">
                      <p:stCondLst>
                        <p:cond delay="indefinite"/>
                      </p:stCondLst>
                      <p:childTnLst>
                        <p:par>
                          <p:cTn id="1897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0" dur="2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1" fill="hold">
                      <p:stCondLst>
                        <p:cond delay="indefinite"/>
                      </p:stCondLst>
                      <p:childTnLst>
                        <p:par>
                          <p:cTn id="1902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5" dur="2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6" fill="hold">
                      <p:stCondLst>
                        <p:cond delay="indefinite"/>
                      </p:stCondLst>
                      <p:childTnLst>
                        <p:par>
                          <p:cTn id="1907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0" dur="2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3" dur="2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4" fill="hold">
                      <p:stCondLst>
                        <p:cond delay="indefinite"/>
                      </p:stCondLst>
                      <p:childTnLst>
                        <p:par>
                          <p:cTn id="1915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8" dur="2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9" fill="hold">
                      <p:stCondLst>
                        <p:cond delay="indefinite"/>
                      </p:stCondLst>
                      <p:childTnLst>
                        <p:par>
                          <p:cTn id="1920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3" dur="2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6" dur="2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7" fill="hold">
                      <p:stCondLst>
                        <p:cond delay="indefinite"/>
                      </p:stCondLst>
                      <p:childTnLst>
                        <p:par>
                          <p:cTn id="1928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1" dur="2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2" fill="hold">
                      <p:stCondLst>
                        <p:cond delay="indefinite"/>
                      </p:stCondLst>
                      <p:childTnLst>
                        <p:par>
                          <p:cTn id="1933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6" dur="2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7" fill="hold">
                      <p:stCondLst>
                        <p:cond delay="indefinite"/>
                      </p:stCondLst>
                      <p:childTnLst>
                        <p:par>
                          <p:cTn id="1938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1" dur="2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2" fill="hold">
                      <p:stCondLst>
                        <p:cond delay="indefinite"/>
                      </p:stCondLst>
                      <p:childTnLst>
                        <p:par>
                          <p:cTn id="1943" fill="hold">
                            <p:stCondLst>
                              <p:cond delay="0"/>
                            </p:stCondLst>
                            <p:childTnLst>
                              <p:par>
                                <p:cTn id="19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6" dur="2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9" dur="2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0" fill="hold">
                      <p:stCondLst>
                        <p:cond delay="indefinite"/>
                      </p:stCondLst>
                      <p:childTnLst>
                        <p:par>
                          <p:cTn id="1951" fill="hold">
                            <p:stCondLst>
                              <p:cond delay="0"/>
                            </p:stCondLst>
                            <p:childTnLst>
                              <p:par>
                                <p:cTn id="19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4" dur="2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5" fill="hold">
                      <p:stCondLst>
                        <p:cond delay="indefinite"/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9" dur="2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2" dur="2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3" fill="hold">
                      <p:stCondLst>
                        <p:cond delay="indefinite"/>
                      </p:stCondLst>
                      <p:childTnLst>
                        <p:par>
                          <p:cTn id="1964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7" dur="2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8" fill="hold">
                      <p:stCondLst>
                        <p:cond delay="indefinite"/>
                      </p:stCondLst>
                      <p:childTnLst>
                        <p:par>
                          <p:cTn id="1969" fill="hold">
                            <p:stCondLst>
                              <p:cond delay="0"/>
                            </p:stCondLst>
                            <p:childTnLst>
                              <p:par>
                                <p:cTn id="19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2" dur="2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3" fill="hold">
                      <p:stCondLst>
                        <p:cond delay="indefinite"/>
                      </p:stCondLst>
                      <p:childTnLst>
                        <p:par>
                          <p:cTn id="1974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7" dur="2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825120" y="719280"/>
            <a:ext cx="743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gral parsial dapat dilakukan lebih dari satu k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19320" y="1676520"/>
            <a:ext cx="195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oh Hi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2907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3200400" y="1558800"/>
                <a:ext cx="1828800" cy="6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222200" y="213984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wa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3289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996920" y="2709720"/>
                <a:ext cx="106704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914400" y="2590920"/>
            <a:ext cx="419112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06480" y="2825640"/>
            <a:ext cx="109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) Mi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0400" y="3048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654360" y="2825640"/>
            <a:ext cx="134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u = 2xd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23480" y="3282840"/>
            <a:ext cx="151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v = sinxd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35053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080" y="3276720"/>
            <a:ext cx="109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=-cos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32907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5105520" y="1563840"/>
                <a:ext cx="39621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 rot="10800000">
            <a:off x="7162920" y="2514600"/>
            <a:ext cx="2286000" cy="533520"/>
          </a:xfrm>
          <a:prstGeom prst="wedgeRectCallout">
            <a:avLst>
              <a:gd name="adj1" fmla="val 7495"/>
              <a:gd name="adj2" fmla="val 1351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160400" y="2673360"/>
            <a:ext cx="199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gral pars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91720" y="39686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30480" y="3968640"/>
            <a:ext cx="14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sal u =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00400" y="4191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75400" y="3968640"/>
            <a:ext cx="106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u = d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828440" y="4502160"/>
            <a:ext cx="163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v = cosx d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50532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035600" y="4502160"/>
            <a:ext cx="106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 = sin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32907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5181480" y="3317760"/>
                <a:ext cx="4724640" cy="6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0" y="33289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5181480" y="4103640"/>
                <a:ext cx="45720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C2B00-9ACC-4532-8515-CFF31ECCF7D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763920" y="692280"/>
            <a:ext cx="164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al Latih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9" name=""/>
              <p:cNvSpPr txBox="1"/>
              <p:nvPr/>
            </p:nvSpPr>
            <p:spPr>
              <a:xfrm>
                <a:off x="1752480" y="1709640"/>
                <a:ext cx="182880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0" name=""/>
              <p:cNvSpPr txBox="1"/>
              <p:nvPr/>
            </p:nvSpPr>
            <p:spPr>
              <a:xfrm>
                <a:off x="1752480" y="2481120"/>
                <a:ext cx="205740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1" name=""/>
              <p:cNvSpPr txBox="1"/>
              <p:nvPr/>
            </p:nvSpPr>
            <p:spPr>
              <a:xfrm>
                <a:off x="1752480" y="3336840"/>
                <a:ext cx="190512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5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02" name=""/>
          <p:cNvSpPr/>
          <p:nvPr/>
        </p:nvSpPr>
        <p:spPr>
          <a:xfrm>
            <a:off x="0" y="32148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3" name=""/>
              <p:cNvSpPr txBox="1"/>
              <p:nvPr/>
            </p:nvSpPr>
            <p:spPr>
              <a:xfrm>
                <a:off x="1752480" y="4162320"/>
                <a:ext cx="152424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04" name=""/>
          <p:cNvSpPr/>
          <p:nvPr/>
        </p:nvSpPr>
        <p:spPr>
          <a:xfrm>
            <a:off x="0" y="31384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5" name=""/>
              <p:cNvSpPr txBox="1"/>
              <p:nvPr/>
            </p:nvSpPr>
            <p:spPr>
              <a:xfrm>
                <a:off x="4876920" y="1600200"/>
                <a:ext cx="228600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9</m:t>
                                </m:r>
                              </m:e>
                            </m:d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6" name=""/>
          <p:cNvSpPr/>
          <p:nvPr/>
        </p:nvSpPr>
        <p:spPr>
          <a:xfrm>
            <a:off x="0" y="3195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7" name=""/>
              <p:cNvSpPr txBox="1"/>
              <p:nvPr/>
            </p:nvSpPr>
            <p:spPr>
              <a:xfrm>
                <a:off x="1752480" y="5000760"/>
                <a:ext cx="198144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5</m:t>
                        </m:r>
                      </m:sup>
                      <m:e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den>
                        </m:f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8" name=""/>
          <p:cNvSpPr/>
          <p:nvPr/>
        </p:nvSpPr>
        <p:spPr>
          <a:xfrm>
            <a:off x="0" y="32194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9" name=""/>
              <p:cNvSpPr txBox="1"/>
              <p:nvPr/>
            </p:nvSpPr>
            <p:spPr>
              <a:xfrm>
                <a:off x="4876920" y="2562120"/>
                <a:ext cx="182880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0" name=""/>
          <p:cNvSpPr/>
          <p:nvPr/>
        </p:nvSpPr>
        <p:spPr>
          <a:xfrm>
            <a:off x="1280880" y="188280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1280880" y="272088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1280880" y="353700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1280880" y="439092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1280880" y="538812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4329000" y="180648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329000" y="279720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1173960" y="1149480"/>
            <a:ext cx="99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2F17A-03E2-4A7D-99C8-2FB7E5FE0EC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8" dur="indefinite" restart="never" nodeType="tmRoot">
          <p:childTnLst>
            <p:seq>
              <p:cTn id="1979" dur="indefinite" nodeType="mainSeq">
                <p:childTnLst>
                  <p:par>
                    <p:cTn id="1980" fill="hold">
                      <p:stCondLst>
                        <p:cond delay="indefinite"/>
                      </p:stCondLst>
                      <p:childTnLst>
                        <p:par>
                          <p:cTn id="1981" fill="hold">
                            <p:stCondLst>
                              <p:cond delay="0"/>
                            </p:stCondLst>
                            <p:childTnLst>
                              <p:par>
                                <p:cTn id="19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4" dur="2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9" dur="2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2" dur="2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3" fill="hold">
                      <p:stCondLst>
                        <p:cond delay="indefinite"/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7" dur="2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0" dur="2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1" fill="hold">
                      <p:stCondLst>
                        <p:cond delay="indefinite"/>
                      </p:stCondLst>
                      <p:childTnLst>
                        <p:par>
                          <p:cTn id="2002" fill="hold">
                            <p:stCondLst>
                              <p:cond delay="0"/>
                            </p:stCondLst>
                            <p:childTnLst>
                              <p:par>
                                <p:cTn id="20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5" dur="2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8" dur="2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9" fill="hold">
                      <p:stCondLst>
                        <p:cond delay="indefinite"/>
                      </p:stCondLst>
                      <p:childTnLst>
                        <p:par>
                          <p:cTn id="2010" fill="hold">
                            <p:stCondLst>
                              <p:cond delay="0"/>
                            </p:stCondLst>
                            <p:childTnLst>
                              <p:par>
                                <p:cTn id="20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3" dur="2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6" dur="2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7" fill="hold">
                      <p:stCondLst>
                        <p:cond delay="indefinite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1" dur="2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4" dur="2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5" fill="hold">
                      <p:stCondLst>
                        <p:cond delay="indefinite"/>
                      </p:stCondLst>
                      <p:childTnLst>
                        <p:par>
                          <p:cTn id="2026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9" dur="2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2" dur="2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3" fill="hold">
                      <p:stCondLst>
                        <p:cond delay="indefinite"/>
                      </p:stCondLst>
                      <p:childTnLst>
                        <p:par>
                          <p:cTn id="2034" fill="hold">
                            <p:stCondLst>
                              <p:cond delay="0"/>
                            </p:stCondLst>
                            <p:childTnLst>
                              <p:par>
                                <p:cTn id="20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7" dur="2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0" dur="2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902160" y="768240"/>
            <a:ext cx="526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gral Fungsi Rasional dalam sin dan 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0" y="32907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0" name=""/>
              <p:cNvSpPr txBox="1"/>
              <p:nvPr/>
            </p:nvSpPr>
            <p:spPr>
              <a:xfrm>
                <a:off x="1371600" y="1403280"/>
                <a:ext cx="282096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,sin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1" name=""/>
          <p:cNvSpPr/>
          <p:nvPr/>
        </p:nvSpPr>
        <p:spPr>
          <a:xfrm>
            <a:off x="4059360" y="1454040"/>
            <a:ext cx="22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f fungsi ras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1125720" y="2216160"/>
            <a:ext cx="86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ra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1278000" y="2673360"/>
            <a:ext cx="244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unakan subsitus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4" name=""/>
              <p:cNvSpPr txBox="1"/>
              <p:nvPr/>
            </p:nvSpPr>
            <p:spPr>
              <a:xfrm>
                <a:off x="3672000" y="2695680"/>
                <a:ext cx="10666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5" name=""/>
              <p:cNvSpPr txBox="1"/>
              <p:nvPr/>
            </p:nvSpPr>
            <p:spPr>
              <a:xfrm>
                <a:off x="1916280" y="3276720"/>
                <a:ext cx="172872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e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6" name=""/>
              <p:cNvSpPr txBox="1"/>
              <p:nvPr/>
            </p:nvSpPr>
            <p:spPr>
              <a:xfrm>
                <a:off x="4387680" y="3276720"/>
                <a:ext cx="196884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7" name=""/>
              <p:cNvSpPr txBox="1"/>
              <p:nvPr/>
            </p:nvSpPr>
            <p:spPr>
              <a:xfrm>
                <a:off x="7520040" y="3263760"/>
                <a:ext cx="172224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8" name=""/>
          <p:cNvSpPr/>
          <p:nvPr/>
        </p:nvSpPr>
        <p:spPr>
          <a:xfrm>
            <a:off x="0" y="26146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0" y="3233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0" y="36813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3828960" y="3457440"/>
            <a:ext cx="381240" cy="304920"/>
          </a:xfrm>
          <a:prstGeom prst="rightArrow">
            <a:avLst>
              <a:gd name="adj1" fmla="val 50000"/>
              <a:gd name="adj2" fmla="val 3125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753240" y="35053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0" y="32050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4" name=""/>
              <p:cNvSpPr txBox="1"/>
              <p:nvPr/>
            </p:nvSpPr>
            <p:spPr>
              <a:xfrm>
                <a:off x="1905120" y="4125960"/>
                <a:ext cx="464796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x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35" name=""/>
          <p:cNvSpPr/>
          <p:nvPr/>
        </p:nvSpPr>
        <p:spPr>
          <a:xfrm>
            <a:off x="0" y="32004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6" name=""/>
              <p:cNvSpPr txBox="1"/>
              <p:nvPr/>
            </p:nvSpPr>
            <p:spPr>
              <a:xfrm>
                <a:off x="2606760" y="4964040"/>
                <a:ext cx="331920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37" name=""/>
          <p:cNvSpPr/>
          <p:nvPr/>
        </p:nvSpPr>
        <p:spPr>
          <a:xfrm>
            <a:off x="4689000" y="2673360"/>
            <a:ext cx="323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dari sini dapat diperole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4913E-F181-4ABC-96C6-F794DF73474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/>
          <p:nvPr/>
        </p:nvSpPr>
        <p:spPr>
          <a:xfrm>
            <a:off x="0" y="32050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9" name=""/>
              <p:cNvSpPr txBox="1"/>
              <p:nvPr/>
            </p:nvSpPr>
            <p:spPr>
              <a:xfrm>
                <a:off x="914400" y="404640"/>
                <a:ext cx="3657600" cy="8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0" name=""/>
          <p:cNvSpPr/>
          <p:nvPr/>
        </p:nvSpPr>
        <p:spPr>
          <a:xfrm>
            <a:off x="0" y="32050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1" name=""/>
              <p:cNvSpPr txBox="1"/>
              <p:nvPr/>
            </p:nvSpPr>
            <p:spPr>
              <a:xfrm>
                <a:off x="4799160" y="420840"/>
                <a:ext cx="266832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2" name=""/>
          <p:cNvSpPr/>
          <p:nvPr/>
        </p:nvSpPr>
        <p:spPr>
          <a:xfrm>
            <a:off x="0" y="32194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3" name=""/>
              <p:cNvSpPr txBox="1"/>
              <p:nvPr/>
            </p:nvSpPr>
            <p:spPr>
              <a:xfrm>
                <a:off x="1646280" y="987480"/>
                <a:ext cx="89856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44" name=""/>
          <p:cNvSpPr/>
          <p:nvPr/>
        </p:nvSpPr>
        <p:spPr>
          <a:xfrm>
            <a:off x="768600" y="1889280"/>
            <a:ext cx="193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oh Hi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0" y="3233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6" name=""/>
              <p:cNvSpPr txBox="1"/>
              <p:nvPr/>
            </p:nvSpPr>
            <p:spPr>
              <a:xfrm>
                <a:off x="2057400" y="2328840"/>
                <a:ext cx="198108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47" name=""/>
          <p:cNvSpPr/>
          <p:nvPr/>
        </p:nvSpPr>
        <p:spPr>
          <a:xfrm>
            <a:off x="861120" y="3054240"/>
            <a:ext cx="89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w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0" y="31100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9" name=""/>
              <p:cNvSpPr txBox="1"/>
              <p:nvPr/>
            </p:nvSpPr>
            <p:spPr>
              <a:xfrm>
                <a:off x="1109520" y="3780000"/>
                <a:ext cx="6324840" cy="117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50" name=""/>
          <p:cNvSpPr/>
          <p:nvPr/>
        </p:nvSpPr>
        <p:spPr>
          <a:xfrm>
            <a:off x="678600" y="3435480"/>
            <a:ext cx="44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unakan substitusi diatas diperole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1" name=""/>
              <p:cNvSpPr txBox="1"/>
              <p:nvPr/>
            </p:nvSpPr>
            <p:spPr>
              <a:xfrm>
                <a:off x="7620120" y="3801960"/>
                <a:ext cx="114300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2" name=""/>
              <p:cNvSpPr txBox="1"/>
              <p:nvPr/>
            </p:nvSpPr>
            <p:spPr>
              <a:xfrm>
                <a:off x="685800" y="5181480"/>
                <a:ext cx="18288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3" name=""/>
              <p:cNvSpPr txBox="1"/>
              <p:nvPr/>
            </p:nvSpPr>
            <p:spPr>
              <a:xfrm>
                <a:off x="2590920" y="5180040"/>
                <a:ext cx="320040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4" name=""/>
              <p:cNvSpPr txBox="1"/>
              <p:nvPr/>
            </p:nvSpPr>
            <p:spPr>
              <a:xfrm>
                <a:off x="5881680" y="5419800"/>
                <a:ext cx="403848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|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t</m:t>
                    </m:r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|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D7AC2-C414-4F5F-B77A-6BDB066C22E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1" dur="indefinite" restart="never" nodeType="tmRoot">
          <p:childTnLst>
            <p:seq>
              <p:cTn id="2042" dur="indefinite" nodeType="mainSeq">
                <p:childTnLst>
                  <p:par>
                    <p:cTn id="2043" fill="hold">
                      <p:stCondLst>
                        <p:cond delay="indefinite"/>
                      </p:stCondLst>
                      <p:childTnLst>
                        <p:par>
                          <p:cTn id="2044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7" dur="2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8" fill="hold">
                      <p:stCondLst>
                        <p:cond delay="indefinite"/>
                      </p:stCondLst>
                      <p:childTnLst>
                        <p:par>
                          <p:cTn id="2049" fill="hold">
                            <p:stCondLst>
                              <p:cond delay="0"/>
                            </p:stCondLst>
                            <p:childTnLst>
                              <p:par>
                                <p:cTn id="20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2" dur="2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3" fill="hold">
                      <p:stCondLst>
                        <p:cond delay="indefinite"/>
                      </p:stCondLst>
                      <p:childTnLst>
                        <p:par>
                          <p:cTn id="2054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7" dur="2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8" fill="hold">
                      <p:stCondLst>
                        <p:cond delay="indefinite"/>
                      </p:stCondLst>
                      <p:childTnLst>
                        <p:par>
                          <p:cTn id="2059" fill="hold">
                            <p:stCondLst>
                              <p:cond delay="0"/>
                            </p:stCondLst>
                            <p:childTnLst>
                              <p:par>
                                <p:cTn id="20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2" dur="2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3" fill="hold">
                      <p:stCondLst>
                        <p:cond delay="indefinite"/>
                      </p:stCondLst>
                      <p:childTnLst>
                        <p:par>
                          <p:cTn id="2064" fill="hold">
                            <p:stCondLst>
                              <p:cond delay="0"/>
                            </p:stCondLst>
                            <p:childTnLst>
                              <p:par>
                                <p:cTn id="20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7" dur="2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8" fill="hold">
                      <p:stCondLst>
                        <p:cond delay="indefinite"/>
                      </p:stCondLst>
                      <p:childTnLst>
                        <p:par>
                          <p:cTn id="2069" fill="hold">
                            <p:stCondLst>
                              <p:cond delay="0"/>
                            </p:stCondLst>
                            <p:childTnLst>
                              <p:par>
                                <p:cTn id="20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2" dur="2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5" dur="2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6" fill="hold">
                      <p:stCondLst>
                        <p:cond delay="indefinite"/>
                      </p:stCondLst>
                      <p:childTnLst>
                        <p:par>
                          <p:cTn id="2077" fill="hold">
                            <p:stCondLst>
                              <p:cond delay="0"/>
                            </p:stCondLst>
                            <p:childTnLst>
                              <p:par>
                                <p:cTn id="20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0" dur="2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1" fill="hold">
                      <p:stCondLst>
                        <p:cond delay="indefinite"/>
                      </p:stCondLst>
                      <p:childTnLst>
                        <p:par>
                          <p:cTn id="2082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5" dur="2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6" fill="hold">
                      <p:stCondLst>
                        <p:cond delay="indefinite"/>
                      </p:stCondLst>
                      <p:childTnLst>
                        <p:par>
                          <p:cTn id="2087" fill="hold">
                            <p:stCondLst>
                              <p:cond delay="0"/>
                            </p:stCondLst>
                            <p:childTnLst>
                              <p:par>
                                <p:cTn id="20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0" dur="2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1" fill="hold">
                      <p:stCondLst>
                        <p:cond delay="indefinite"/>
                      </p:stCondLst>
                      <p:childTnLst>
                        <p:par>
                          <p:cTn id="2092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5" dur="2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6" fill="hold">
                      <p:stCondLst>
                        <p:cond delay="indefinite"/>
                      </p:stCondLst>
                      <p:childTnLst>
                        <p:par>
                          <p:cTn id="2097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0" dur="2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795600" y="669960"/>
            <a:ext cx="164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al Latih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92720" y="1225440"/>
            <a:ext cx="99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7" name=""/>
              <p:cNvSpPr txBox="1"/>
              <p:nvPr/>
            </p:nvSpPr>
            <p:spPr>
              <a:xfrm>
                <a:off x="2133720" y="1752480"/>
                <a:ext cx="160020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2133720" y="2514600"/>
                <a:ext cx="12189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2133720" y="3352680"/>
                <a:ext cx="1371600" cy="6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0" name=""/>
              <p:cNvSpPr txBox="1"/>
              <p:nvPr/>
            </p:nvSpPr>
            <p:spPr>
              <a:xfrm>
                <a:off x="2133720" y="4191120"/>
                <a:ext cx="137160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1" name=""/>
              <p:cNvSpPr txBox="1"/>
              <p:nvPr/>
            </p:nvSpPr>
            <p:spPr>
              <a:xfrm>
                <a:off x="2133720" y="4965840"/>
                <a:ext cx="12952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t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62" name=""/>
          <p:cNvSpPr/>
          <p:nvPr/>
        </p:nvSpPr>
        <p:spPr>
          <a:xfrm>
            <a:off x="0" y="23670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0" y="27576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0" y="3147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0" y="35384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0" y="39290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1449360" y="191124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449360" y="267336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449360" y="351144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1449360" y="434988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1449360" y="511164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3DB3B-EEC9-4E67-89DC-4054BD82E36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1" dur="indefinite" restart="never" nodeType="tmRoot">
          <p:childTnLst>
            <p:seq>
              <p:cTn id="2102" dur="indefinite" nodeType="mainSeq">
                <p:childTnLst>
                  <p:par>
                    <p:cTn id="2103" fill="hold">
                      <p:stCondLst>
                        <p:cond delay="indefinite"/>
                      </p:stCondLst>
                      <p:childTnLst>
                        <p:par>
                          <p:cTn id="2104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7" dur="2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0" dur="2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1" fill="hold">
                      <p:stCondLst>
                        <p:cond delay="indefinite"/>
                      </p:stCondLst>
                      <p:childTnLst>
                        <p:par>
                          <p:cTn id="2112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5" dur="2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8" dur="2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9" fill="hold">
                      <p:stCondLst>
                        <p:cond delay="indefinite"/>
                      </p:stCondLst>
                      <p:childTnLst>
                        <p:par>
                          <p:cTn id="2120" fill="hold">
                            <p:stCondLst>
                              <p:cond delay="0"/>
                            </p:stCondLst>
                            <p:childTnLst>
                              <p:par>
                                <p:cTn id="2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3" dur="2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6" dur="2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7" fill="hold">
                      <p:stCondLst>
                        <p:cond delay="indefinite"/>
                      </p:stCondLst>
                      <p:childTnLst>
                        <p:par>
                          <p:cTn id="2128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1" dur="2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4" dur="2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fill="hold">
                      <p:stCondLst>
                        <p:cond delay="indefinite"/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9" dur="2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2" dur="2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3" fill="hold">
                      <p:stCondLst>
                        <p:cond delay="indefinite"/>
                      </p:stCondLst>
                      <p:childTnLst>
                        <p:par>
                          <p:cTn id="2144" fill="hold">
                            <p:stCondLst>
                              <p:cond delay="0"/>
                            </p:stCondLst>
                            <p:childTnLst>
                              <p:par>
                                <p:cTn id="2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7" dur="2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0" dur="2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77800" y="609480"/>
            <a:ext cx="710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 kemungkinan integran (f(x)) muncul lagi diruas kan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92640" y="1295280"/>
            <a:ext cx="193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oh Hi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32907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590920" y="1214280"/>
                <a:ext cx="167616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782640" y="1965240"/>
            <a:ext cx="109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wab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2743200"/>
            <a:ext cx="3962520" cy="213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895480" y="1946160"/>
                <a:ext cx="15242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676520" y="3862440"/>
                <a:ext cx="83808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447920" y="5033880"/>
                <a:ext cx="19047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592920" y="2901960"/>
            <a:ext cx="11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) Mis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3289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676520" y="2840040"/>
                <a:ext cx="91440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2590920" y="31050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33526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3048120" y="2847960"/>
                <a:ext cx="129528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u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1175760" y="3352680"/>
            <a:ext cx="143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v=cosxd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743200" y="3581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123360" y="3371760"/>
            <a:ext cx="9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=sin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32907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4572000" y="1905120"/>
                <a:ext cx="342900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 rot="10800000">
            <a:off x="6248160" y="1218960"/>
            <a:ext cx="1981080" cy="533160"/>
          </a:xfrm>
          <a:prstGeom prst="wedgeRectCallout">
            <a:avLst>
              <a:gd name="adj1" fmla="val 18268"/>
              <a:gd name="adj2" fmla="val -8274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338160" y="1295280"/>
            <a:ext cx="199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gral pars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9200" y="3892680"/>
            <a:ext cx="122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i) Mis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14600" y="4122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2971800" y="3865680"/>
                <a:ext cx="129528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u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1499760" y="4273560"/>
            <a:ext cx="151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v = sinxd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048120" y="4495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43680" y="425124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=-cos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2907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4572000" y="2619360"/>
                <a:ext cx="525780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</m:e>
                    </m:nary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0" y="32907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4572000" y="3276720"/>
                <a:ext cx="502920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</m:e>
                    </m:nary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7238880" y="3962520"/>
            <a:ext cx="2362320" cy="761760"/>
          </a:xfrm>
          <a:prstGeom prst="wedgeRectCallout">
            <a:avLst>
              <a:gd name="adj1" fmla="val -8263"/>
              <a:gd name="adj2" fmla="val -7604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223040" y="4022640"/>
            <a:ext cx="2454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gral yang dicari ,bawa keruas kan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33289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3376440" y="5029200"/>
                <a:ext cx="378648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523880" y="5791320"/>
                <a:ext cx="182880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429000" y="5791320"/>
                <a:ext cx="428940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A7785-B7FB-4EF3-91F7-58D49800622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2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7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0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al latih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56560" y="125244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tu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52480" y="1685880"/>
                <a:ext cx="106704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e</m:t>
                        </m:r>
                      </m:sup>
                      <m:e>
                        <m:r>
                          <m:t xml:space="preserve">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0" y="32907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695600" y="2590920"/>
                <a:ext cx="1295280" cy="59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0" y="32907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1676520" y="3200400"/>
                <a:ext cx="17524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0" y="32907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676520" y="3886200"/>
                <a:ext cx="15238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0" y="32907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676520" y="4648320"/>
                <a:ext cx="144756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1066680" y="3276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1676520" y="5410080"/>
                <a:ext cx="198108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1052280" y="198756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10880" y="267336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92160" y="320688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92160" y="396864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92160" y="488304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92160" y="556884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AF123-0DFC-47BD-9834-09AAF5C9044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11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9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0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5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8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3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1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4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3333ff"/>
                </a:solidFill>
                <a:latin typeface="Arial"/>
              </a:rPr>
              <a:t>9.2 Integral Fungsi Trigonomet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95360" y="1447920"/>
            <a:ext cx="9182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3333ff"/>
                </a:solidFill>
                <a:latin typeface="Tahoma"/>
              </a:rPr>
              <a:t>Bentuk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Tahoma"/>
              </a:rPr>
              <a:t>* Untuk </a:t>
            </a:r>
            <a:r>
              <a:rPr b="0" i="1" lang="id-ID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id-ID" sz="2000" spc="-1" strike="noStrike">
                <a:solidFill>
                  <a:srgbClr val="000000"/>
                </a:solidFill>
                <a:latin typeface="Tahoma"/>
              </a:rPr>
              <a:t> ganjil,  Tuliskan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Tahoma"/>
              </a:rPr>
              <a:t>dan gunakan identit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id-ID" sz="2000" spc="-1" strike="noStrike">
                <a:solidFill>
                  <a:srgbClr val="000000"/>
                </a:solidFill>
                <a:latin typeface="Tahoma"/>
              </a:rPr>
              <a:t>* Untuk </a:t>
            </a:r>
            <a:r>
              <a:rPr b="0" i="1" lang="id-ID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id-ID" sz="2000" spc="-1" strike="noStrike">
                <a:solidFill>
                  <a:srgbClr val="000000"/>
                </a:solidFill>
                <a:latin typeface="Tahoma"/>
              </a:rPr>
              <a:t> genap, Tuliskan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d-ID" sz="2000" spc="-1" strike="noStrike">
                <a:solidFill>
                  <a:srgbClr val="000000"/>
                </a:solidFill>
                <a:latin typeface="Tahoma"/>
              </a:rPr>
              <a:t>dan gunakan identit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00" y="-72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587600" y="1741320"/>
                <a:ext cx="31366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∧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1080" y="56880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1219320" y="2581200"/>
                <a:ext cx="363204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a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4876920" y="2562120"/>
                <a:ext cx="297180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3486240" y="3181320"/>
                <a:ext cx="22287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1080" y="236880"/>
            <a:ext cx="27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208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79480" y="19944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30099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79480" y="339156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1751040" y="4495680"/>
                <a:ext cx="632628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an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3581280" y="4991040"/>
                <a:ext cx="445788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1080" y="275040"/>
            <a:ext cx="27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3309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3C122-C1AA-42F5-85B8-BE3E72DB62DB}" type="slidenum">
              <a:t>6</a:t>
            </a:fld>
          </a:p>
        </p:txBody>
      </p:sp>
    </p:spTree>
  </p:cSld>
  <p:transition spd="med">
    <p:split dir="out" orient="vert"/>
    <p:sndAc>
      <p:stSnd>
        <p:snd r:embed="rId1" name="camera.wav"/>
      </p:stSnd>
    </p:sndAc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1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6" dur="2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6" dur="2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1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4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9" dur="20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7" dur="20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2" dur="20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7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2" dur="2000"/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7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1371600" y="3030480"/>
                <a:ext cx="320040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4648320" y="3048120"/>
                <a:ext cx="236196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</m:t>
                        </m:r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7086600" y="3059280"/>
                <a:ext cx="24382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912240" y="844560"/>
            <a:ext cx="20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oh Hitu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32907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1981080" y="1371600"/>
                <a:ext cx="137160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1433160" y="150804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82320" y="252108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wa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32907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968480" y="1981080"/>
                <a:ext cx="12952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1433160" y="206388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92160" y="308628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92160" y="388620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32907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1447920" y="3886200"/>
                <a:ext cx="327636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0" y="3233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4876920" y="3822840"/>
                <a:ext cx="304776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2" name=""/>
          <p:cNvSpPr/>
          <p:nvPr/>
        </p:nvSpPr>
        <p:spPr>
          <a:xfrm>
            <a:off x="0" y="3233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2590920" y="4495680"/>
                <a:ext cx="32004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0" y="3233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5867280" y="4572000"/>
                <a:ext cx="38862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(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−</m:t>
                        </m:r>
                      </m:e>
                    </m:nary>
                    <m:r>
                      <m:t xml:space="preserve">2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+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>
            <a:off x="0" y="3233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2666880" y="5257800"/>
                <a:ext cx="358164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0" y="3233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6400800" y="5237280"/>
                <a:ext cx="312408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84775-5C01-4CF1-99DB-9477FEB72A2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4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2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7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5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3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8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8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1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6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1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1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6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95360" y="533160"/>
            <a:ext cx="91058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3333ff"/>
                </a:solidFill>
                <a:latin typeface="Tahoma"/>
              </a:rPr>
              <a:t>Bentu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Tahoma"/>
              </a:rPr>
              <a:t>a). Untuk </a:t>
            </a:r>
            <a:r>
              <a:rPr b="0" i="1" lang="id-ID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id-ID" sz="2000" spc="-1" strike="noStrike">
                <a:solidFill>
                  <a:srgbClr val="000000"/>
                </a:solidFill>
                <a:latin typeface="Tahoma"/>
              </a:rPr>
              <a:t> atau </a:t>
            </a:r>
            <a:r>
              <a:rPr b="0" i="1" lang="id-ID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id-ID" sz="2000" spc="-1" strike="noStrike">
                <a:solidFill>
                  <a:srgbClr val="000000"/>
                </a:solidFill>
                <a:latin typeface="Tahoma"/>
              </a:rPr>
              <a:t> ganjil, keluarkan sin </a:t>
            </a:r>
            <a:r>
              <a:rPr b="0" i="1" lang="id-ID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d-ID" sz="2000" spc="-1" strike="noStrike">
                <a:solidFill>
                  <a:srgbClr val="000000"/>
                </a:solidFill>
                <a:latin typeface="Tahoma"/>
              </a:rPr>
              <a:t> atau cos </a:t>
            </a:r>
            <a:r>
              <a:rPr b="0" i="1" lang="id-ID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d-ID" sz="2000" spc="-1" strike="noStrike">
                <a:solidFill>
                  <a:srgbClr val="000000"/>
                </a:solidFill>
                <a:latin typeface="Tahoma"/>
              </a:rPr>
              <a:t> d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id-ID" sz="2000" spc="-1" strike="noStrike">
                <a:solidFill>
                  <a:srgbClr val="000000"/>
                </a:solidFill>
                <a:latin typeface="Tahoma"/>
              </a:rPr>
              <a:t>gunakan identi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Tahoma"/>
              </a:rPr>
              <a:t>b). Untuk </a:t>
            </a:r>
            <a:r>
              <a:rPr b="0" i="1" lang="id-ID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id-ID" sz="2000" spc="-1" strike="noStrike">
                <a:solidFill>
                  <a:srgbClr val="000000"/>
                </a:solidFill>
                <a:latin typeface="Tahoma"/>
              </a:rPr>
              <a:t> dan </a:t>
            </a:r>
            <a:r>
              <a:rPr b="0" i="1" lang="id-ID" sz="20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id-ID" sz="2000" spc="-1" strike="noStrike">
                <a:solidFill>
                  <a:srgbClr val="000000"/>
                </a:solidFill>
                <a:latin typeface="Tahoma"/>
              </a:rPr>
              <a:t>genap, tuliskan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id-ID" sz="2000" spc="-1" strike="noStrike">
                <a:solidFill>
                  <a:srgbClr val="000000"/>
                </a:solidFill>
                <a:latin typeface="Tahoma"/>
              </a:rPr>
              <a:t>menjadi jumlah suku-suku dalam cosinus, gunak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id-ID" sz="2000" spc="-1" strike="noStrike">
                <a:solidFill>
                  <a:srgbClr val="000000"/>
                </a:solidFill>
                <a:latin typeface="Tahoma"/>
              </a:rPr>
              <a:t>identi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id-ID" sz="2000" spc="-1" strike="noStrike">
                <a:solidFill>
                  <a:srgbClr val="3333ff"/>
                </a:solidFill>
                <a:latin typeface="Tahoma"/>
              </a:rPr>
              <a:t>Contoh :</a:t>
            </a:r>
            <a:r>
              <a:rPr b="0" lang="id-ID" sz="2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838080" y="4365720"/>
                <a:ext cx="502920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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0" y="30812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080" y="3470760"/>
            <a:ext cx="27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1847880" y="762120"/>
                <a:ext cx="22287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1080" y="294120"/>
            <a:ext cx="27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352680" y="1870200"/>
                <a:ext cx="2387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1080" y="236880"/>
            <a:ext cx="27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2362320" y="3257640"/>
                <a:ext cx="510516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3" name=""/>
          <p:cNvSpPr/>
          <p:nvPr/>
        </p:nvSpPr>
        <p:spPr>
          <a:xfrm>
            <a:off x="1080" y="275040"/>
            <a:ext cx="27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-680760" y="21218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2971800" y="5602320"/>
                <a:ext cx="335268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6" name=""/>
          <p:cNvSpPr/>
          <p:nvPr/>
        </p:nvSpPr>
        <p:spPr>
          <a:xfrm>
            <a:off x="0" y="31291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080" y="3423240"/>
            <a:ext cx="27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31622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4876920" y="2647800"/>
                <a:ext cx="264132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an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1080" y="3389760"/>
            <a:ext cx="27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5842080" y="4343400"/>
                <a:ext cx="40640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e>
                        </m:d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2971800" y="5029200"/>
                <a:ext cx="411480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A9F82-EF0A-4C4B-9DC2-3CB602507940}" type="slidenum">
              <a:t>8</a:t>
            </a:fld>
          </a:p>
        </p:txBody>
      </p:sp>
    </p:spTree>
  </p:cSld>
  <p:transition spd="med">
    <p:split dir="out" orient="vert"/>
    <p:sndAc>
      <p:stSnd>
        <p:snd r:embed="rId1" name="camera.wav"/>
      </p:stSnd>
    </p:sndAc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3" dur="20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6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1" dur="20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4" dur="20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7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2" dur="2000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5" dur="2000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8" dur="2000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1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4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9" dur="2000"/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4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9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4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9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1295280" y="914400"/>
                <a:ext cx="441972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84" name=""/>
          <p:cNvSpPr/>
          <p:nvPr/>
        </p:nvSpPr>
        <p:spPr>
          <a:xfrm>
            <a:off x="0" y="3233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2971800" y="1676520"/>
                <a:ext cx="20574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86" name=""/>
          <p:cNvSpPr/>
          <p:nvPr/>
        </p:nvSpPr>
        <p:spPr>
          <a:xfrm>
            <a:off x="0" y="3233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5181480" y="1706400"/>
                <a:ext cx="213372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(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8" name=""/>
          <p:cNvSpPr/>
          <p:nvPr/>
        </p:nvSpPr>
        <p:spPr>
          <a:xfrm>
            <a:off x="0" y="3233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2971800" y="2438280"/>
                <a:ext cx="22096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90" name=""/>
          <p:cNvSpPr/>
          <p:nvPr/>
        </p:nvSpPr>
        <p:spPr>
          <a:xfrm>
            <a:off x="0" y="3233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2971800" y="3200400"/>
                <a:ext cx="198108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B4797-B8D0-46FF-9892-2368417993A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6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1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6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1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6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6:06:57Z</dcterms:created>
  <dc:creator>Muthi-Wafa</dc:creator>
  <dc:description/>
  <dc:language>en-US</dc:language>
  <cp:lastModifiedBy>jdn</cp:lastModifiedBy>
  <dcterms:modified xsi:type="dcterms:W3CDTF">2006-08-23T05:00:36Z</dcterms:modified>
  <cp:revision>60</cp:revision>
  <dc:subject/>
  <dc:title>TEKNIK PENGINTEGRALAN</dc:title>
</cp:coreProperties>
</file>