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995-76D7-4F28-91ED-3D027F2C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828-A994-44F4-B1FE-9D7CCA6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16B-DA3F-4C92-8919-E57F8A88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C62-F4AC-4C51-AEAA-928D0E94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C53-070C-4E8A-8915-BD536363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B65-C0A2-40EB-AED0-54D1D07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397-3884-4548-A635-E304176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228-EE45-47CF-A5AF-F9CA099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76E-5409-49DE-95A6-EAD8668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CFF-FCB3-47B7-89FE-E425072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854-77AB-48BF-B329-21747F0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23D-1894-4D4D-B49E-861A7DE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2F2B-AC71-4529-B96E-65891AE149C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2920" y="1538280"/>
            <a:ext cx="57214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نأتي بذبيحة الشك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5720" y="1600200"/>
            <a:ext cx="415080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للرب الإل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1960" y="2638440"/>
            <a:ext cx="761040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و نقدم له ذبائح تسبيح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1880" y="3828960"/>
            <a:ext cx="8113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و نقدم له ذبائح فرح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أتي بذبيحة الشك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7:02:44Z</dcterms:created>
  <dc:creator>church</dc:creator>
  <dc:description/>
  <dc:language>en-US</dc:language>
  <cp:lastModifiedBy>ZonaNet</cp:lastModifiedBy>
  <dcterms:modified xsi:type="dcterms:W3CDTF">2008-09-19T10:12:09Z</dcterms:modified>
  <cp:revision>19</cp:revision>
  <dc:subject/>
  <dc:title>PowerPoint Presentation</dc:title>
</cp:coreProperties>
</file>