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EC8-2A0C-45FF-9E4A-5A767C5F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94E-34F7-4E36-B540-CB8F145E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EF2-6296-46DB-BB46-55C81C1F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BAB-992D-4248-9457-B17B27B8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5A5-65D1-4A3F-8B18-EC6F627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502-18B6-456D-8E3A-ADF141A5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C63-A14F-4708-8546-8130839F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D82-03E0-4120-B230-CE2C79E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719-39C2-4970-B7EA-41E17A0D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494-9955-40E6-BB6C-E09B5B5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91B-370E-4274-B48A-5AE9BD4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B54-6ED4-4AAA-8188-C0821C5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368-0721-4686-827A-9448D0BC5A7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2920" y="1538280"/>
            <a:ext cx="57214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نأتي بذبيحة الشكر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45720" y="1600200"/>
            <a:ext cx="415080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للرب الإل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1960" y="2638440"/>
            <a:ext cx="761040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و نقدم له ذبائح تسبيح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1880" y="3828960"/>
            <a:ext cx="8113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و نقدم له ذبائح فرح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ial"/>
              </a:rPr>
              <a:t>نأتي بذبيحة الشك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7:02:44Z</dcterms:created>
  <dc:creator>church</dc:creator>
  <dc:description/>
  <dc:language>en-US</dc:language>
  <cp:lastModifiedBy>ZonaNet</cp:lastModifiedBy>
  <dcterms:modified xsi:type="dcterms:W3CDTF">2008-09-19T10:12:09Z</dcterms:modified>
  <cp:revision>19</cp:revision>
  <dc:subject/>
  <dc:title>PowerPoint Presentation</dc:title>
</cp:coreProperties>
</file>