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B3DF-00E6-4C70-8849-19EC8CE4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B6F3-2C15-4B77-99AA-D807ACED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6C5D-490C-491E-AA7A-2AFBA47C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ED6-3354-4475-AA1D-CE65D9C9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2324-DD52-4A5E-990F-1656665C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4732-5C17-4431-83E9-2BBBF85B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4F8A-3EDD-4634-A2A1-2EF5C15C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EDF1-39AA-497A-918E-AB6E213A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F5E6-9171-4998-B5F1-C92A9585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6452-51E2-4B2C-8ADC-1835055A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EA26-09DC-4FD6-AFDD-6BF8879A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D344-6655-43BE-9371-EE5F9127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AECC82-5B42-4564-BBA2-43F07A2F558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CBD41-2AFA-4EEE-BDBB-8C2649923282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7:20:09Z</dcterms:created>
  <dc:creator>최봉수</dc:creator>
  <dc:description/>
  <dc:language>en-US</dc:language>
  <cp:lastModifiedBy>맛있다 군만두</cp:lastModifiedBy>
  <dcterms:modified xsi:type="dcterms:W3CDTF">2024-10-01T02:43:59Z</dcterms:modified>
  <cp:revision>3</cp:revision>
  <dc:subject/>
  <dc:title>슬라이드 1</dc:title>
</cp:coreProperties>
</file>