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22DD-B365-4F62-8843-2AC565F07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B15C-4C21-49BC-A497-9B498EC7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39B7-559B-4E45-9182-EA016A8D9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EB85-F587-4532-B3E8-63069004F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2DD9-6BFC-480E-A81F-67135F42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8C0D-C58F-43ED-BC00-F175A18C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1548-4007-4149-97B3-DDD9BF0F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AD52-09DE-4D86-A580-E134276D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A537-F9EB-48A6-ACAA-776003F1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79C6-5518-485D-BAFB-55A0D47C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C0C6-60A2-4790-8550-5B5427D9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D58D-2B45-482E-AD87-1E9E3B04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C0B8C9-8AE0-4D5C-9683-8899C6A81A2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F746DE-183F-4E32-A126-530ABE05AD67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17:20:09Z</dcterms:created>
  <dc:creator>최봉수</dc:creator>
  <dc:description/>
  <dc:language>en-US</dc:language>
  <cp:lastModifiedBy>맛있다 군만두</cp:lastModifiedBy>
  <dcterms:modified xsi:type="dcterms:W3CDTF">2024-10-01T02:43:59Z</dcterms:modified>
  <cp:revision>3</cp:revision>
  <dc:subject/>
  <dc:title>슬라이드 1</dc:title>
</cp:coreProperties>
</file>