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6.wmf" ContentType="image/x-wmf"/>
  <Override PartName="/ppt/media/image25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2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8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36.wmf" ContentType="image/x-wmf"/>
  <Override PartName="/ppt/media/image38.png" ContentType="image/png"/>
  <Override PartName="/ppt/media/image40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3.gif" ContentType="image/gif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2360" y="693360"/>
            <a:ext cx="455328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CCDC-4705-40BD-927A-7D21446E95D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4AE5-827A-447C-A98E-CD6201E309D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6C34-9D19-4FC2-9EDB-56BD023BF2B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1.  The average person dislikes work: will avoid it if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 2.  To most workers, work is as natural as play or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 3.  Most workers do not need close supervision when committed to an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4.  Most workers must be directed, controlled or threatened to perform 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 5.  Most workers are committed to objectives when rewarded for achie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6.  Most people hate change and lack creative 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7.  The average worker is self-centered, not concerned with corporate ob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8.  Most workers not only accept, but seek respons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9.  The average worker has a relatively high degree of imagination and ingen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10.  Most workers lack ambition, avoid respons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11.  Most workers seek security and economic rewards above all el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12.  Most workers are capable of self-direction and self-control when motiv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05C5-46C9-4161-A478-D562D15C953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4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15BE-B90C-4D6B-8753-E833BF4ED48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4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2132-5C2E-42B1-8FB5-E5D6449BA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6F2A-6528-4A12-86B8-245D4F46C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9B4C-7536-4DF8-B55C-5D6AA6E2D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DF86-DD19-442D-90BD-ABEDA2561E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4806-AA95-429F-BDDE-856E66A2F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01AE-A24E-47FC-9909-898376EC1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31A4-8E76-4207-912A-ABF0201F4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4C6E-470E-4C85-B918-458CFED6A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55D7-D0A5-4E5F-8EC1-006FC3037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A1A0-574A-4712-AD8D-B93CC9942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2D9D-C901-4880-99DD-6F0C83660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D55E-22FF-46AC-9442-6EFA2AD36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63080" y="6638400"/>
            <a:ext cx="576000" cy="1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0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F491-D27A-4A31-BA4B-25A005110A21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8D38-7E49-48D8-885C-72A96B1DAF8F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380880" y="396720"/>
            <a:ext cx="83012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SHAcademy Course 7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fety Leadership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6" descr=""/>
          <p:cNvPicPr/>
          <p:nvPr/>
        </p:nvPicPr>
        <p:blipFill>
          <a:blip r:embed="rId1"/>
          <a:stretch/>
        </p:blipFill>
        <p:spPr>
          <a:xfrm>
            <a:off x="1219320" y="1595520"/>
            <a:ext cx="6875280" cy="5068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2"/>
          <p:cNvSpPr/>
          <p:nvPr/>
        </p:nvSpPr>
        <p:spPr>
          <a:xfrm rot="20946600">
            <a:off x="2364480" y="4630680"/>
            <a:ext cx="3907080" cy="109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Welcome</a:t>
            </a:r>
            <a:r>
              <a:rPr b="0" i="1" lang="en-US" sz="6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EF62-889C-4BF5-BB29-47F3B10B3904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26"/>
          <p:cNvSpPr/>
          <p:nvPr/>
        </p:nvSpPr>
        <p:spPr>
          <a:xfrm>
            <a:off x="685800" y="380988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ink of someone who you have considered a leader and discuss the attributes they hav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st the attributes discu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27" descr="j0230580"/>
          <p:cNvPicPr/>
          <p:nvPr/>
        </p:nvPicPr>
        <p:blipFill>
          <a:blip r:embed="rId1"/>
          <a:stretch/>
        </p:blipFill>
        <p:spPr>
          <a:xfrm>
            <a:off x="2743200" y="152280"/>
            <a:ext cx="32702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87F8-4EAD-40FE-B173-0266748DF6D3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80880" y="565200"/>
            <a:ext cx="67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ome attribut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85800" y="1828800"/>
            <a:ext cx="41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MOTIONAL 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HYSICAL 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CIS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029200" y="16002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OMPETI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ELF-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EN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EPEN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EWAR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B9E4-A5B4-4486-B5C5-3AEDAC73D73D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4920" y="2457360"/>
            <a:ext cx="84661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You have subordinates, but no fol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eople do what you say because they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ople do what you say because you occupy a posi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Your influence does not extend beyond the lines of your job descrip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longer you stay here, the higher the turnover and lower the mor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937080" y="1314360"/>
            <a:ext cx="316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ep 1 - The B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ject 5" descr=""/>
          <p:cNvPicPr/>
          <p:nvPr/>
        </p:nvPicPr>
        <p:blipFill>
          <a:blip r:embed="rId1"/>
          <a:stretch/>
        </p:blipFill>
        <p:spPr>
          <a:xfrm>
            <a:off x="6583320" y="971640"/>
            <a:ext cx="1951200" cy="148572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50400" y="825480"/>
            <a:ext cx="1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BD61-DC04-4567-A753-51CA183E1866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406440" y="2590920"/>
            <a:ext cx="81280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eadership by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eople want to follow: they give you permission to lea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ople will follow you beyond your stated author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s level allows work to be fu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74160" y="1257480"/>
            <a:ext cx="338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tep 2 - The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5791320" y="857160"/>
            <a:ext cx="2319120" cy="1962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1524-2665-4344-A64A-BEC47FDF1D6D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50"/>
          <p:cNvSpPr/>
          <p:nvPr/>
        </p:nvSpPr>
        <p:spPr>
          <a:xfrm>
            <a:off x="406440" y="2362320"/>
            <a:ext cx="8128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eople follow because of what you do for the organiza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s is where success is sensed by most peopl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y like you and what you are do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roblems are fixed with very little effort because of mom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51"/>
          <p:cNvSpPr/>
          <p:nvPr/>
        </p:nvSpPr>
        <p:spPr>
          <a:xfrm>
            <a:off x="950760" y="1257480"/>
            <a:ext cx="3857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ep 3 - The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bject 2052" descr=""/>
          <p:cNvPicPr/>
          <p:nvPr/>
        </p:nvPicPr>
        <p:blipFill>
          <a:blip r:embed="rId1"/>
          <a:stretch/>
        </p:blipFill>
        <p:spPr>
          <a:xfrm>
            <a:off x="6095880" y="547560"/>
            <a:ext cx="2641680" cy="2133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054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4F42-BF87-4875-B2A5-964995B521BD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14360" y="3200400"/>
            <a:ext cx="8128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eople follow because of what you do for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is is where long-range growth occur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Your commitment to developing leaders will insure ongoing growth to the organization and to peop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o whatever you can to achieve and stay on this level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14360" y="1733400"/>
            <a:ext cx="598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ep 4 - Th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4" descr=""/>
          <p:cNvPicPr/>
          <p:nvPr/>
        </p:nvPicPr>
        <p:blipFill>
          <a:blip r:embed="rId1"/>
          <a:stretch/>
        </p:blipFill>
        <p:spPr>
          <a:xfrm>
            <a:off x="5943600" y="596880"/>
            <a:ext cx="2311560" cy="2273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26FF-49CF-4AE1-8144-F0519352505D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26"/>
          <p:cNvSpPr/>
          <p:nvPr/>
        </p:nvSpPr>
        <p:spPr>
          <a:xfrm>
            <a:off x="406440" y="6458040"/>
            <a:ext cx="84153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apted from:  John C. Maxw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eveloping the Leader in Yo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Nelson Pub. p.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385920" y="2819520"/>
            <a:ext cx="803880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eople follow because of who you are and what you represen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s step is reserved for leaders who have spent years growing people and organiz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Few make it: Those who do are bigger than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28"/>
          <p:cNvSpPr/>
          <p:nvPr/>
        </p:nvSpPr>
        <p:spPr>
          <a:xfrm>
            <a:off x="385920" y="1332000"/>
            <a:ext cx="6400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tep 5 - The Champ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1029" descr=""/>
          <p:cNvPicPr/>
          <p:nvPr/>
        </p:nvPicPr>
        <p:blipFill>
          <a:blip r:embed="rId1"/>
          <a:stretch/>
        </p:blipFill>
        <p:spPr>
          <a:xfrm>
            <a:off x="6451560" y="249120"/>
            <a:ext cx="2082960" cy="2165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31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87F3-B43D-45EC-B79F-CAE4D3E99774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038480" y="1295280"/>
            <a:ext cx="3353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Walkin' the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07960" y="3149640"/>
            <a:ext cx="8255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Review the leadership quality discussed earl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ink about how you, as an employee, supervisor, or manager can demonstrate three leadership qua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List the qualities and write specific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iscuss ideas with your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PE01479_"/>
          <p:cNvPicPr/>
          <p:nvPr/>
        </p:nvPicPr>
        <p:blipFill>
          <a:blip r:embed="rId1"/>
          <a:stretch/>
        </p:blipFill>
        <p:spPr>
          <a:xfrm>
            <a:off x="1447920" y="533520"/>
            <a:ext cx="2185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876240" y="1295280"/>
            <a:ext cx="73915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Attitude Check!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’s your leadership styl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E02485_"/>
          <p:cNvPicPr/>
          <p:nvPr/>
        </p:nvPicPr>
        <p:blipFill>
          <a:blip r:embed="rId1"/>
          <a:stretch/>
        </p:blipFill>
        <p:spPr>
          <a:xfrm>
            <a:off x="2971800" y="3429000"/>
            <a:ext cx="327672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3E52-025B-421A-AD28-843B013041D1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507960" y="569880"/>
            <a:ext cx="8128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1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eaders understand cause and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push"/>
          <p:cNvPicPr/>
          <p:nvPr/>
        </p:nvPicPr>
        <p:blipFill>
          <a:blip r:embed="rId1"/>
          <a:stretch/>
        </p:blipFill>
        <p:spPr>
          <a:xfrm>
            <a:off x="380880" y="228600"/>
            <a:ext cx="2387880" cy="1736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380880" y="2362320"/>
            <a:ext cx="82551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If a leader wants employees who care about their work, he or she must demonstrate care for employ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If a leader desires honest and fair employee behavior, he or she must treat employees with honesty and fairn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If a leader expects selfless employee performance, he or she must be selfl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6970-F911-4CF6-B17E-229F48895961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26"/>
          <p:cNvSpPr/>
          <p:nvPr/>
        </p:nvSpPr>
        <p:spPr>
          <a:xfrm>
            <a:off x="3890880" y="2006640"/>
            <a:ext cx="48103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Train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Traine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E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27" descr="steve"/>
          <p:cNvPicPr/>
          <p:nvPr/>
        </p:nvPicPr>
        <p:blipFill>
          <a:blip r:embed="rId1"/>
          <a:stretch/>
        </p:blipFill>
        <p:spPr>
          <a:xfrm>
            <a:off x="627120" y="1069920"/>
            <a:ext cx="3714840" cy="519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28" descr="j0254504"/>
          <p:cNvPicPr/>
          <p:nvPr/>
        </p:nvPicPr>
        <p:blipFill>
          <a:blip r:embed="rId2">
            <a:lum bright="62000"/>
          </a:blip>
          <a:stretch/>
        </p:blipFill>
        <p:spPr>
          <a:xfrm>
            <a:off x="1779480" y="137304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367720" y="685800"/>
            <a:ext cx="222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own image or pho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C05A-0426-4A42-84DB-A3829F7A1873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29" descr="j0078742"/>
          <p:cNvPicPr/>
          <p:nvPr/>
        </p:nvPicPr>
        <p:blipFill>
          <a:blip r:embed="rId1"/>
          <a:stretch/>
        </p:blipFill>
        <p:spPr>
          <a:xfrm>
            <a:off x="420840" y="604800"/>
            <a:ext cx="1904760" cy="1527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4"/>
          <p:cNvSpPr/>
          <p:nvPr/>
        </p:nvSpPr>
        <p:spPr>
          <a:xfrm>
            <a:off x="457200" y="30492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Leadership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35"/>
          <p:cNvSpPr/>
          <p:nvPr/>
        </p:nvSpPr>
        <p:spPr>
          <a:xfrm>
            <a:off x="482760" y="2608200"/>
            <a:ext cx="818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’re tough (insist on safety) because you care about your employe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r approach is to support and serve those you lead.  It’s all abou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’re interested in every employee’s su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 exhibit high trust and give the credit to your “tea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’re confident and exhibit high self-este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36"/>
          <p:cNvSpPr/>
          <p:nvPr/>
        </p:nvSpPr>
        <p:spPr>
          <a:xfrm>
            <a:off x="2594520" y="1332000"/>
            <a:ext cx="61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Are you a Tough - Caring Leade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E6D8-D105-4C61-A2D6-B99A898DDA5A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2209680"/>
            <a:ext cx="8334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You’re tough (insist on safety) to stay out of trou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You’re approach is to maintain control and to be served by others.  It’s all about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You’re concerned more about your own success than that of your “subordinate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Because lack trust and take all the credit for any team succ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You lack confidence and are fearful.  That’s why you must control everything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j0078734"/>
          <p:cNvPicPr/>
          <p:nvPr/>
        </p:nvPicPr>
        <p:blipFill>
          <a:blip r:embed="rId1"/>
          <a:stretch/>
        </p:blipFill>
        <p:spPr>
          <a:xfrm>
            <a:off x="304920" y="380880"/>
            <a:ext cx="1854000" cy="1393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912680" y="596880"/>
            <a:ext cx="68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re you a Tough - Controlling Leade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D03-5402-4439-A081-5EDE50205085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728800" y="533520"/>
            <a:ext cx="449424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eaders demonstrate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0" descr="j0230498"/>
          <p:cNvPicPr/>
          <p:nvPr/>
        </p:nvPicPr>
        <p:blipFill>
          <a:blip r:embed="rId1"/>
          <a:stretch/>
        </p:blipFill>
        <p:spPr>
          <a:xfrm>
            <a:off x="709560" y="355680"/>
            <a:ext cx="1549440" cy="1174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282400" y="2232000"/>
            <a:ext cx="44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2512800" y="2357280"/>
            <a:ext cx="6134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5410080" y="4038480"/>
            <a:ext cx="19148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725480" y="2203560"/>
            <a:ext cx="512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3125880" y="3079800"/>
            <a:ext cx="6987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19720" y="4038480"/>
            <a:ext cx="1054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4570200" y="3927600"/>
            <a:ext cx="605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3300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3917520" y="3135240"/>
            <a:ext cx="20566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2C4F-CA30-44F0-8BB6-FC43CEB3EFB8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709560" y="3886200"/>
            <a:ext cx="787572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Brainstorm this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Discuss and list ways your managers have demonstrated commitment to safety and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PE07303_"/>
          <p:cNvPicPr/>
          <p:nvPr/>
        </p:nvPicPr>
        <p:blipFill>
          <a:blip r:embed="rId1"/>
          <a:stretch/>
        </p:blipFill>
        <p:spPr>
          <a:xfrm>
            <a:off x="2819520" y="800280"/>
            <a:ext cx="30668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4442-341B-4E95-A790-6C30910A8E32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57200" y="3200400"/>
            <a:ext cx="8229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aders develop trust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ck of trust and credibility between labor and management is the most frequent obstacle to improving safety cul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How do leaders build trust and cred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j0196386"/>
          <p:cNvPicPr/>
          <p:nvPr/>
        </p:nvPicPr>
        <p:blipFill>
          <a:blip r:embed="rId1"/>
          <a:stretch/>
        </p:blipFill>
        <p:spPr>
          <a:xfrm>
            <a:off x="2819520" y="285840"/>
            <a:ext cx="25905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688-96A4-42F6-AB5B-EE8C36249C94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j0152348"/>
          <p:cNvPicPr/>
          <p:nvPr/>
        </p:nvPicPr>
        <p:blipFill>
          <a:blip r:embed="rId1"/>
          <a:stretch/>
        </p:blipFill>
        <p:spPr>
          <a:xfrm>
            <a:off x="2895480" y="777960"/>
            <a:ext cx="3353040" cy="2422440"/>
          </a:xfrm>
          <a:prstGeom prst="rect">
            <a:avLst/>
          </a:prstGeom>
          <a:ln w="0">
            <a:noFill/>
          </a:ln>
        </p:spPr>
      </p:pic>
      <p:sp>
        <p:nvSpPr>
          <p:cNvPr id="145" name="Freeform 11"/>
          <p:cNvSpPr/>
          <p:nvPr/>
        </p:nvSpPr>
        <p:spPr>
          <a:xfrm>
            <a:off x="1924200" y="135000"/>
            <a:ext cx="1763640" cy="1182600"/>
          </a:xfrm>
          <a:custGeom>
            <a:avLst/>
            <a:gdLst/>
            <a:ahLst/>
            <a:rect l="l" t="t" r="r" b="b"/>
            <a:pathLst>
              <a:path w="1008" h="690">
                <a:moveTo>
                  <a:pt x="840" y="0"/>
                </a:moveTo>
                <a:lnTo>
                  <a:pt x="857" y="1"/>
                </a:lnTo>
                <a:lnTo>
                  <a:pt x="874" y="2"/>
                </a:lnTo>
                <a:lnTo>
                  <a:pt x="906" y="8"/>
                </a:lnTo>
                <a:lnTo>
                  <a:pt x="934" y="16"/>
                </a:lnTo>
                <a:lnTo>
                  <a:pt x="947" y="22"/>
                </a:lnTo>
                <a:lnTo>
                  <a:pt x="959" y="28"/>
                </a:lnTo>
                <a:lnTo>
                  <a:pt x="970" y="35"/>
                </a:lnTo>
                <a:lnTo>
                  <a:pt x="979" y="42"/>
                </a:lnTo>
                <a:lnTo>
                  <a:pt x="988" y="50"/>
                </a:lnTo>
                <a:lnTo>
                  <a:pt x="995" y="59"/>
                </a:lnTo>
                <a:lnTo>
                  <a:pt x="1000" y="67"/>
                </a:lnTo>
                <a:lnTo>
                  <a:pt x="1005" y="77"/>
                </a:lnTo>
                <a:lnTo>
                  <a:pt x="1007" y="86"/>
                </a:lnTo>
                <a:lnTo>
                  <a:pt x="1008" y="96"/>
                </a:lnTo>
                <a:lnTo>
                  <a:pt x="1008" y="336"/>
                </a:lnTo>
                <a:lnTo>
                  <a:pt x="1008" y="480"/>
                </a:lnTo>
                <a:lnTo>
                  <a:pt x="1007" y="490"/>
                </a:lnTo>
                <a:lnTo>
                  <a:pt x="1005" y="499"/>
                </a:lnTo>
                <a:lnTo>
                  <a:pt x="1000" y="509"/>
                </a:lnTo>
                <a:lnTo>
                  <a:pt x="995" y="517"/>
                </a:lnTo>
                <a:lnTo>
                  <a:pt x="988" y="526"/>
                </a:lnTo>
                <a:lnTo>
                  <a:pt x="979" y="534"/>
                </a:lnTo>
                <a:lnTo>
                  <a:pt x="970" y="541"/>
                </a:lnTo>
                <a:lnTo>
                  <a:pt x="959" y="548"/>
                </a:lnTo>
                <a:lnTo>
                  <a:pt x="947" y="554"/>
                </a:lnTo>
                <a:lnTo>
                  <a:pt x="934" y="560"/>
                </a:lnTo>
                <a:lnTo>
                  <a:pt x="906" y="568"/>
                </a:lnTo>
                <a:lnTo>
                  <a:pt x="874" y="574"/>
                </a:lnTo>
                <a:lnTo>
                  <a:pt x="857" y="576"/>
                </a:lnTo>
                <a:lnTo>
                  <a:pt x="840" y="576"/>
                </a:lnTo>
                <a:lnTo>
                  <a:pt x="961" y="690"/>
                </a:lnTo>
                <a:lnTo>
                  <a:pt x="588" y="576"/>
                </a:lnTo>
                <a:lnTo>
                  <a:pt x="168" y="576"/>
                </a:lnTo>
                <a:lnTo>
                  <a:pt x="151" y="576"/>
                </a:lnTo>
                <a:lnTo>
                  <a:pt x="134" y="574"/>
                </a:lnTo>
                <a:lnTo>
                  <a:pt x="103" y="568"/>
                </a:lnTo>
                <a:lnTo>
                  <a:pt x="74" y="560"/>
                </a:lnTo>
                <a:lnTo>
                  <a:pt x="61" y="554"/>
                </a:lnTo>
                <a:lnTo>
                  <a:pt x="49" y="548"/>
                </a:lnTo>
                <a:lnTo>
                  <a:pt x="38" y="541"/>
                </a:lnTo>
                <a:lnTo>
                  <a:pt x="29" y="534"/>
                </a:lnTo>
                <a:lnTo>
                  <a:pt x="20" y="526"/>
                </a:lnTo>
                <a:lnTo>
                  <a:pt x="13" y="517"/>
                </a:lnTo>
                <a:lnTo>
                  <a:pt x="8" y="509"/>
                </a:lnTo>
                <a:lnTo>
                  <a:pt x="3" y="499"/>
                </a:lnTo>
                <a:lnTo>
                  <a:pt x="1" y="490"/>
                </a:lnTo>
                <a:lnTo>
                  <a:pt x="0" y="480"/>
                </a:lnTo>
                <a:lnTo>
                  <a:pt x="0" y="336"/>
                </a:lnTo>
                <a:lnTo>
                  <a:pt x="0" y="96"/>
                </a:lnTo>
                <a:lnTo>
                  <a:pt x="1" y="86"/>
                </a:lnTo>
                <a:lnTo>
                  <a:pt x="3" y="77"/>
                </a:lnTo>
                <a:lnTo>
                  <a:pt x="8" y="67"/>
                </a:lnTo>
                <a:lnTo>
                  <a:pt x="13" y="59"/>
                </a:lnTo>
                <a:lnTo>
                  <a:pt x="20" y="50"/>
                </a:lnTo>
                <a:lnTo>
                  <a:pt x="29" y="42"/>
                </a:lnTo>
                <a:lnTo>
                  <a:pt x="38" y="35"/>
                </a:lnTo>
                <a:lnTo>
                  <a:pt x="49" y="28"/>
                </a:lnTo>
                <a:lnTo>
                  <a:pt x="61" y="22"/>
                </a:lnTo>
                <a:lnTo>
                  <a:pt x="74" y="16"/>
                </a:lnTo>
                <a:lnTo>
                  <a:pt x="103" y="8"/>
                </a:lnTo>
                <a:lnTo>
                  <a:pt x="134" y="2"/>
                </a:lnTo>
                <a:lnTo>
                  <a:pt x="151" y="1"/>
                </a:lnTo>
                <a:lnTo>
                  <a:pt x="168" y="0"/>
                </a:lnTo>
                <a:lnTo>
                  <a:pt x="588" y="0"/>
                </a:lnTo>
                <a:lnTo>
                  <a:pt x="840" y="0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055960" y="285840"/>
            <a:ext cx="1566720" cy="73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030400" y="285840"/>
            <a:ext cx="1530360" cy="73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's terrible!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09480" y="350532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Everything we say and do in the workplace creates a sto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"We're all teachers and learners at the same tim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What does this mean and how do we apply it in the work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5EE1-C820-478E-90D3-4E4B6E671E0F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95480" y="609480"/>
            <a:ext cx="53341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aders develop a supportive safety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Corporate cultures reflect "the way things are around her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j0174497"/>
          <p:cNvPicPr/>
          <p:nvPr/>
        </p:nvPicPr>
        <p:blipFill>
          <a:blip r:embed="rId1"/>
          <a:stretch/>
        </p:blipFill>
        <p:spPr>
          <a:xfrm>
            <a:off x="533520" y="609480"/>
            <a:ext cx="2006640" cy="2206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762120" y="3497400"/>
            <a:ext cx="7772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Who has the greatest control over what a corporate culture looks like?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10D-B9B6-4416-A65F-56E3B652C5D6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362320" y="914400"/>
            <a:ext cx="648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Each supervisor and manager creates his or her own sub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j0284140"/>
          <p:cNvPicPr/>
          <p:nvPr/>
        </p:nvPicPr>
        <p:blipFill>
          <a:blip r:embed="rId1"/>
          <a:stretch/>
        </p:blipFill>
        <p:spPr>
          <a:xfrm>
            <a:off x="609480" y="611280"/>
            <a:ext cx="1333800" cy="1676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304920" y="3268800"/>
            <a:ext cx="83055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How can you tell when and where effective safety culture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13AA-D7C6-476C-8FB7-8E3529DD9A7C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95360" y="1065240"/>
            <a:ext cx="815328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eaders value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iorities and Values: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 What's the Dif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5" descr="PE01773_"/>
          <p:cNvPicPr/>
          <p:nvPr/>
        </p:nvPicPr>
        <p:blipFill>
          <a:blip r:embed="rId1"/>
          <a:stretch/>
        </p:blipFill>
        <p:spPr>
          <a:xfrm>
            <a:off x="304920" y="210960"/>
            <a:ext cx="2133360" cy="17067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6"/>
          <p:cNvSpPr/>
          <p:nvPr/>
        </p:nvSpPr>
        <p:spPr>
          <a:xfrm>
            <a:off x="1203480" y="3276720"/>
            <a:ext cx="74451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o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“Prioritize”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eans to arrange in order of impor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o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“Value”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eans to place a belief or standard in high reg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F28B-44BB-49F2-9CC3-8A8C578FCC96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09480" y="2451240"/>
            <a:ext cx="792504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hat might the most likely response be when you tell the superintendent that lockout/tagout is required to repair the mach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When the supervisor prioritizes… values… safe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7"/>
          <p:cNvGraphicFramePr/>
          <p:nvPr/>
        </p:nvGraphicFramePr>
        <p:xfrm>
          <a:off x="1035000" y="304920"/>
          <a:ext cx="2479680" cy="17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304920"/>
                    <a:ext cx="24796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8"/>
          <p:cNvSpPr/>
          <p:nvPr/>
        </p:nvSpPr>
        <p:spPr>
          <a:xfrm>
            <a:off x="3997440" y="96840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ercise:  Fun at Far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6C47-1DBD-4E27-8F36-823ABDB9121B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92040" y="1906560"/>
            <a:ext cx="847080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3086280">
              <a:lnSpc>
                <a:spcPct val="9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Big Go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ain a greater awareness of the concepts and techniques of applying effective safety leadership in the workp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j0230528"/>
          <p:cNvPicPr/>
          <p:nvPr/>
        </p:nvPicPr>
        <p:blipFill>
          <a:blip r:embed="rId1"/>
          <a:stretch/>
        </p:blipFill>
        <p:spPr>
          <a:xfrm>
            <a:off x="685800" y="914400"/>
            <a:ext cx="31892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CE18-DEA6-4CEF-9DDD-E4F4C29E35D4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533520" y="3200400"/>
            <a:ext cx="792468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Values are Non-negoti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What must occur before you know something is a va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875120" y="1365120"/>
            <a:ext cx="327672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rodu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027080" y="752400"/>
            <a:ext cx="28195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CBB0-7510-4A3E-BF3F-FB1CD67BD9FF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33520" y="1066680"/>
            <a:ext cx="834840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eaders know how to communic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ough-Caring Communications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1" descr="j0230543"/>
          <p:cNvPicPr/>
          <p:nvPr/>
        </p:nvPicPr>
        <p:blipFill>
          <a:blip r:embed="rId1"/>
          <a:stretch/>
        </p:blipFill>
        <p:spPr>
          <a:xfrm>
            <a:off x="2247840" y="2819520"/>
            <a:ext cx="464832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E24-9F98-4EF8-8A38-144101C39FD9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57200" y="698400"/>
            <a:ext cx="8229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6678-0C02-48CA-B7EE-66D9D91B3B3F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685800" y="2481120"/>
            <a:ext cx="8229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Which message do we intend to conv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To which message does the receiver respo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hat can we assume when the receiver's response to our message is not what we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ject 3" descr=""/>
          <p:cNvPicPr/>
          <p:nvPr/>
        </p:nvPicPr>
        <p:blipFill>
          <a:blip r:embed="rId1"/>
          <a:stretch/>
        </p:blipFill>
        <p:spPr>
          <a:xfrm>
            <a:off x="3846600" y="380880"/>
            <a:ext cx="68400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4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91440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5" descr=""/>
          <p:cNvPicPr/>
          <p:nvPr/>
        </p:nvPicPr>
        <p:blipFill>
          <a:blip r:embed="rId3"/>
          <a:stretch/>
        </p:blipFill>
        <p:spPr>
          <a:xfrm>
            <a:off x="5649840" y="727200"/>
            <a:ext cx="6368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1DA8-CBE9-48BD-A39A-93B2E2B6DDAB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3809880"/>
            <a:ext cx="81532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3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aders recognize goo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What are some important points to remember about recognizing employ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j0078795"/>
          <p:cNvPicPr/>
          <p:nvPr/>
        </p:nvPicPr>
        <p:blipFill>
          <a:blip r:embed="rId1"/>
          <a:stretch/>
        </p:blipFill>
        <p:spPr>
          <a:xfrm>
            <a:off x="3429000" y="457200"/>
            <a:ext cx="2286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4440-D38A-4460-A2F3-61C44FD2CB0C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26"/>
          <p:cNvSpPr/>
          <p:nvPr/>
        </p:nvSpPr>
        <p:spPr>
          <a:xfrm>
            <a:off x="533520" y="533520"/>
            <a:ext cx="792468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five "Shoulds" of Effective Recog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_____________ - Recognize as soon as you can after the behavior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253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e careful recognition is based on fact, not just fe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253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 longer you wait, the greater the recognition to achieve the same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27" descr="PE03046_"/>
          <p:cNvPicPr/>
          <p:nvPr/>
        </p:nvPicPr>
        <p:blipFill>
          <a:blip r:embed="rId1"/>
          <a:stretch/>
        </p:blipFill>
        <p:spPr>
          <a:xfrm>
            <a:off x="457200" y="380880"/>
            <a:ext cx="2075040" cy="2133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28"/>
          <p:cNvSpPr/>
          <p:nvPr/>
        </p:nvSpPr>
        <p:spPr>
          <a:xfrm>
            <a:off x="1028520" y="2479680"/>
            <a:ext cx="17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So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56D7-9549-4184-A9AB-FCDD45995DCE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527040" y="1066680"/>
            <a:ext cx="807732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______________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- the employee knows for sure they will be recognized and exactly why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3004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ddress the specific safety performan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3004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Emphasize the positive impact the performance has o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3004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oid raffles, games, other strategies that base recognition on "luck.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72720" y="7542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S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4376-E454-4FC5-ABED-1DE04755BEC3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533520" y="990720"/>
            <a:ext cx="82296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_____________________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 The importance of the consequence is determined by the recei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is criteria is defined by the receive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hat is effective for one person may not be effective for another to change perform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You know the consequence is  significant when it increases the frequency of desired behavi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ngible rewards shouldn't be thought of as the "big payoff."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ather, everyone should understand they are "tokens" of appreciation for doing the right th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22160" y="620640"/>
            <a:ext cx="32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Significa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F107-7718-4424-8AD4-6D7FDBEC118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533520" y="99072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_____________________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 The most effective recognition is inform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 simple "atta-boy," or "atta-girl" may be all that's required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 best recognition may not require money and pla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emember K I S M I F  - Keep it Simple, Make it Fun… work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22520" y="62064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Simp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7B51-0587-45FD-8B0D-14455D52214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74560" y="1247760"/>
            <a:ext cx="800100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_____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genuine approval for the right reas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93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otives for recognizing are appropriate (selfles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93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ou' don't recognize just because it's polic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93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cognition is more a matter of leadership than manag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93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's sincere and personal concern for the employee's welf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41080" y="971640"/>
            <a:ext cx="23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Since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B975-B81B-4150-AB82-417E9A358EB7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1447920"/>
            <a:ext cx="6604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Getting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Ground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Form tea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45720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7096-1EBD-4519-805D-AAF462D1D831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304920" y="2971800"/>
            <a:ext cx="86868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aders know how to effectively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hat's the purpose of progressive discip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f asked why we're disciplining, what's your answer?     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j0078742"/>
          <p:cNvPicPr/>
          <p:nvPr/>
        </p:nvPicPr>
        <p:blipFill>
          <a:blip r:embed="rId1"/>
          <a:stretch/>
        </p:blipFill>
        <p:spPr>
          <a:xfrm>
            <a:off x="3048120" y="533520"/>
            <a:ext cx="28191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92240" y="939960"/>
            <a:ext cx="89503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90600" y="3211560"/>
            <a:ext cx="23598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L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ad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718240" y="3790800"/>
            <a:ext cx="17427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T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a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414040" y="2973240"/>
            <a:ext cx="24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3300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uperv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434480" y="2081160"/>
            <a:ext cx="2005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for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410120" y="244152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88800" y="344520"/>
            <a:ext cx="78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Leadership requires discipline when jus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41160" y="1246320"/>
            <a:ext cx="53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Take the five-finger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BD10373_"/>
          <p:cNvPicPr/>
          <p:nvPr/>
        </p:nvPicPr>
        <p:blipFill>
          <a:blip r:embed="rId1"/>
          <a:stretch/>
        </p:blipFill>
        <p:spPr>
          <a:xfrm flipH="1">
            <a:off x="2617920" y="3071880"/>
            <a:ext cx="275904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3B9C-5ACF-4AC3-88BC-19ACF8961CFE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90680" y="4327560"/>
            <a:ext cx="831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valuating Leadership in Your Safety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4" descr="PE01775_"/>
          <p:cNvPicPr/>
          <p:nvPr/>
        </p:nvPicPr>
        <p:blipFill>
          <a:blip r:embed="rId1"/>
          <a:stretch/>
        </p:blipFill>
        <p:spPr>
          <a:xfrm flipH="1">
            <a:off x="3117960" y="1044720"/>
            <a:ext cx="290808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FF18-E5A4-49EE-A7D5-6F12C4A749C8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490680" y="4373640"/>
            <a:ext cx="8508960" cy="1305000"/>
          </a:xfrm>
          <a:prstGeom prst="rightArrow">
            <a:avLst>
              <a:gd name="adj1" fmla="val 80685"/>
              <a:gd name="adj2" fmla="val 48661"/>
            </a:avLst>
          </a:prstGeom>
          <a:gradFill rotWithShape="0">
            <a:gsLst>
              <a:gs pos="0">
                <a:srgbClr val="660033"/>
              </a:gs>
              <a:gs pos="100000">
                <a:srgbClr val="b5839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560520" y="4718160"/>
          <a:ext cx="13017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4718160"/>
                    <a:ext cx="13017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6"/>
          <p:cNvGraphicFramePr/>
          <p:nvPr/>
        </p:nvGraphicFramePr>
        <p:xfrm>
          <a:off x="7702560" y="4718160"/>
          <a:ext cx="101592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2560" y="4718160"/>
                    <a:ext cx="10159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7"/>
          <p:cNvSpPr/>
          <p:nvPr/>
        </p:nvSpPr>
        <p:spPr>
          <a:xfrm>
            <a:off x="1093680" y="4749840"/>
            <a:ext cx="61596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troll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5"/>
          <a:stretch/>
        </p:blipFill>
        <p:spPr>
          <a:xfrm>
            <a:off x="2438280" y="654120"/>
            <a:ext cx="3665520" cy="254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2" name="Text Box 9"/>
          <p:cNvSpPr/>
          <p:nvPr/>
        </p:nvSpPr>
        <p:spPr>
          <a:xfrm>
            <a:off x="1346040" y="3274920"/>
            <a:ext cx="647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s the leadership style in your culture tough-caring or tough-contro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3004-D1D7-441D-920F-1ECA497E474F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540160" y="4572000"/>
            <a:ext cx="40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et's revie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PE00313_"/>
          <p:cNvPicPr/>
          <p:nvPr/>
        </p:nvPicPr>
        <p:blipFill>
          <a:blip r:embed="rId1"/>
          <a:stretch/>
        </p:blipFill>
        <p:spPr>
          <a:xfrm>
            <a:off x="3041640" y="1066680"/>
            <a:ext cx="30607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0218-9D63-41F9-BDB3-770CA0985986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523880" y="53352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Thanks for coming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remember, stuff happen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C:\Users\Steve Geigle\AppData\Local\Microsoft\Windows\Temporary Internet Files\Content.IE5\EJ3EQ07N\MC900250742[1].wmf"/>
          <p:cNvPicPr/>
          <p:nvPr/>
        </p:nvPicPr>
        <p:blipFill>
          <a:blip r:embed="rId1"/>
          <a:stretch/>
        </p:blipFill>
        <p:spPr>
          <a:xfrm>
            <a:off x="2879640" y="1752480"/>
            <a:ext cx="353700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8D8C-07A1-421C-8FC4-FF4E8036722D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04920" y="1371600"/>
            <a:ext cx="838188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ot power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ower derives from status, money, ability to harm, access to media, control material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eaders always have power, but the powerful are not always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ug who sticks a gun in your back has “power” but not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s self-centered, ethically neutral (can be used for good or bad) am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53880"/>
            <a:ext cx="8551800" cy="531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07960" y="174600"/>
            <a:ext cx="1168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D046-1B74-402C-B8B4-877530923009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68580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57200" y="685800"/>
            <a:ext cx="80773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t status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tatus or position may enhance the opportunity fo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ome in with high status or position haven’t a clue how to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osition if assigned from above… leadership is conferred from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5BB5-06AB-4302-9299-78AA858800A1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15520" y="979560"/>
            <a:ext cx="78894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t authority –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5568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rson may have subordinates, but not fol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5568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ople will follow only if person acts as a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F216-1286-4F69-BA91-79D3E675ACE2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33520" y="685800"/>
            <a:ext cx="792468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ot managemen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nagement is the process of controlling systems through planning, organizing and superv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nagers preside over processes, functions,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naging is a planned activity.  Leadership is more spontaneous than pla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nagers to things right.  Leaders do the right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1AA-E183-434F-8BF2-30802FE382C7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609480" y="838080"/>
            <a:ext cx="807732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adership is not common sens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5568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mmon sense - What is it?  How do we develop 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5568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Good sense is individual.  Common sense would result in common leadership sty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17:46:29Z</dcterms:created>
  <dc:creator>Steven J. Geigle</dc:creator>
  <dc:description/>
  <dc:language>en-US</dc:language>
  <cp:lastModifiedBy>Steve</cp:lastModifiedBy>
  <cp:lastPrinted>2000-01-09T20:05:28Z</cp:lastPrinted>
  <dcterms:modified xsi:type="dcterms:W3CDTF">2012-04-19T00:28:01Z</dcterms:modified>
  <cp:revision>44</cp:revision>
  <dc:subject/>
  <dc:title>No Slide Title</dc:title>
</cp:coreProperties>
</file>