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6.wmf" ContentType="image/x-wmf"/>
  <Override PartName="/ppt/media/image25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8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36.wmf" ContentType="image/x-wmf"/>
  <Override PartName="/ppt/media/image38.png" ContentType="image/png"/>
  <Override PartName="/ppt/media/image4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gif" ContentType="image/gif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2360" y="693360"/>
            <a:ext cx="455328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CACC-5421-4DD9-A406-71EFB654D4F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E95-34AF-46FE-9D8F-ED927D5A1AD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E78F-042F-4CA9-A0F1-FBEDCF8DC9B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1.  The average person dislikes work: will avoid it if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2.  To most workers, work is as natural as play or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3.  Most workers do not need close supervision when committed to an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4.  Most workers must be directed, controlled or threatened to perform 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 5.  Most workers are committed to objectives when rewarded for achie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6.  Most people hate change and lack creative 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7.  The average worker is self-centered, not concerned with corporate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8.  Most workers not only accept, but seek respons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9.  The average worker has a relatively high degree of imagination and ingen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10.  Most workers lack ambition, avoid respons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11.  Most workers seek security and economic rewards above all el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 12.  Most workers are capable of self-direction and self-control when motiv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B16-618A-45F3-819A-4D3CCCCA29A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951-E32E-4BF9-9E77-8C23B048820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4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09B6-5F9F-40DA-8784-67B620AC1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3CF0-7468-49C2-B89A-B8CF64F89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734B-9C5D-42EB-ACC4-BF63DD02D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1CE6-91C6-414C-B400-31CA1765A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5E7A-972A-4685-B41A-2C4BE181F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59F8-B67C-40B9-AF83-311874A1F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97B7-9F2B-4134-A831-EE0ADE280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F56A-1BE5-46FC-8688-652092B26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0EEC-322A-4F4F-9665-4F39B4F36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044D-D199-442B-9C0F-03A023B52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EC53-E20B-48D7-B39B-BA6007B5B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4E74-F980-4117-80AE-51399879C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63080" y="6638400"/>
            <a:ext cx="576000" cy="1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0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AE5-6BC2-414F-BC20-2A0B5C103347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852F-4066-432C-811E-CFEB586AD13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380880" y="396720"/>
            <a:ext cx="83012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SHAcademy Course 7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fety Leadership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6" descr=""/>
          <p:cNvPicPr/>
          <p:nvPr/>
        </p:nvPicPr>
        <p:blipFill>
          <a:blip r:embed="rId1"/>
          <a:stretch/>
        </p:blipFill>
        <p:spPr>
          <a:xfrm>
            <a:off x="1219320" y="1595520"/>
            <a:ext cx="6875280" cy="5068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2"/>
          <p:cNvSpPr/>
          <p:nvPr/>
        </p:nvSpPr>
        <p:spPr>
          <a:xfrm rot="20946600">
            <a:off x="2364480" y="4630680"/>
            <a:ext cx="3907080" cy="1099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elcome</a:t>
            </a:r>
            <a:r>
              <a:rPr b="0" i="1" lang="en-US" sz="6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4E6-AC8F-4C86-95E7-ACE4CC02687E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26"/>
          <p:cNvSpPr/>
          <p:nvPr/>
        </p:nvSpPr>
        <p:spPr>
          <a:xfrm>
            <a:off x="685800" y="380988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ink of someone who you have considered a leader and discuss the attributes they hav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st the attributes discu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27" descr="j0230580"/>
          <p:cNvPicPr/>
          <p:nvPr/>
        </p:nvPicPr>
        <p:blipFill>
          <a:blip r:embed="rId1"/>
          <a:stretch/>
        </p:blipFill>
        <p:spPr>
          <a:xfrm>
            <a:off x="2743200" y="152280"/>
            <a:ext cx="32702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722-D09F-499D-BAFD-0B2DB057226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80880" y="565200"/>
            <a:ext cx="67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Some attribu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5800" y="182880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OTIONAL 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HYSICAL STA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CIS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029200" y="16002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ELF-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EN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EW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26D7-4983-4662-80F3-8B4FAC4A71D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2457360"/>
            <a:ext cx="8466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ou have subordinates, but no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ople do what you say because they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do what you say because you occupy a pos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Your influence does not extend beyond the lines of your job descrip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longer you stay here, the higher the turnover and lower the m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937080" y="1314360"/>
            <a:ext cx="316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ep 1 - The B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5" descr=""/>
          <p:cNvPicPr/>
          <p:nvPr/>
        </p:nvPicPr>
        <p:blipFill>
          <a:blip r:embed="rId1"/>
          <a:stretch/>
        </p:blipFill>
        <p:spPr>
          <a:xfrm>
            <a:off x="6583320" y="971640"/>
            <a:ext cx="1951200" cy="148572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50400" y="825480"/>
            <a:ext cx="1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05B5-B56F-4C85-BA25-20505739450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06440" y="2590920"/>
            <a:ext cx="81280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eadership by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ople want to follow: they give you permission to le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will follow you beyond your stated author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s level allows work to be fu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74160" y="1257480"/>
            <a:ext cx="338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tep 2 - The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5791320" y="857160"/>
            <a:ext cx="2319120" cy="1962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F17-E319-463B-9A5D-CE26D3F5A94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50"/>
          <p:cNvSpPr/>
          <p:nvPr/>
        </p:nvSpPr>
        <p:spPr>
          <a:xfrm>
            <a:off x="406440" y="2362320"/>
            <a:ext cx="812808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eople follow because of what you do for the organiza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s is where success is sensed by most peopl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y like you and what you are do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roblems are fixed with very little effort because of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51"/>
          <p:cNvSpPr/>
          <p:nvPr/>
        </p:nvSpPr>
        <p:spPr>
          <a:xfrm>
            <a:off x="950760" y="1257480"/>
            <a:ext cx="3857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ep 3 - The Pro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ject 2052" descr=""/>
          <p:cNvPicPr/>
          <p:nvPr/>
        </p:nvPicPr>
        <p:blipFill>
          <a:blip r:embed="rId1"/>
          <a:stretch/>
        </p:blipFill>
        <p:spPr>
          <a:xfrm>
            <a:off x="6095880" y="547560"/>
            <a:ext cx="2641680" cy="2133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054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D95-3A15-43BF-9E5C-159A26DA99F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14360" y="3200400"/>
            <a:ext cx="81280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eople follow because of what you do for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is is where long-range growth occur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Your commitment to developing leaders will insure ongoing growth to the organization and to peo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o whatever you can to achieve and stay on this level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14360" y="1733400"/>
            <a:ext cx="598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ep 4 - Th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5943600" y="596880"/>
            <a:ext cx="2311560" cy="2273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E30-2486-45D1-B4E9-326A93F85A4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26"/>
          <p:cNvSpPr/>
          <p:nvPr/>
        </p:nvSpPr>
        <p:spPr>
          <a:xfrm>
            <a:off x="406440" y="6458040"/>
            <a:ext cx="8415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pted from:  John C. Maxwell,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veloping the Leader in Yo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Nelson Pub. p.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385920" y="2819520"/>
            <a:ext cx="8038800" cy="21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eople follow because of who you are and what you represen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s step is reserved for leaders who have spent years growing people and organiz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Few make it: Those who do are bigger than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28"/>
          <p:cNvSpPr/>
          <p:nvPr/>
        </p:nvSpPr>
        <p:spPr>
          <a:xfrm>
            <a:off x="385920" y="1332000"/>
            <a:ext cx="6400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tep 5 - The Champ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1029" descr=""/>
          <p:cNvPicPr/>
          <p:nvPr/>
        </p:nvPicPr>
        <p:blipFill>
          <a:blip r:embed="rId1"/>
          <a:stretch/>
        </p:blipFill>
        <p:spPr>
          <a:xfrm>
            <a:off x="6451560" y="249120"/>
            <a:ext cx="2082960" cy="2165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31"/>
          <p:cNvSpPr/>
          <p:nvPr/>
        </p:nvSpPr>
        <p:spPr>
          <a:xfrm>
            <a:off x="304920" y="2286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mbing the Ladder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7ED-B68F-486C-8180-CAC29A702535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038480" y="129528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alkin' the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07960" y="3149640"/>
            <a:ext cx="8255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Review the leadership quality discussed ear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ink about how you, as an employee, supervisor, or manager can demonstrate three leadership qu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List the qualities and write specific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iscuss ideas with your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PE01479_"/>
          <p:cNvPicPr/>
          <p:nvPr/>
        </p:nvPicPr>
        <p:blipFill>
          <a:blip r:embed="rId1"/>
          <a:stretch/>
        </p:blipFill>
        <p:spPr>
          <a:xfrm>
            <a:off x="1447920" y="533520"/>
            <a:ext cx="2185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876240" y="1295280"/>
            <a:ext cx="739152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Attitude Check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’s your leadership styl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E02485_"/>
          <p:cNvPicPr/>
          <p:nvPr/>
        </p:nvPicPr>
        <p:blipFill>
          <a:blip r:embed="rId1"/>
          <a:stretch/>
        </p:blipFill>
        <p:spPr>
          <a:xfrm>
            <a:off x="2971800" y="3429000"/>
            <a:ext cx="327672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39A-BA2F-458C-B048-8A49CE57002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07960" y="569880"/>
            <a:ext cx="8128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1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eaders understand 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push"/>
          <p:cNvPicPr/>
          <p:nvPr/>
        </p:nvPicPr>
        <p:blipFill>
          <a:blip r:embed="rId1"/>
          <a:stretch/>
        </p:blipFill>
        <p:spPr>
          <a:xfrm>
            <a:off x="380880" y="228600"/>
            <a:ext cx="2387880" cy="1736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380880" y="2362320"/>
            <a:ext cx="82551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wants employees who care about their work, he or she must demonstrate care for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desires honest and fair employee behavior, he or she must treat employees with honesty and fairn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If a leader expects selfless employee performance, he or she must be selfl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9A58-4062-4C0D-A114-BEB088922107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6"/>
          <p:cNvSpPr/>
          <p:nvPr/>
        </p:nvSpPr>
        <p:spPr>
          <a:xfrm>
            <a:off x="3890880" y="2006640"/>
            <a:ext cx="4810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rain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Traine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Verdana"/>
              </a:rPr>
              <a:t>E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27" descr="steve"/>
          <p:cNvPicPr/>
          <p:nvPr/>
        </p:nvPicPr>
        <p:blipFill>
          <a:blip r:embed="rId1"/>
          <a:stretch/>
        </p:blipFill>
        <p:spPr>
          <a:xfrm>
            <a:off x="627120" y="1069920"/>
            <a:ext cx="3714840" cy="519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28" descr="j0254504"/>
          <p:cNvPicPr/>
          <p:nvPr/>
        </p:nvPicPr>
        <p:blipFill>
          <a:blip r:embed="rId2">
            <a:lum bright="62000"/>
          </a:blip>
          <a:stretch/>
        </p:blipFill>
        <p:spPr>
          <a:xfrm>
            <a:off x="1779480" y="13730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367720" y="685800"/>
            <a:ext cx="22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own image or ph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61E3-9E8E-4056-B649-F0287A9FB47D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9" descr="j0078742"/>
          <p:cNvPicPr/>
          <p:nvPr/>
        </p:nvPicPr>
        <p:blipFill>
          <a:blip r:embed="rId1"/>
          <a:stretch/>
        </p:blipFill>
        <p:spPr>
          <a:xfrm>
            <a:off x="420840" y="604800"/>
            <a:ext cx="1904760" cy="1527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4"/>
          <p:cNvSpPr/>
          <p:nvPr/>
        </p:nvSpPr>
        <p:spPr>
          <a:xfrm>
            <a:off x="457200" y="30492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Leadership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35"/>
          <p:cNvSpPr/>
          <p:nvPr/>
        </p:nvSpPr>
        <p:spPr>
          <a:xfrm>
            <a:off x="482760" y="2608200"/>
            <a:ext cx="818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tough (insist on safety) because you care about your employ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r approach is to support and serve those you lead.  It’s all abou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interested in every employee’s su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 exhibit high trust and give the credit to your “te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You’re confident and exhibit high self-este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36"/>
          <p:cNvSpPr/>
          <p:nvPr/>
        </p:nvSpPr>
        <p:spPr>
          <a:xfrm>
            <a:off x="2594520" y="1332000"/>
            <a:ext cx="61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Are you a Tough - Caring Leade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6D2-2B2A-4260-BAA2-532C6FA2EE9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2209680"/>
            <a:ext cx="8334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tough (insist on safety) to stay out of trou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approach is to maintain control and to be served by others.  It’s all about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’re concerned more about your own success than that of your “subordinate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Because lack trust and take all the credit for any team suc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You lack confidence and are fearful.  That’s why you must control everything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j0078734"/>
          <p:cNvPicPr/>
          <p:nvPr/>
        </p:nvPicPr>
        <p:blipFill>
          <a:blip r:embed="rId1"/>
          <a:stretch/>
        </p:blipFill>
        <p:spPr>
          <a:xfrm>
            <a:off x="304920" y="380880"/>
            <a:ext cx="1854000" cy="1393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912680" y="59688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re you a Tough - Controlling Leade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113-13C1-489E-A7DE-1AAAC373E25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728800" y="533520"/>
            <a:ext cx="44942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aders demonstrate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j0230498"/>
          <p:cNvPicPr/>
          <p:nvPr/>
        </p:nvPicPr>
        <p:blipFill>
          <a:blip r:embed="rId1"/>
          <a:stretch/>
        </p:blipFill>
        <p:spPr>
          <a:xfrm>
            <a:off x="709560" y="355680"/>
            <a:ext cx="1549440" cy="1174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282400" y="2232000"/>
            <a:ext cx="44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2512800" y="2357280"/>
            <a:ext cx="6134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5410080" y="4038480"/>
            <a:ext cx="19148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725480" y="2203560"/>
            <a:ext cx="5126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3125880" y="3079800"/>
            <a:ext cx="698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19720" y="4038480"/>
            <a:ext cx="1054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570200" y="3927600"/>
            <a:ext cx="605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917520" y="3135240"/>
            <a:ext cx="20566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B242-D3D6-46D5-9A86-258764CA459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709560" y="3886200"/>
            <a:ext cx="787572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Brainstorm this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Discuss and list ways your managers have demonstrated commitment to safety and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PE07303_"/>
          <p:cNvPicPr/>
          <p:nvPr/>
        </p:nvPicPr>
        <p:blipFill>
          <a:blip r:embed="rId1"/>
          <a:stretch/>
        </p:blipFill>
        <p:spPr>
          <a:xfrm>
            <a:off x="2819520" y="800280"/>
            <a:ext cx="30668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C65-3505-487A-A252-E1837F30062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3200400"/>
            <a:ext cx="8229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aders develop trust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ck of trust and credibility between labor and management is the most frequent obstacle to improving safety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ow do leaders build trust and cred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j0196386"/>
          <p:cNvPicPr/>
          <p:nvPr/>
        </p:nvPicPr>
        <p:blipFill>
          <a:blip r:embed="rId1"/>
          <a:stretch/>
        </p:blipFill>
        <p:spPr>
          <a:xfrm>
            <a:off x="2819520" y="285840"/>
            <a:ext cx="25905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614-1DED-4B85-93C8-6897373AF01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j0152348"/>
          <p:cNvPicPr/>
          <p:nvPr/>
        </p:nvPicPr>
        <p:blipFill>
          <a:blip r:embed="rId1"/>
          <a:stretch/>
        </p:blipFill>
        <p:spPr>
          <a:xfrm>
            <a:off x="2895480" y="777960"/>
            <a:ext cx="3353040" cy="2422440"/>
          </a:xfrm>
          <a:prstGeom prst="rect">
            <a:avLst/>
          </a:prstGeom>
          <a:ln w="0">
            <a:noFill/>
          </a:ln>
        </p:spPr>
      </p:pic>
      <p:sp>
        <p:nvSpPr>
          <p:cNvPr id="145" name="Freeform 11"/>
          <p:cNvSpPr/>
          <p:nvPr/>
        </p:nvSpPr>
        <p:spPr>
          <a:xfrm>
            <a:off x="1924200" y="135000"/>
            <a:ext cx="1763640" cy="1182600"/>
          </a:xfrm>
          <a:custGeom>
            <a:avLst/>
            <a:gdLst/>
            <a:ahLst/>
            <a:rect l="l" t="t" r="r" b="b"/>
            <a:pathLst>
              <a:path w="1008" h="690">
                <a:moveTo>
                  <a:pt x="840" y="0"/>
                </a:moveTo>
                <a:lnTo>
                  <a:pt x="857" y="1"/>
                </a:lnTo>
                <a:lnTo>
                  <a:pt x="874" y="2"/>
                </a:lnTo>
                <a:lnTo>
                  <a:pt x="906" y="8"/>
                </a:lnTo>
                <a:lnTo>
                  <a:pt x="934" y="16"/>
                </a:lnTo>
                <a:lnTo>
                  <a:pt x="947" y="22"/>
                </a:lnTo>
                <a:lnTo>
                  <a:pt x="959" y="28"/>
                </a:lnTo>
                <a:lnTo>
                  <a:pt x="970" y="35"/>
                </a:lnTo>
                <a:lnTo>
                  <a:pt x="979" y="42"/>
                </a:lnTo>
                <a:lnTo>
                  <a:pt x="988" y="50"/>
                </a:lnTo>
                <a:lnTo>
                  <a:pt x="995" y="59"/>
                </a:lnTo>
                <a:lnTo>
                  <a:pt x="1000" y="67"/>
                </a:lnTo>
                <a:lnTo>
                  <a:pt x="1005" y="77"/>
                </a:lnTo>
                <a:lnTo>
                  <a:pt x="1007" y="86"/>
                </a:lnTo>
                <a:lnTo>
                  <a:pt x="1008" y="96"/>
                </a:lnTo>
                <a:lnTo>
                  <a:pt x="1008" y="336"/>
                </a:lnTo>
                <a:lnTo>
                  <a:pt x="1008" y="480"/>
                </a:lnTo>
                <a:lnTo>
                  <a:pt x="1007" y="490"/>
                </a:lnTo>
                <a:lnTo>
                  <a:pt x="1005" y="499"/>
                </a:lnTo>
                <a:lnTo>
                  <a:pt x="1000" y="509"/>
                </a:lnTo>
                <a:lnTo>
                  <a:pt x="995" y="517"/>
                </a:lnTo>
                <a:lnTo>
                  <a:pt x="988" y="526"/>
                </a:lnTo>
                <a:lnTo>
                  <a:pt x="979" y="534"/>
                </a:lnTo>
                <a:lnTo>
                  <a:pt x="970" y="541"/>
                </a:lnTo>
                <a:lnTo>
                  <a:pt x="959" y="548"/>
                </a:lnTo>
                <a:lnTo>
                  <a:pt x="947" y="554"/>
                </a:lnTo>
                <a:lnTo>
                  <a:pt x="934" y="560"/>
                </a:lnTo>
                <a:lnTo>
                  <a:pt x="906" y="568"/>
                </a:lnTo>
                <a:lnTo>
                  <a:pt x="874" y="574"/>
                </a:lnTo>
                <a:lnTo>
                  <a:pt x="857" y="576"/>
                </a:lnTo>
                <a:lnTo>
                  <a:pt x="840" y="576"/>
                </a:lnTo>
                <a:lnTo>
                  <a:pt x="961" y="690"/>
                </a:lnTo>
                <a:lnTo>
                  <a:pt x="588" y="576"/>
                </a:lnTo>
                <a:lnTo>
                  <a:pt x="168" y="576"/>
                </a:lnTo>
                <a:lnTo>
                  <a:pt x="151" y="576"/>
                </a:lnTo>
                <a:lnTo>
                  <a:pt x="134" y="574"/>
                </a:lnTo>
                <a:lnTo>
                  <a:pt x="103" y="568"/>
                </a:lnTo>
                <a:lnTo>
                  <a:pt x="74" y="560"/>
                </a:lnTo>
                <a:lnTo>
                  <a:pt x="61" y="554"/>
                </a:lnTo>
                <a:lnTo>
                  <a:pt x="49" y="548"/>
                </a:lnTo>
                <a:lnTo>
                  <a:pt x="38" y="541"/>
                </a:lnTo>
                <a:lnTo>
                  <a:pt x="29" y="534"/>
                </a:lnTo>
                <a:lnTo>
                  <a:pt x="20" y="526"/>
                </a:lnTo>
                <a:lnTo>
                  <a:pt x="13" y="517"/>
                </a:lnTo>
                <a:lnTo>
                  <a:pt x="8" y="509"/>
                </a:lnTo>
                <a:lnTo>
                  <a:pt x="3" y="499"/>
                </a:lnTo>
                <a:lnTo>
                  <a:pt x="1" y="490"/>
                </a:lnTo>
                <a:lnTo>
                  <a:pt x="0" y="480"/>
                </a:lnTo>
                <a:lnTo>
                  <a:pt x="0" y="336"/>
                </a:lnTo>
                <a:lnTo>
                  <a:pt x="0" y="96"/>
                </a:lnTo>
                <a:lnTo>
                  <a:pt x="1" y="86"/>
                </a:lnTo>
                <a:lnTo>
                  <a:pt x="3" y="77"/>
                </a:lnTo>
                <a:lnTo>
                  <a:pt x="8" y="67"/>
                </a:lnTo>
                <a:lnTo>
                  <a:pt x="13" y="59"/>
                </a:lnTo>
                <a:lnTo>
                  <a:pt x="20" y="50"/>
                </a:lnTo>
                <a:lnTo>
                  <a:pt x="29" y="42"/>
                </a:lnTo>
                <a:lnTo>
                  <a:pt x="38" y="35"/>
                </a:lnTo>
                <a:lnTo>
                  <a:pt x="49" y="28"/>
                </a:lnTo>
                <a:lnTo>
                  <a:pt x="61" y="22"/>
                </a:lnTo>
                <a:lnTo>
                  <a:pt x="74" y="16"/>
                </a:lnTo>
                <a:lnTo>
                  <a:pt x="103" y="8"/>
                </a:lnTo>
                <a:lnTo>
                  <a:pt x="134" y="2"/>
                </a:lnTo>
                <a:lnTo>
                  <a:pt x="151" y="1"/>
                </a:lnTo>
                <a:lnTo>
                  <a:pt x="168" y="0"/>
                </a:lnTo>
                <a:lnTo>
                  <a:pt x="588" y="0"/>
                </a:lnTo>
                <a:lnTo>
                  <a:pt x="840" y="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055960" y="285840"/>
            <a:ext cx="1566720" cy="7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030400" y="285840"/>
            <a:ext cx="1530360" cy="7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's terrible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09480" y="350532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verything we say and do in the workplace creates a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"We're all teachers and learners at the same tim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What does this mean and how do we apply it in the work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B20-E2D1-4883-A0AD-9C4F7EE33A2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95480" y="609480"/>
            <a:ext cx="53341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aders develop a supportive safe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Corporate cultures reflect "the way things are around here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j0174497"/>
          <p:cNvPicPr/>
          <p:nvPr/>
        </p:nvPicPr>
        <p:blipFill>
          <a:blip r:embed="rId1"/>
          <a:stretch/>
        </p:blipFill>
        <p:spPr>
          <a:xfrm>
            <a:off x="533520" y="609480"/>
            <a:ext cx="2006640" cy="2206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762120" y="3497400"/>
            <a:ext cx="7772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Who has the greatest control over what a corporate culture looks like?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2177-89D8-46E5-88ED-42B27960CD2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362320" y="914400"/>
            <a:ext cx="648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Each supervisor and manager creates his or her own sub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j0284140"/>
          <p:cNvPicPr/>
          <p:nvPr/>
        </p:nvPicPr>
        <p:blipFill>
          <a:blip r:embed="rId1"/>
          <a:stretch/>
        </p:blipFill>
        <p:spPr>
          <a:xfrm>
            <a:off x="609480" y="611280"/>
            <a:ext cx="1333800" cy="1676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304920" y="3268800"/>
            <a:ext cx="8305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How can you tell when and where effective safety culture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AFD-CA9F-4CCD-9227-108F59B4C75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95360" y="1065240"/>
            <a:ext cx="815328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Leaders valu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iorities and Values: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 What'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PE01773_"/>
          <p:cNvPicPr/>
          <p:nvPr/>
        </p:nvPicPr>
        <p:blipFill>
          <a:blip r:embed="rId1"/>
          <a:stretch/>
        </p:blipFill>
        <p:spPr>
          <a:xfrm>
            <a:off x="304920" y="210960"/>
            <a:ext cx="2133360" cy="1706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6"/>
          <p:cNvSpPr/>
          <p:nvPr/>
        </p:nvSpPr>
        <p:spPr>
          <a:xfrm>
            <a:off x="1203480" y="3276720"/>
            <a:ext cx="74451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“Prioritize”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ans to arrange in order of impor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o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“Value”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eans to place a belief or standard in high reg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55F3-1BFF-4E0E-B5AE-57877B8AD117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09480" y="2451240"/>
            <a:ext cx="792504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 might the most likely response be when you tell the superintendent that lockout/tagout is required to repair the mach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When the supervisor prioritizes… values… safe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7"/>
          <p:cNvGraphicFramePr/>
          <p:nvPr/>
        </p:nvGraphicFramePr>
        <p:xfrm>
          <a:off x="1035000" y="304920"/>
          <a:ext cx="2479680" cy="17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304920"/>
                    <a:ext cx="24796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8"/>
          <p:cNvSpPr/>
          <p:nvPr/>
        </p:nvSpPr>
        <p:spPr>
          <a:xfrm>
            <a:off x="3997440" y="96840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ercise:  Fun at Far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874F-D9BC-4CE1-AD30-BFE58E7AD92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92040" y="1906560"/>
            <a:ext cx="847080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3086280">
              <a:lnSpc>
                <a:spcPct val="9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Big Go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ain a greater awareness of the concepts and techniques of applying effective safety leadership in the work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j0230528"/>
          <p:cNvPicPr/>
          <p:nvPr/>
        </p:nvPicPr>
        <p:blipFill>
          <a:blip r:embed="rId1"/>
          <a:stretch/>
        </p:blipFill>
        <p:spPr>
          <a:xfrm>
            <a:off x="685800" y="914400"/>
            <a:ext cx="31892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3BF-4020-43A2-8D97-BE6873DFE89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533520" y="3200400"/>
            <a:ext cx="79246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Values are Non-negot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What must occur before you know something is a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875120" y="1365120"/>
            <a:ext cx="327672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odu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027080" y="752400"/>
            <a:ext cx="28195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6CCB-96D4-49E5-815B-F388E6FB1F4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33520" y="1066680"/>
            <a:ext cx="83484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aders know how to communic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ough-Caring Communication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1" descr="j0230543"/>
          <p:cNvPicPr/>
          <p:nvPr/>
        </p:nvPicPr>
        <p:blipFill>
          <a:blip r:embed="rId1"/>
          <a:stretch/>
        </p:blipFill>
        <p:spPr>
          <a:xfrm>
            <a:off x="2247840" y="2819520"/>
            <a:ext cx="46483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F4B-7AAE-4869-B711-A5F36CCAFA8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57200" y="698400"/>
            <a:ext cx="8229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40C1-D977-49D1-B991-80713B9B2C19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685800" y="2481120"/>
            <a:ext cx="8229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Which message do we intend to conv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To which message does the receiver respo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 can we assume when the receiver's response to our message is not what we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ject 3" descr=""/>
          <p:cNvPicPr/>
          <p:nvPr/>
        </p:nvPicPr>
        <p:blipFill>
          <a:blip r:embed="rId1"/>
          <a:stretch/>
        </p:blipFill>
        <p:spPr>
          <a:xfrm>
            <a:off x="3846600" y="380880"/>
            <a:ext cx="6840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4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9144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5" descr=""/>
          <p:cNvPicPr/>
          <p:nvPr/>
        </p:nvPicPr>
        <p:blipFill>
          <a:blip r:embed="rId3"/>
          <a:stretch/>
        </p:blipFill>
        <p:spPr>
          <a:xfrm>
            <a:off x="5649840" y="727200"/>
            <a:ext cx="6368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250-3FC9-4E05-8FB9-E909B14F9044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3809880"/>
            <a:ext cx="81532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3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aders recognize goo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What are some important points to remember about recognizing employ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j0078795"/>
          <p:cNvPicPr/>
          <p:nvPr/>
        </p:nvPicPr>
        <p:blipFill>
          <a:blip r:embed="rId1"/>
          <a:stretch/>
        </p:blipFill>
        <p:spPr>
          <a:xfrm>
            <a:off x="3429000" y="45720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06C-8CBD-40B6-A156-5B42D025CDD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26"/>
          <p:cNvSpPr/>
          <p:nvPr/>
        </p:nvSpPr>
        <p:spPr>
          <a:xfrm>
            <a:off x="533520" y="533520"/>
            <a:ext cx="792468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five "Shoulds" of Effective Recog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_____________ - Recognize as soon as you can after the behavior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253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e careful recognition is based on fact, not just fe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2536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longer you wait, the greater the recognition to achieve the sam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27" descr="PE03046_"/>
          <p:cNvPicPr/>
          <p:nvPr/>
        </p:nvPicPr>
        <p:blipFill>
          <a:blip r:embed="rId1"/>
          <a:stretch/>
        </p:blipFill>
        <p:spPr>
          <a:xfrm>
            <a:off x="457200" y="380880"/>
            <a:ext cx="2075040" cy="213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28"/>
          <p:cNvSpPr/>
          <p:nvPr/>
        </p:nvSpPr>
        <p:spPr>
          <a:xfrm>
            <a:off x="1028520" y="247968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So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5000-E5F6-4CD2-ADDD-F532C636D09B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27040" y="1066680"/>
            <a:ext cx="807732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______________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 the employee knows for sure they will be recognized and exactly why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ddress the specific safety performa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Emphasize the positive impact the performance has o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3004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oid raffles, games, other strategies that base recognition on "luck.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2720" y="7542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u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D8FB-5963-4A49-B913-89B70A7A5FC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33520" y="990720"/>
            <a:ext cx="82296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_____________________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 The importance of the consequence is determined by the rece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is criteria is defined by the receiv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hat is effective for one person may not be effective for another to change perform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You know the consequence is  significant when it increases the frequency of desired behavi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ngible rewards shouldn't be thought of as the "big payoff."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ather, everyone should understand they are "tokens" of appreciation for doing the right th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160" y="62064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gnifica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866-52FA-405E-986D-0F3121D20880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99072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_____________________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 The most effective recognition is infor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 simple "atta-boy," or "atta-girl" may be all that's required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best recognition may not require money and pla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18880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emember K I S M I F  - Keep it Simple, Make it Fun… work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22520" y="6206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BA10-51FB-4601-B09A-AE440CC6E479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74560" y="1247760"/>
            <a:ext cx="800100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enuine approval for the right reas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tives for recognizing are appropriate (selfles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You' don't recognize just because it's polic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cognition is more a matter of leadership than manag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93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t's sincere and personal concern for the employee's welf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41080" y="97164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Sinc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D8F9-8491-45F4-8078-B3E46801452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1447920"/>
            <a:ext cx="6604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etting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Grou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orm te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4572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E83-D97D-4FCA-AC8A-3196862BF07F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304920" y="2971800"/>
            <a:ext cx="8686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ders know how to effectively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hat's the purpose of progressive discip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f asked why we're disciplining, what's your answer?    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j0078742"/>
          <p:cNvPicPr/>
          <p:nvPr/>
        </p:nvPicPr>
        <p:blipFill>
          <a:blip r:embed="rId1"/>
          <a:stretch/>
        </p:blipFill>
        <p:spPr>
          <a:xfrm>
            <a:off x="3048120" y="533520"/>
            <a:ext cx="28191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2240" y="939960"/>
            <a:ext cx="89503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90600" y="3211560"/>
            <a:ext cx="2359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L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ad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718240" y="3790800"/>
            <a:ext cx="17427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T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a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14040" y="297324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3300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uperv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434480" y="2081160"/>
            <a:ext cx="20052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410120" y="244152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88800" y="344520"/>
            <a:ext cx="78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eadership requires discipline when jus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41160" y="1246320"/>
            <a:ext cx="53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ake the five-finger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BD10373_"/>
          <p:cNvPicPr/>
          <p:nvPr/>
        </p:nvPicPr>
        <p:blipFill>
          <a:blip r:embed="rId1"/>
          <a:stretch/>
        </p:blipFill>
        <p:spPr>
          <a:xfrm flipH="1">
            <a:off x="2617920" y="3071880"/>
            <a:ext cx="27590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1F4-99B0-47C6-B362-F2D015FB55F6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90680" y="4327560"/>
            <a:ext cx="831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valuating Leadership in Your Safe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PE01775_"/>
          <p:cNvPicPr/>
          <p:nvPr/>
        </p:nvPicPr>
        <p:blipFill>
          <a:blip r:embed="rId1"/>
          <a:stretch/>
        </p:blipFill>
        <p:spPr>
          <a:xfrm flipH="1">
            <a:off x="3117960" y="1044720"/>
            <a:ext cx="290808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3327-2CC0-4FF3-ADE5-CA5C02B9B922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90680" y="4373640"/>
            <a:ext cx="8508960" cy="1305000"/>
          </a:xfrm>
          <a:prstGeom prst="rightArrow">
            <a:avLst>
              <a:gd name="adj1" fmla="val 80685"/>
              <a:gd name="adj2" fmla="val 48661"/>
            </a:avLst>
          </a:prstGeom>
          <a:gradFill rotWithShape="0">
            <a:gsLst>
              <a:gs pos="0">
                <a:srgbClr val="660033"/>
              </a:gs>
              <a:gs pos="100000">
                <a:srgbClr val="b583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560520" y="4718160"/>
          <a:ext cx="13017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718160"/>
                    <a:ext cx="13017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6"/>
          <p:cNvGraphicFramePr/>
          <p:nvPr/>
        </p:nvGraphicFramePr>
        <p:xfrm>
          <a:off x="7702560" y="4718160"/>
          <a:ext cx="101592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2560" y="4718160"/>
                    <a:ext cx="1015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7"/>
          <p:cNvSpPr/>
          <p:nvPr/>
        </p:nvSpPr>
        <p:spPr>
          <a:xfrm>
            <a:off x="1093680" y="4749840"/>
            <a:ext cx="615960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troll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5"/>
          <a:stretch/>
        </p:blipFill>
        <p:spPr>
          <a:xfrm>
            <a:off x="2438280" y="654120"/>
            <a:ext cx="3665520" cy="254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Text Box 9"/>
          <p:cNvSpPr/>
          <p:nvPr/>
        </p:nvSpPr>
        <p:spPr>
          <a:xfrm>
            <a:off x="1346040" y="3274920"/>
            <a:ext cx="64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s the leadership style in your culture tough-caring or tough-contro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117-453D-4ED9-A5C5-82A10D2CBDE1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540160" y="4572000"/>
            <a:ext cx="40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et's revie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PE00313_"/>
          <p:cNvPicPr/>
          <p:nvPr/>
        </p:nvPicPr>
        <p:blipFill>
          <a:blip r:embed="rId1"/>
          <a:stretch/>
        </p:blipFill>
        <p:spPr>
          <a:xfrm>
            <a:off x="3041640" y="1066680"/>
            <a:ext cx="30607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DAC3-A4AB-47B8-A0D8-1682DB67359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23880" y="53352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Thanks for coming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remember, stuff happen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C:\Users\Steve Geigle\AppData\Local\Microsoft\Windows\Temporary Internet Files\Content.IE5\EJ3EQ07N\MC900250742[1].wmf"/>
          <p:cNvPicPr/>
          <p:nvPr/>
        </p:nvPicPr>
        <p:blipFill>
          <a:blip r:embed="rId1"/>
          <a:stretch/>
        </p:blipFill>
        <p:spPr>
          <a:xfrm>
            <a:off x="2879640" y="1752480"/>
            <a:ext cx="353700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AB4F-B5B4-4252-8F3B-F27FE43EB249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04920" y="1371600"/>
            <a:ext cx="838188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Not power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ower derives from status, money, ability to harm, access to media, control materi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eaders always have power, but the powerful are not always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ug who sticks a gun in your back has “power” but not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s self-centered, ethically neutral (can be used for good or bad) a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53880"/>
            <a:ext cx="8551800" cy="531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07960" y="174600"/>
            <a:ext cx="11685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700-802A-415E-9195-1217A3F63A13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685800"/>
            <a:ext cx="82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57200" y="685800"/>
            <a:ext cx="807732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status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tatus or position may enhance the opportunity fo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ome in with high status or position haven’t a clue how to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osition if assigned from above… leadership is conferred from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3E62-B180-40D0-A9F3-7F98B4B7935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15520" y="979560"/>
            <a:ext cx="78894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authority –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rson may have subordinates, but not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eople will follow only if person acts as a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0761-0438-4623-B927-E3C2FD737D9A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685800"/>
            <a:ext cx="79246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t managemen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ment is the process of controlling systems through planning, organizing and superv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rs preside over processes, functions,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ing is a planned activity.  Leadership is more spontaneous than pl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4776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anagers to things right.  Leaders do the right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8263080" y="6638760"/>
            <a:ext cx="5760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BD8-863E-413B-B78C-38CA07BF1BD8}" type="slidenum">
              <a:rPr b="1" lang="en-US" sz="16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09480" y="838080"/>
            <a:ext cx="80773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leadership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adership is not common sens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mmon sense - What is it?  How do we develop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35568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Good sense is individual.  Common sense would result in common leadership sty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17:46:29Z</dcterms:created>
  <dc:creator>Steven J. Geigle</dc:creator>
  <dc:description/>
  <dc:language>en-US</dc:language>
  <cp:lastModifiedBy>Steve</cp:lastModifiedBy>
  <cp:lastPrinted>2000-01-09T20:05:28Z</cp:lastPrinted>
  <dcterms:modified xsi:type="dcterms:W3CDTF">2012-04-19T00:28:01Z</dcterms:modified>
  <cp:revision>44</cp:revision>
  <dc:subject/>
  <dc:title>No Slide Title</dc:title>
</cp:coreProperties>
</file>