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8.wmf" ContentType="image/x-wmf"/>
  <Override PartName="/ppt/media/image12.jpeg" ContentType="image/jpeg"/>
  <Override PartName="/ppt/media/image7.wmf" ContentType="image/x-wm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0EA-9CD7-49DE-A806-A449EBB9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28E6-9583-4BAF-8DD4-940152B6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EC82-3534-416C-AE66-099B1007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04D-0653-4C26-95A8-685A524E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B081-F3DC-4058-87EF-015BC94F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AF85-7756-4F73-A307-4F9E8100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E2E4-5B5D-4584-9BDB-8A8016D2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853C-9424-400B-A9A8-D3E2AB0C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2247-7544-4985-B98B-82641A49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7F49-EC7A-4D6B-850C-4E4E60AB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D7A1-2BAF-4FB5-80F6-291A3BC8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5CA-7F0C-498E-82CE-C71816D4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584F-1A4D-4F69-B4B6-A56E7AB6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B7B7-7C1B-44B0-A392-91DC306F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56F5-B07E-4CAF-ABBB-52CB04FB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62EB-BB7D-474A-8012-51DF498C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FF6A-15B7-4EA1-A038-4A0D080D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A7A-D96B-46F9-A41F-8AEF3673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542-90DF-4169-BD9F-4D68577B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B64-CE8C-4904-9529-430893A0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6BA6-7FF4-48F8-9483-C79C6AFC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BCF0-738E-45CF-B9B3-03A7AF95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11D-69C7-4B96-BFB0-432EAFF5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E27C-B248-4676-87C1-F6274915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19E0-9736-4209-B2EB-55562B36FB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F262-03FB-4BB9-B1B2-1AFF72EC54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06600" y="2281320"/>
            <a:ext cx="6130800" cy="27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.VnArialH"/>
              </a:rPr>
              <a:t>S¸n d©y lîn</a:t>
            </a:r>
            <a:r>
              <a:rPr b="0" lang="en-US" sz="2800" spc="-1" strike="noStrike">
                <a:solidFill>
                  <a:srgbClr val="ffff66"/>
                </a:solidFill>
                <a:latin typeface=".VnArial"/>
              </a:rPr>
              <a:t> (</a:t>
            </a:r>
            <a:r>
              <a:rPr b="0" i="1" lang="en-US" sz="2800" spc="-1" strike="noStrike">
                <a:solidFill>
                  <a:srgbClr val="ffff66"/>
                </a:solidFill>
                <a:latin typeface=".VnArial"/>
              </a:rPr>
              <a:t>Taenia solium</a:t>
            </a:r>
            <a:r>
              <a:rPr b="0" lang="en-US" sz="2800" spc="-1" strike="noStrike">
                <a:solidFill>
                  <a:srgbClr val="ffff66"/>
                </a:solidFill>
                <a:latin typeface=".Vn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.VnArialH"/>
              </a:rPr>
              <a:t>s¸n d©y bß</a:t>
            </a:r>
            <a:r>
              <a:rPr b="0" lang="en-US" sz="2800" spc="-1" strike="noStrike">
                <a:solidFill>
                  <a:srgbClr val="ffff66"/>
                </a:solidFill>
                <a:latin typeface=".VnArial"/>
              </a:rPr>
              <a:t> (</a:t>
            </a:r>
            <a:r>
              <a:rPr b="0" i="1" lang="en-US" sz="2800" spc="-1" strike="noStrike">
                <a:solidFill>
                  <a:srgbClr val="ffff66"/>
                </a:solidFill>
                <a:latin typeface=".VnArial"/>
              </a:rPr>
              <a:t>Taenia saginata</a:t>
            </a:r>
            <a:r>
              <a:rPr b="0" lang="en-US" sz="2800" spc="-1" strike="noStrike">
                <a:solidFill>
                  <a:srgbClr val="ffff66"/>
                </a:solidFill>
                <a:latin typeface=".Vn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57168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.VnArialH"/>
                <a:ea typeface="Arial"/>
              </a:rPr>
              <a:t>TR¦¥NG </a:t>
            </a:r>
            <a:r>
              <a:rPr b="0" lang="en-US" sz="1800" spc="-1" strike="noStrike">
                <a:solidFill>
                  <a:srgbClr val="ff9900"/>
                </a:solidFill>
                <a:latin typeface=".VnArialH"/>
              </a:rPr>
              <a:t>§¹I</a:t>
            </a:r>
            <a:r>
              <a:rPr b="0" lang="en-US" sz="1800" spc="-1" strike="noStrike">
                <a:solidFill>
                  <a:srgbClr val="ff9900"/>
                </a:solidFill>
                <a:latin typeface=".VnArialH"/>
                <a:ea typeface="Arial"/>
              </a:rPr>
              <a:t> HäC T¢Y NGUY£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.VnArialH"/>
                <a:ea typeface="Arial"/>
              </a:rPr>
              <a:t>        </a:t>
            </a:r>
            <a:r>
              <a:rPr b="0" lang="en-US" sz="1800" spc="-1" strike="noStrike">
                <a:solidFill>
                  <a:srgbClr val="ff9900"/>
                </a:solidFill>
                <a:latin typeface=".VnArialH"/>
                <a:ea typeface="Arial"/>
              </a:rPr>
              <a:t>Bé m«n  K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57592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TS PHAN V¡N TRä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609588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Vßng ®êi cña s¸n d©y lîn (</a:t>
            </a:r>
            <a:r>
              <a:rPr b="1" i="1" lang="en-US" sz="2800" spc="-1" strike="noStrike">
                <a:solidFill>
                  <a:srgbClr val="e5ffff"/>
                </a:solidFill>
                <a:latin typeface=".VnArial Narrow"/>
              </a:rPr>
              <a:t>Taenia solium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96704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80880"/>
          <a:ext cx="6934320" cy="553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380880"/>
                    <a:ext cx="6934320" cy="55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220968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.VnArial Narrow"/>
                <a:ea typeface="Times New Roman"/>
              </a:rPr>
              <a:t>1.1. Ng­êi lµ vËt chñ chÝnh: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Ng­êi an ph¶i thÞt lîn chøa nang Êu trïng “lîn g¹o” cßn sèng, d­íi t¸c dông cña dÞch t¸ trµng, ®Çu s¸n tho¸t ra khái nang b¸m vµo niªm m¹c ruét, lín lªn ph¸t triÓn thµnh s¸n tr­ëng thµnh khoang 67 - 72 ngµy sau s¸n ®· cã nhung ®èt giµ. 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S¸n tr­ëng thµnh cã thÓ sèng tíi 25 nam.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60948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.VnArialH"/>
                <a:ea typeface="Times New Roman"/>
              </a:rPr>
              <a:t>1. ®Æc ®iÓm sinh hä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6095880"/>
            <a:ext cx="6476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Vßng ®êi cña s¸n d©y lîn (</a:t>
            </a:r>
            <a:r>
              <a:rPr b="1" i="1" lang="en-US" sz="2800" spc="-1" strike="noStrike">
                <a:solidFill>
                  <a:srgbClr val="e5ffff"/>
                </a:solidFill>
                <a:latin typeface=".VnArial Narrow"/>
              </a:rPr>
              <a:t>Taenia solium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96704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380880"/>
          <a:ext cx="6934320" cy="553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380880"/>
                    <a:ext cx="6934320" cy="55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133360"/>
            <a:ext cx="6629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.VnArial Narrow"/>
                <a:ea typeface="Times New Roman"/>
              </a:rPr>
              <a:t>1.2. Ng­êi lµ vËt chñ phô: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Ng­êi cßn cã thÓ lµ vËt chñ phô cña SDL (trong tr­êng hîp ng­êi an phai trøng s¸n d©y lîn tõ ngo¹i canh) theo ®­êng tiªu ho¸, d­íi t¸c dông cña dÞch tiªu ho¸, AT tho¸t ra khái nang, xuyªn qua thµnh ruét l¹i vµo vßng tuÇn hoµn tiÕp tôc chu du kh¾p c¬ thÓ råi cuèi cïng ®Õn c­ tró t¹i c¸c tæ chøc liªn kÕt.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60948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.VnArialH"/>
                <a:ea typeface="Times New Roman"/>
              </a:rPr>
              <a:t>1. ®Æc ®iÓm sinh hä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6095880"/>
            <a:ext cx="6476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Vßng ®êi cña s¸n d©y lîn (</a:t>
            </a:r>
            <a:r>
              <a:rPr b="1" i="1" lang="en-US" sz="2800" spc="-1" strike="noStrike">
                <a:solidFill>
                  <a:srgbClr val="e5ffff"/>
                </a:solidFill>
                <a:latin typeface=".VnArial Narrow"/>
              </a:rPr>
              <a:t>Taenia solium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96704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380880"/>
          <a:ext cx="6934320" cy="553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380880"/>
                    <a:ext cx="6934320" cy="55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520" y="213336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.VnArial Narrow"/>
                <a:ea typeface="Times New Roman"/>
              </a:rPr>
              <a:t>1.3. Ng­êi võa lµ VCC võa lµ VCP: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Th­êng gÆp h¬n, møc ®é nÆng h¬n, nguy hiÓm h¬n lµ tr­êng hîp ng­êi an phai trøng s¸n d©y lîn tõ ngo¹i c¶nh. Nhung ng­êi m¾c s¸n tr­ëng thµnh (ng­êi lµ VCC), bÞ n«n oÑ, ®èt s¸n giµ rông ra ë ruét non theo nhu ®éng ng­îc chiÒu lªn d¹ dµy, trøng tõ  c¸c ®èt s¸n giµ ®­îc giai phãng ra.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60948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.VnArialH"/>
                <a:ea typeface="Times New Roman"/>
              </a:rPr>
              <a:t>1. ®Æc ®iÓm sinh hä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6095880"/>
            <a:ext cx="6476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Vßng ®êi cña s¸n d©y lîn (</a:t>
            </a:r>
            <a:r>
              <a:rPr b="1" i="1" lang="en-US" sz="2800" spc="-1" strike="noStrike">
                <a:solidFill>
                  <a:srgbClr val="e5ffff"/>
                </a:solidFill>
                <a:latin typeface=".VnArial Narrow"/>
              </a:rPr>
              <a:t>Taenia solium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96704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380880"/>
          <a:ext cx="6934320" cy="553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380880"/>
                    <a:ext cx="6934320" cy="55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120" y="2514600"/>
            <a:ext cx="6172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Khi xuèng t¸ trµng, Êu trïng trong trøng tho¸t ra, chui qua thµnh ruét vµo hÖ tuÇn hoµn theo c¸c m¹ch m¸u ®i kh¾p c¬ thÓ, råi l¹i vµo c¸c c¬, c¸c m« kh¸c vµ ph¸t triÓn thµnh nang Êu trïng (ng­êi lµ VCP).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60948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.VnArialH"/>
                <a:ea typeface="Times New Roman"/>
              </a:rPr>
              <a:t>1. ®Æc ®iÓm sinh hä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21333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.VnArial Narrow"/>
                <a:ea typeface="Times New Roman"/>
              </a:rPr>
              <a:t>2.1. BÖnh s¸n tr­ëng thµnh: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     Ng­êi m¾c s¸n tr­ëng thµnh kh«ng cã triÖu chøng gi ®Æc biÖt, nh­ng tïy sù phan øng cña c¬ thÓ: cã thÓ thÊy ®Çy h¬i, khã tiªu, buån n«n, ®au vïng th­îng vÞ, ®i láng tõng ®ît, cã thÓ ch¸n an, an kh«ng ngon, hoÆc ng­îc l¹i cã khi ®ãi cån cµo, an nhiÒu, sót c©n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60948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.VnArialH"/>
                <a:ea typeface="Times New Roman"/>
              </a:rPr>
              <a:t>2. Vai trß y hä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52480" y="228564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.VnArial Narrow"/>
                <a:ea typeface="Times New Roman"/>
              </a:rPr>
              <a:t>2. 2. BÖnh Êu trïng s¸n d©y lîn: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+ Nang Êu trïng s¸n d©y lîn cã thÓ thÊy bÊt cø n¬i nµo trong c¬ thÓ vËt chñ: da, m« c¬, n·o, m¾t.... 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+ Tïy theo sè l­îng nang vµ vÞ trÝ cña nang mµ cã nhung biÓu hiÖn l©m sµng nÆng nhÑ kh¸c nhau hoÆc cã thÓ g©y tö  vong.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676520" y="60948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.VnArialH"/>
                <a:ea typeface="Times New Roman"/>
              </a:rPr>
              <a:t>2. Vai trß y hä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4857840"/>
            <a:ext cx="4795920" cy="135000"/>
          </a:xfrm>
          <a:custGeom>
            <a:avLst/>
            <a:gdLst/>
            <a:ahLst/>
            <a:rect l="l" t="t" r="r" b="b"/>
            <a:pathLst>
              <a:path w="13321" h="373">
                <a:moveTo>
                  <a:pt x="6697" y="13543"/>
                </a:moveTo>
                <a:cubicBezTo>
                  <a:pt x="7175" y="13543"/>
                  <a:pt x="7674" y="13505"/>
                  <a:pt x="8136" y="13593"/>
                </a:cubicBezTo>
                <a:cubicBezTo>
                  <a:pt x="8244" y="13613"/>
                  <a:pt x="8323" y="13636"/>
                  <a:pt x="8434" y="13643"/>
                </a:cubicBezTo>
                <a:cubicBezTo>
                  <a:pt x="9306" y="13698"/>
                  <a:pt x="10242" y="13691"/>
                  <a:pt x="11112" y="13618"/>
                </a:cubicBezTo>
                <a:cubicBezTo>
                  <a:pt x="11276" y="13604"/>
                  <a:pt x="11447" y="13575"/>
                  <a:pt x="11609" y="13568"/>
                </a:cubicBezTo>
                <a:cubicBezTo>
                  <a:pt x="11811" y="13560"/>
                  <a:pt x="12005" y="13532"/>
                  <a:pt x="12204" y="13519"/>
                </a:cubicBezTo>
                <a:cubicBezTo>
                  <a:pt x="12271" y="13515"/>
                  <a:pt x="12397" y="13494"/>
                  <a:pt x="12452" y="13494"/>
                </a:cubicBezTo>
                <a:cubicBezTo>
                  <a:pt x="12498" y="13494"/>
                  <a:pt x="12511" y="13517"/>
                  <a:pt x="12551" y="13519"/>
                </a:cubicBezTo>
                <a:cubicBezTo>
                  <a:pt x="12827" y="13531"/>
                  <a:pt x="13092" y="13587"/>
                  <a:pt x="13370" y="13593"/>
                </a:cubicBezTo>
                <a:cubicBezTo>
                  <a:pt x="13558" y="13597"/>
                  <a:pt x="13703" y="13641"/>
                  <a:pt x="13891" y="13667"/>
                </a:cubicBezTo>
                <a:cubicBezTo>
                  <a:pt x="14145" y="13702"/>
                  <a:pt x="14408" y="13706"/>
                  <a:pt x="14660" y="13742"/>
                </a:cubicBezTo>
                <a:cubicBezTo>
                  <a:pt x="14746" y="13754"/>
                  <a:pt x="14854" y="13799"/>
                  <a:pt x="14932" y="13816"/>
                </a:cubicBezTo>
                <a:cubicBezTo>
                  <a:pt x="14997" y="13831"/>
                  <a:pt x="15064" y="13868"/>
                  <a:pt x="15131" y="13866"/>
                </a:cubicBezTo>
                <a:cubicBezTo>
                  <a:pt x="15226" y="13863"/>
                  <a:pt x="15251" y="13837"/>
                  <a:pt x="15329" y="13816"/>
                </a:cubicBezTo>
                <a:cubicBezTo>
                  <a:pt x="15373" y="13804"/>
                  <a:pt x="15426" y="13759"/>
                  <a:pt x="15478" y="13742"/>
                </a:cubicBezTo>
                <a:cubicBezTo>
                  <a:pt x="15523" y="13728"/>
                  <a:pt x="15582" y="13703"/>
                  <a:pt x="15627" y="13692"/>
                </a:cubicBezTo>
                <a:cubicBezTo>
                  <a:pt x="15669" y="13682"/>
                  <a:pt x="15741" y="13673"/>
                  <a:pt x="15776" y="13667"/>
                </a:cubicBezTo>
                <a:cubicBezTo>
                  <a:pt x="15842" y="13656"/>
                  <a:pt x="15883" y="13653"/>
                  <a:pt x="15949" y="13643"/>
                </a:cubicBezTo>
                <a:cubicBezTo>
                  <a:pt x="16015" y="13633"/>
                  <a:pt x="16083" y="13622"/>
                  <a:pt x="16148" y="13618"/>
                </a:cubicBezTo>
                <a:cubicBezTo>
                  <a:pt x="16378" y="13605"/>
                  <a:pt x="16612" y="13618"/>
                  <a:pt x="16842" y="13618"/>
                </a:cubicBezTo>
                <a:cubicBezTo>
                  <a:pt x="16886" y="13599"/>
                  <a:pt x="16794" y="13547"/>
                  <a:pt x="16842" y="13543"/>
                </a:cubicBezTo>
                <a:cubicBezTo>
                  <a:pt x="17093" y="13521"/>
                  <a:pt x="17361" y="13553"/>
                  <a:pt x="17611" y="13568"/>
                </a:cubicBezTo>
                <a:cubicBezTo>
                  <a:pt x="17736" y="13575"/>
                  <a:pt x="17859" y="13590"/>
                  <a:pt x="17983" y="13593"/>
                </a:cubicBezTo>
                <a:cubicBezTo>
                  <a:pt x="18662" y="13611"/>
                  <a:pt x="19340" y="13573"/>
                  <a:pt x="20017" y="1361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05760" y="4902120"/>
            <a:ext cx="573120" cy="19080"/>
          </a:xfrm>
          <a:custGeom>
            <a:avLst/>
            <a:gdLst/>
            <a:ahLst/>
            <a:rect l="l" t="t" r="r" b="b"/>
            <a:pathLst>
              <a:path w="1589" h="50">
                <a:moveTo>
                  <a:pt x="20017" y="13618"/>
                </a:moveTo>
                <a:cubicBezTo>
                  <a:pt x="20061" y="13627"/>
                  <a:pt x="20095" y="13639"/>
                  <a:pt x="20141" y="13643"/>
                </a:cubicBezTo>
                <a:cubicBezTo>
                  <a:pt x="20485" y="13670"/>
                  <a:pt x="20839" y="13648"/>
                  <a:pt x="21183" y="13667"/>
                </a:cubicBezTo>
                <a:cubicBezTo>
                  <a:pt x="21322" y="13675"/>
                  <a:pt x="21465" y="13667"/>
                  <a:pt x="21605" y="1366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77080" y="4919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605" y="13667"/>
                </a:moveTo>
                <a:lnTo>
                  <a:pt x="21605" y="13667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16680" y="5919840"/>
            <a:ext cx="2295360" cy="73080"/>
          </a:xfrm>
          <a:custGeom>
            <a:avLst/>
            <a:gdLst/>
            <a:ahLst/>
            <a:rect l="l" t="t" r="r" b="b"/>
            <a:pathLst>
              <a:path w="6376" h="199">
                <a:moveTo>
                  <a:pt x="14213" y="16495"/>
                </a:moveTo>
                <a:cubicBezTo>
                  <a:pt x="14322" y="16489"/>
                  <a:pt x="14427" y="16473"/>
                  <a:pt x="14536" y="16470"/>
                </a:cubicBezTo>
                <a:cubicBezTo>
                  <a:pt x="14679" y="16467"/>
                  <a:pt x="14816" y="16450"/>
                  <a:pt x="14957" y="16446"/>
                </a:cubicBezTo>
                <a:cubicBezTo>
                  <a:pt x="15115" y="16442"/>
                  <a:pt x="15275" y="16436"/>
                  <a:pt x="15429" y="16470"/>
                </a:cubicBezTo>
                <a:cubicBezTo>
                  <a:pt x="15527" y="16492"/>
                  <a:pt x="15602" y="16515"/>
                  <a:pt x="15701" y="16520"/>
                </a:cubicBezTo>
                <a:cubicBezTo>
                  <a:pt x="15864" y="16527"/>
                  <a:pt x="16013" y="16555"/>
                  <a:pt x="16173" y="16570"/>
                </a:cubicBezTo>
                <a:cubicBezTo>
                  <a:pt x="16347" y="16587"/>
                  <a:pt x="16518" y="16594"/>
                  <a:pt x="16694" y="16594"/>
                </a:cubicBezTo>
                <a:cubicBezTo>
                  <a:pt x="17233" y="16594"/>
                  <a:pt x="17769" y="16598"/>
                  <a:pt x="18306" y="16619"/>
                </a:cubicBezTo>
                <a:cubicBezTo>
                  <a:pt x="18563" y="16629"/>
                  <a:pt x="18819" y="16632"/>
                  <a:pt x="19075" y="16644"/>
                </a:cubicBezTo>
                <a:cubicBezTo>
                  <a:pt x="19455" y="16662"/>
                  <a:pt x="19843" y="16643"/>
                  <a:pt x="20216" y="16619"/>
                </a:cubicBezTo>
                <a:cubicBezTo>
                  <a:pt x="20339" y="16611"/>
                  <a:pt x="20465" y="16619"/>
                  <a:pt x="20588" y="1661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12040" y="5983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588" y="16619"/>
                </a:moveTo>
                <a:lnTo>
                  <a:pt x="20588" y="16619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5040" y="607680"/>
            <a:ext cx="68562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.VnArialH"/>
              </a:rPr>
              <a:t>Môc tiªu bµi häc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.Vn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.VnArial"/>
              </a:rPr>
              <a:t>Tr×nh bµy nh÷ng ®Æc ®iÓm sinh häc, chu kú cña s¸n d©y lîn/bß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.Vn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.VnArial"/>
              </a:rPr>
              <a:t>Lý gi¶i ¨n thÞt lîn ch­a chÝn lµ yÕu tè nguy c¬ nhiÔm s¸n tr­ëng thµnh vµ nuèt trøng lµ yÕu tè nguy c¬  nhiÔm Êu trïng s¸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.Vn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.VnArial"/>
              </a:rPr>
              <a:t>3.  Nªu nh÷ng t¸c h¹i do s¸n tr­ëng thµnh vµ Êu trïng g©y r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.Vn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.VnArial"/>
              </a:rPr>
              <a:t>Tr×nh bµy ph­¬ng ph¸p t×m trøng vµ ®èt s¸n trong ph©n ®Ó chÈn ®o¸n nhiÔm s¸n tr­ëng thµnh, c¸c ph­¬ng ph¸p miÔn dÞch vµ c¸c ph­¬ng ph¸p hç trî ®Ó chÈn ®o¸n nhiÔm Êu trï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4038480"/>
            <a:ext cx="3581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Nang Êu trïng ë d­íi da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562720" y="2133720"/>
          <a:ext cx="2554200" cy="464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2133720"/>
                    <a:ext cx="25542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676520" y="60948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.VnBodoniH"/>
                <a:ea typeface="Times New Roman"/>
              </a:rPr>
              <a:t>2. Vai trß y hä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00400" y="594360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Nang Êu trïng ë m« c¬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90920" y="2360520"/>
          <a:ext cx="4876560" cy="34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360520"/>
                    <a:ext cx="487656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590920" y="6094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.VnBodoniH"/>
                <a:ea typeface="Times New Roman"/>
              </a:rPr>
              <a:t>2. Vai trß y hä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4266720"/>
            <a:ext cx="3047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Nang Êu trïng ë n·o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9" name="PKGD100" descr=""/>
          <p:cNvPicPr/>
          <p:nvPr/>
        </p:nvPicPr>
        <p:blipFill>
          <a:blip r:embed="rId2"/>
          <a:stretch/>
        </p:blipFill>
        <p:spPr>
          <a:xfrm>
            <a:off x="4460760" y="2496960"/>
            <a:ext cx="3768840" cy="3903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295280" y="6094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.VnBodoniH"/>
                <a:ea typeface="Times New Roman"/>
              </a:rPr>
              <a:t>2. Vai trß y hä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0195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.VnArial Narrow"/>
                <a:ea typeface="Times New Roman"/>
              </a:rPr>
              <a:t>BÖnh s¸n tr­ëng thµnh: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 tim ®èt s¸n hoÆc c¸c ®o¹n gåm 5 - 6 ®èt s¸n trong ph©n quan s¸t ®èt s¸n tr­ëng thµnh thÊy nh¸nh tö cung cã tõ  6 - 12 nh¸nh ngang.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Th­êng cã biÓu hiÖn rèi lo¹n tiªu ho¸.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6094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.VnBodoniH"/>
                <a:ea typeface="Times New Roman"/>
              </a:rPr>
              <a:t>3. ChÈn ®o¸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28440" y="2057400"/>
            <a:ext cx="6553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.VnArial Narrow"/>
                <a:ea typeface="Times New Roman"/>
              </a:rPr>
              <a:t>BÖnh Êu trïng s¸n d©y lîn: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- Dùa vµo LS: c¸c dÊu hiÖu ®éng kinh, giam thÞ lùc mï, c¸c nèt nang AT s¸n ë d­íi da; kÕt hîp víi BC ¸i toan  cao.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- Sinh thiÕt, X quang, soi ®¸y m¾t, chôp CT scanner, chôp MRI.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- C¸c ph­¬ng ph¸p MD: cã gi¸ trÞ chÈn ®o¸n nh­ng th­êng cã phan øng chÐo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6094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.VnArialH"/>
                <a:ea typeface="Times New Roman"/>
              </a:rPr>
              <a:t>3. ChÈn ®o¸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52120" y="2133360"/>
            <a:ext cx="63248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.VnArial NarrowH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66"/>
                </a:solidFill>
                <a:latin typeface=".VnArial Narrow"/>
                <a:ea typeface="Times New Roman"/>
              </a:rPr>
              <a:t>iÒu trÞ bÖnh s¸n tr­ëng thµnh: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CÇn dïng thuèc chèng n«n tr­íc khi ®iÒu trÞ, tr­íc khi uèng thuèc tÈy.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+ H¹t bÝ, h¹t cau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+ Quinacrin (atebrin): 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+ Niclosamide (yomesan, trÐdemine)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6094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.VnArialH"/>
                <a:ea typeface="Times New Roman"/>
              </a:rPr>
              <a:t>4. ®iÒu tr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13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.VnArial NarrowH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.VnArial NarrowH"/>
              </a:rPr>
              <a:t>®</a:t>
            </a:r>
            <a:r>
              <a:rPr b="1" lang="en-US" sz="2800" spc="-1" strike="noStrike">
                <a:solidFill>
                  <a:srgbClr val="ffff66"/>
                </a:solidFill>
                <a:latin typeface=".VnArial Narrow"/>
              </a:rPr>
              <a:t>iÒu trÞ bÖnh AT - SD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13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</a:t>
            </a:r>
            <a:r>
              <a:rPr b="1" lang="en-US" sz="2800" spc="-1" strike="noStrike">
                <a:solidFill>
                  <a:srgbClr val="ffffff"/>
                </a:solidFill>
                <a:latin typeface=".VnArial NarrowH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.VnArial NarrowH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.VnArial Narrow"/>
              </a:rPr>
              <a:t>iÒu trÞ bÖnh AT- SDL vÉn lµ vÊn ®Ò nan gi¶i. Thuèc cã t¸c dông diÖt AT-SDL, nh­ng ch­a hiÓu hÕt ®­îc c¬ chÕ t¸c dông cña thuèc, còng nh­ ph¶n øng cña c¬ thÓ, ®Æc biÖt cña n·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13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</a:t>
            </a:r>
            <a:r>
              <a:rPr b="1" lang="en-US" sz="2800" spc="-1" strike="noStrike">
                <a:solidFill>
                  <a:srgbClr val="ffffff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.VnArial Narrow"/>
              </a:rPr>
              <a:t>NhiÒu tr­êng hîp sau ®iÒu trÞ  bÖnh AT-SDL bÖnh nh©n l¹i bÞ mï hoÆc tö vo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6094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.VnArialH"/>
                <a:ea typeface="Times New Roman"/>
              </a:rPr>
              <a:t>4. ®iÒu tr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676520" y="20574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lnSpc>
                <a:spcPct val="13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</a:t>
            </a:r>
            <a:r>
              <a:rPr b="1" lang="en-US" sz="2800" spc="-1" strike="noStrike">
                <a:solidFill>
                  <a:srgbClr val="ffffff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.VnArial Narrow"/>
              </a:rPr>
              <a:t>ChØ ®Þnh ®iÒu trÞ néi khoa bÖnh AT - SDL: khi cã ®éng kinh, t¨ng ¸p lùc sä n·o, thay ®æi nh©n c¸ch (cã biÓu hiÖn t©m thÇn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</a:t>
            </a:r>
            <a:r>
              <a:rPr b="1" lang="en-US" sz="2800" spc="-1" strike="noStrike">
                <a:solidFill>
                  <a:srgbClr val="ffffff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.VnArial Narrow"/>
              </a:rPr>
              <a:t>ChØ ®Þnh ®iÒu trÞ ngo¹i khoa bÖnh AT - SDL: cã thÓ phÉu thuËt lÊy bá nang AT - SDL ë m¾t, ë tæ chøc d­íi da, c¬, cã nguy c¬ chÌn Ðp thÇn kinh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6094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.VnArialH"/>
                <a:ea typeface="Times New Roman"/>
              </a:rPr>
              <a:t>4. ®iÒu tr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5ffff"/>
                </a:solidFill>
                <a:latin typeface=".VnArialH"/>
              </a:rPr>
              <a:t>Mét sè ph¸c ®å ®iÒu trÞ AT - SDL</a:t>
            </a:r>
            <a:endParaRPr b="0" lang="en-US" sz="3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240" y="2349000"/>
            <a:ext cx="754380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 2"/>
                <a:ea typeface="Wingdings 2"/>
              </a:rPr>
              <a:t></a:t>
            </a:r>
            <a:r>
              <a:rPr b="1" lang="en-US" sz="2800" spc="-1" strike="noStrike">
                <a:solidFill>
                  <a:srgbClr val="ffff66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.VnArial Narrow"/>
              </a:rPr>
              <a:t>Ph¸c ®å 1: albendazole 15 mg/kg/24 h chia 2 lÇn trong ngµy + prednisolon 20 mg/24 h. §T 30 ngµ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 2"/>
                <a:ea typeface="Wingdings 2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.VnArial Narrow"/>
              </a:rPr>
              <a:t>Ph¸c ®å 2: albendazole 15 mg/kg/24 h chia 2 lÇn trong ngµy. §T 30 ngµ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 2"/>
                <a:ea typeface="Wingdings 2"/>
              </a:rPr>
              <a:t></a:t>
            </a:r>
            <a:r>
              <a:rPr b="1" lang="en-US" sz="2800" spc="-1" strike="noStrike">
                <a:solidFill>
                  <a:srgbClr val="ff0000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.VnArial Narrow"/>
              </a:rPr>
              <a:t>Ph¸c ®å 3: albendazole 20 mg/kg/24 h chia 2 lÇn trong ngµy phèi hîp víi prednisolon 20 mg/24 h. §T 20 ngµ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28840" y="1971720"/>
            <a:ext cx="678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.VnArialH"/>
              </a:rPr>
              <a:t>S¸n d©y bß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312408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.VnArial"/>
              </a:rPr>
              <a:t>Taenia sagina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8840" y="1971720"/>
            <a:ext cx="678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.VnArialH"/>
              </a:rPr>
              <a:t>S¸n d©y lî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312408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fff"/>
                </a:solidFill>
                <a:latin typeface=".VnArial"/>
              </a:rPr>
              <a:t>Taenia soli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440" y="2133360"/>
            <a:ext cx="6629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Nãi chung bÖnh s¸n d©y bß, phæ biÕn h¬n s¸n d©y lîn. Theo ­íc tÝnh trªn thÕ giíi cã khoang 39 triÖu ng­êi nhiÔm. Theo thèng kª cña ViÖn Sèt rÐt - KST - CT Trung ­¬ng, ®Õn nam 2004, ë ViÖt Nam ®· cã 49 tØnh thµnh ph¸t hiÖn bÖnh nh©n cã s¸n d©y bß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609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H"/>
              </a:rPr>
              <a:t>Tæng qu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60040" y="428760"/>
            <a:ext cx="694044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.VnArialH"/>
                <a:ea typeface="Times New Roman"/>
              </a:rPr>
              <a:t>Giíi thiÖu hinh thÓ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22040" y="3059280"/>
            <a:ext cx="6462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 Narrow"/>
                <a:ea typeface="Times New Roman"/>
              </a:rPr>
              <a:t>S¸n tr­ëng thµn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351468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62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956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KG82D0" descr=""/>
          <p:cNvPicPr/>
          <p:nvPr/>
        </p:nvPicPr>
        <p:blipFill>
          <a:blip r:embed="rId2"/>
          <a:stretch/>
        </p:blipFill>
        <p:spPr>
          <a:xfrm>
            <a:off x="2844720" y="2438280"/>
            <a:ext cx="584208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60040" y="428760"/>
            <a:ext cx="694044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.VnArialH"/>
                <a:ea typeface="Times New Roman"/>
              </a:rPr>
              <a:t>Giíi thiÖu hinh thÓ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51468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62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956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8148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KGE5" descr=""/>
          <p:cNvPicPr/>
          <p:nvPr/>
        </p:nvPicPr>
        <p:blipFill>
          <a:blip r:embed="rId2"/>
          <a:stretch/>
        </p:blipFill>
        <p:spPr>
          <a:xfrm>
            <a:off x="1295280" y="2790720"/>
            <a:ext cx="4343400" cy="2619360"/>
          </a:xfrm>
          <a:prstGeom prst="rect">
            <a:avLst/>
          </a:prstGeom>
          <a:ln w="0">
            <a:noFill/>
          </a:ln>
        </p:spPr>
      </p:pic>
      <p:pic>
        <p:nvPicPr>
          <p:cNvPr id="189" name="Taenia_egg1" descr="Taenia egg 1"/>
          <p:cNvPicPr/>
          <p:nvPr/>
        </p:nvPicPr>
        <p:blipFill>
          <a:blip r:embed="rId3"/>
          <a:stretch/>
        </p:blipFill>
        <p:spPr>
          <a:xfrm>
            <a:off x="6019920" y="2762280"/>
            <a:ext cx="2743200" cy="2647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20968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.VnArial NarrowH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.VnArial Narrow"/>
              </a:rPr>
              <a:t>èt s¸n d©y b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59436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.VnArial Narrow"/>
              </a:rPr>
              <a:t>Trøng s¸n d©y b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90920" y="2514600"/>
            <a:ext cx="4572000" cy="2895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3352680"/>
            <a:ext cx="2047680" cy="2075040"/>
          </a:xfrm>
          <a:custGeom>
            <a:avLst/>
            <a:gdLst/>
            <a:ahLst/>
            <a:rect l="l" t="t" r="r" b="b"/>
            <a:pathLst>
              <a:path w="1290" h="1307">
                <a:moveTo>
                  <a:pt x="0" y="46"/>
                </a:moveTo>
                <a:cubicBezTo>
                  <a:pt x="66" y="90"/>
                  <a:pt x="129" y="144"/>
                  <a:pt x="185" y="200"/>
                </a:cubicBezTo>
                <a:cubicBezTo>
                  <a:pt x="213" y="282"/>
                  <a:pt x="240" y="362"/>
                  <a:pt x="262" y="446"/>
                </a:cubicBezTo>
                <a:cubicBezTo>
                  <a:pt x="267" y="615"/>
                  <a:pt x="268" y="785"/>
                  <a:pt x="277" y="954"/>
                </a:cubicBezTo>
                <a:cubicBezTo>
                  <a:pt x="278" y="969"/>
                  <a:pt x="293" y="1065"/>
                  <a:pt x="308" y="1092"/>
                </a:cubicBezTo>
                <a:cubicBezTo>
                  <a:pt x="326" y="1124"/>
                  <a:pt x="349" y="1153"/>
                  <a:pt x="370" y="1184"/>
                </a:cubicBezTo>
                <a:cubicBezTo>
                  <a:pt x="380" y="1199"/>
                  <a:pt x="383" y="1224"/>
                  <a:pt x="400" y="1230"/>
                </a:cubicBezTo>
                <a:cubicBezTo>
                  <a:pt x="558" y="1283"/>
                  <a:pt x="727" y="1287"/>
                  <a:pt x="893" y="1307"/>
                </a:cubicBezTo>
                <a:cubicBezTo>
                  <a:pt x="962" y="1284"/>
                  <a:pt x="1029" y="1266"/>
                  <a:pt x="1093" y="1230"/>
                </a:cubicBezTo>
                <a:cubicBezTo>
                  <a:pt x="1125" y="1212"/>
                  <a:pt x="1154" y="1189"/>
                  <a:pt x="1185" y="1169"/>
                </a:cubicBezTo>
                <a:cubicBezTo>
                  <a:pt x="1200" y="1159"/>
                  <a:pt x="1231" y="1138"/>
                  <a:pt x="1231" y="1138"/>
                </a:cubicBezTo>
                <a:cubicBezTo>
                  <a:pt x="1290" y="963"/>
                  <a:pt x="1260" y="1078"/>
                  <a:pt x="1277" y="784"/>
                </a:cubicBezTo>
                <a:cubicBezTo>
                  <a:pt x="1264" y="744"/>
                  <a:pt x="1262" y="701"/>
                  <a:pt x="1247" y="661"/>
                </a:cubicBezTo>
                <a:cubicBezTo>
                  <a:pt x="1232" y="621"/>
                  <a:pt x="1196" y="600"/>
                  <a:pt x="1170" y="569"/>
                </a:cubicBezTo>
                <a:cubicBezTo>
                  <a:pt x="1063" y="441"/>
                  <a:pt x="1227" y="611"/>
                  <a:pt x="1093" y="477"/>
                </a:cubicBezTo>
                <a:cubicBezTo>
                  <a:pt x="1072" y="416"/>
                  <a:pt x="1047" y="384"/>
                  <a:pt x="1000" y="338"/>
                </a:cubicBezTo>
                <a:cubicBezTo>
                  <a:pt x="995" y="323"/>
                  <a:pt x="995" y="305"/>
                  <a:pt x="985" y="292"/>
                </a:cubicBezTo>
                <a:cubicBezTo>
                  <a:pt x="974" y="278"/>
                  <a:pt x="953" y="273"/>
                  <a:pt x="939" y="261"/>
                </a:cubicBezTo>
                <a:cubicBezTo>
                  <a:pt x="888" y="218"/>
                  <a:pt x="864" y="190"/>
                  <a:pt x="800" y="169"/>
                </a:cubicBezTo>
                <a:cubicBezTo>
                  <a:pt x="788" y="157"/>
                  <a:pt x="726" y="101"/>
                  <a:pt x="723" y="77"/>
                </a:cubicBezTo>
                <a:cubicBezTo>
                  <a:pt x="719" y="51"/>
                  <a:pt x="739" y="26"/>
                  <a:pt x="739" y="0"/>
                </a:cubicBezTo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114800"/>
            <a:ext cx="228600" cy="3808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86400" y="4648320"/>
            <a:ext cx="30492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76920" y="4495680"/>
            <a:ext cx="304560" cy="304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4952880"/>
            <a:ext cx="228600" cy="304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8080" y="3344760"/>
            <a:ext cx="939960" cy="1978200"/>
          </a:xfrm>
          <a:custGeom>
            <a:avLst/>
            <a:gdLst/>
            <a:ahLst/>
            <a:rect l="l" t="t" r="r" b="b"/>
            <a:pathLst>
              <a:path w="592" h="1246">
                <a:moveTo>
                  <a:pt x="0" y="0"/>
                </a:moveTo>
                <a:cubicBezTo>
                  <a:pt x="15" y="10"/>
                  <a:pt x="35" y="17"/>
                  <a:pt x="46" y="31"/>
                </a:cubicBezTo>
                <a:cubicBezTo>
                  <a:pt x="84" y="79"/>
                  <a:pt x="47" y="151"/>
                  <a:pt x="31" y="200"/>
                </a:cubicBezTo>
                <a:cubicBezTo>
                  <a:pt x="55" y="393"/>
                  <a:pt x="58" y="462"/>
                  <a:pt x="46" y="677"/>
                </a:cubicBezTo>
                <a:cubicBezTo>
                  <a:pt x="66" y="737"/>
                  <a:pt x="74" y="825"/>
                  <a:pt x="108" y="877"/>
                </a:cubicBezTo>
                <a:cubicBezTo>
                  <a:pt x="156" y="950"/>
                  <a:pt x="132" y="906"/>
                  <a:pt x="169" y="1016"/>
                </a:cubicBezTo>
                <a:cubicBezTo>
                  <a:pt x="181" y="1051"/>
                  <a:pt x="231" y="1108"/>
                  <a:pt x="231" y="1108"/>
                </a:cubicBezTo>
                <a:cubicBezTo>
                  <a:pt x="241" y="1139"/>
                  <a:pt x="249" y="1177"/>
                  <a:pt x="277" y="1200"/>
                </a:cubicBezTo>
                <a:cubicBezTo>
                  <a:pt x="320" y="1235"/>
                  <a:pt x="515" y="1244"/>
                  <a:pt x="539" y="1246"/>
                </a:cubicBezTo>
                <a:cubicBezTo>
                  <a:pt x="554" y="1241"/>
                  <a:pt x="578" y="1245"/>
                  <a:pt x="585" y="1231"/>
                </a:cubicBezTo>
                <a:cubicBezTo>
                  <a:pt x="592" y="1216"/>
                  <a:pt x="573" y="1201"/>
                  <a:pt x="569" y="1185"/>
                </a:cubicBezTo>
                <a:cubicBezTo>
                  <a:pt x="548" y="1093"/>
                  <a:pt x="572" y="1062"/>
                  <a:pt x="477" y="1031"/>
                </a:cubicBezTo>
                <a:cubicBezTo>
                  <a:pt x="404" y="958"/>
                  <a:pt x="327" y="918"/>
                  <a:pt x="292" y="816"/>
                </a:cubicBezTo>
                <a:cubicBezTo>
                  <a:pt x="310" y="681"/>
                  <a:pt x="367" y="507"/>
                  <a:pt x="231" y="416"/>
                </a:cubicBezTo>
                <a:cubicBezTo>
                  <a:pt x="221" y="401"/>
                  <a:pt x="208" y="387"/>
                  <a:pt x="200" y="370"/>
                </a:cubicBezTo>
                <a:cubicBezTo>
                  <a:pt x="187" y="340"/>
                  <a:pt x="169" y="277"/>
                  <a:pt x="169" y="277"/>
                </a:cubicBezTo>
                <a:cubicBezTo>
                  <a:pt x="174" y="226"/>
                  <a:pt x="177" y="175"/>
                  <a:pt x="185" y="124"/>
                </a:cubicBezTo>
                <a:cubicBezTo>
                  <a:pt x="202" y="17"/>
                  <a:pt x="200" y="110"/>
                  <a:pt x="200" y="6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65600" y="3370320"/>
            <a:ext cx="23760" cy="146160"/>
          </a:xfrm>
          <a:custGeom>
            <a:avLst/>
            <a:gdLst/>
            <a:ahLst/>
            <a:rect l="l" t="t" r="r" b="b"/>
            <a:pathLst>
              <a:path w="15" h="92">
                <a:moveTo>
                  <a:pt x="0" y="92"/>
                </a:moveTo>
                <a:cubicBezTo>
                  <a:pt x="5" y="61"/>
                  <a:pt x="15" y="0"/>
                  <a:pt x="15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41840" y="3321000"/>
            <a:ext cx="114480" cy="220680"/>
          </a:xfrm>
          <a:custGeom>
            <a:avLst/>
            <a:gdLst/>
            <a:ahLst/>
            <a:rect l="l" t="t" r="r" b="b"/>
            <a:pathLst>
              <a:path w="72" h="139">
                <a:moveTo>
                  <a:pt x="0" y="139"/>
                </a:moveTo>
                <a:cubicBezTo>
                  <a:pt x="70" y="33"/>
                  <a:pt x="72" y="81"/>
                  <a:pt x="46" y="0"/>
                </a:cubicBezTo>
                <a:cubicBezTo>
                  <a:pt x="26" y="57"/>
                  <a:pt x="15" y="53"/>
                  <a:pt x="61" y="3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5400" y="428760"/>
            <a:ext cx="69372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.VnArialH"/>
                <a:ea typeface="Times New Roman"/>
              </a:rPr>
              <a:t>Giíi thiÖu hinh thÓ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60199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.VnArial Narrow"/>
              </a:rPr>
              <a:t>Nang s¸n d©y b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74360" y="1971720"/>
            <a:ext cx="7443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99"/>
                </a:solidFill>
                <a:latin typeface=".VnArialH"/>
              </a:rPr>
              <a:t>1. ®Æc ®iÓm sinh hä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520" y="60195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ff99"/>
                </a:solidFill>
                <a:latin typeface=".VnArial Narrow"/>
              </a:rPr>
              <a:t>Vßng ®êi cña s¸n d©y bß</a:t>
            </a:r>
            <a:endParaRPr b="0" lang="en-US" sz="31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371600" y="228600"/>
          <a:ext cx="7391520" cy="555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28600"/>
                    <a:ext cx="7391520" cy="55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520200"/>
            <a:ext cx="61326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.VnBodoni"/>
              </a:rPr>
              <a:t>1. §Æc ®iÓm sinh häc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2457360"/>
            <a:ext cx="7010280" cy="36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66ff99"/>
              </a:buClr>
              <a:buFont typeface=".Vn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  </a:t>
            </a: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S¸n tr­ëng thµnh kÝ sinh ë ruét non cña ng­ê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66ff99"/>
              </a:buClr>
              <a:buFont typeface=".Vn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  </a:t>
            </a: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S¸n chiÕm d­ìng chÊp cã trong ruét n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66ff99"/>
              </a:buClr>
              <a:buFont typeface=".Vn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  </a:t>
            </a: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S¸n th­êng rông tõng ®èt giµ tù ®éng bß ra ngoµi kh«ng cÇn theo ph©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22040" y="520200"/>
            <a:ext cx="61326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.VnBodoni"/>
              </a:rPr>
              <a:t>1. §Æc ®iÓm sinh häc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2303640"/>
            <a:ext cx="70106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.VnArial Narrow"/>
              </a:rPr>
              <a:t>VËt chñ phô lµ tr©u, bß:</a:t>
            </a: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Do tr©u, bß ¨n ph¶i ®èt s¸n giµ ë ngo¹i c¶nh, trøng vµo ruét në ra Êu trïng, chui qua thµnh ruét vµo tuÇn hoµn råi c­ tró ë c¸c c¬ v©n, c¬ tr¬n (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c¬ l­ìi, c¬ hoµnh, c¬ tim, c¬ m«ng cña tr©u bß</a:t>
            </a: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) h×nh thµnh nang Êu trïng gäi lµ “g¹o bß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19520" y="60195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ff99"/>
                </a:solidFill>
                <a:latin typeface=".VnArial Narrow"/>
              </a:rPr>
              <a:t>Vßng ®êi cña s¸n d©y bß</a:t>
            </a:r>
            <a:endParaRPr b="0" lang="en-US" sz="31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371600" y="228600"/>
          <a:ext cx="7391520" cy="555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28600"/>
                    <a:ext cx="7391520" cy="55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05120" y="2286000"/>
            <a:ext cx="685800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NÕu ng­êi ¨n thÞt tr©u bß cã nang Êu trïng ch­a ®­îc nÊu chÝn, hä¨c t¸i sèng th× nang Êu trïng vµo ruét ng­êi råi Êu trïng tho¸t ra khái nang, ®Çu lén ra ngoµi, b¸m vµo mµng ruét vµ ph¸t triÓn thµnh s¸n tr­ëng thµnh, trong kho¶ng tõ 8-10 tuÇ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03040" y="520200"/>
            <a:ext cx="61326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.VnBodoni"/>
              </a:rPr>
              <a:t>1. §Æc ®iÓm sinh häc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133720"/>
            <a:ext cx="7010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BÖnh SDL phæ biÕn ë kh¾p n¬i trªn thÕ giíi, nhÊt lµ nh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÷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g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 n¬i cã tËp tôc an thÞt lîn sèng, ch­a nÊu chÝn, quan lÝ vµ xö lÝ ph©n ch­a tèt, ch­a cã chÕ ®é kiÓm tra thùc phÈm chÆt chÏ. 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Ng­êi theo ®¹o Håi gi¸o, Do th¸i gi¸o, kh«ng cã tôc an thÞt lîn sèng nªn kh«ng m¾c bÖnh nµy.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609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H"/>
              </a:rPr>
              <a:t>Tæng qu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1523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Nh÷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19520" y="60195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ff99"/>
                </a:solidFill>
                <a:latin typeface=".VnArial Narrow"/>
              </a:rPr>
              <a:t>Vßng ®êi cña s¸n d©y bß</a:t>
            </a:r>
            <a:endParaRPr b="0" lang="en-US" sz="31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371600" y="228600"/>
          <a:ext cx="7391520" cy="555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28600"/>
                    <a:ext cx="7391520" cy="55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905120" y="2371680"/>
            <a:ext cx="6095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Ng­êi lµ vËt chñ chÝn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Tr©u, bß lµ vËt chñ phô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S¸n d©y bß cã thÓ sèng trong c¬ thÓ ng­êi tõ 20 - 30 n¨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22040" y="520200"/>
            <a:ext cx="61326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.VnBodoni"/>
              </a:rPr>
              <a:t>1. §Æc ®iÓm sinh häc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676520" y="2133720"/>
            <a:ext cx="66294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Wingdings 3"/>
                <a:ea typeface="Wingdings 3"/>
              </a:rPr>
              <a:t>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Tr­íc ®©y cho r»ng ng­êi chØ m¾c bÖnh s¸n tr­ëng thµnh kh«ng m¾c bÖnh Êu trï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Wingdings 3"/>
                <a:ea typeface="Wingdings 3"/>
              </a:rPr>
              <a:t>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HiÖn nay thÊy hÇu hÕt c¸c lo¹i s¸n d©y ng­êi ®Òu cã thÓ m¾c c¶ bÖnh s¸n tr­ëng thµnh, c¶ bÖnh Êu trï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Wingdings 3"/>
                <a:ea typeface="Wingdings 3"/>
              </a:rPr>
              <a:t>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Nh­ng hiÕm thÊy ng­êi m¾c bÖnh Êu trïng cña s¸n d©y bß h¬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23920" y="10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22040" y="520200"/>
            <a:ext cx="61326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.VnBodoni"/>
              </a:rPr>
              <a:t>1. §Æc ®iÓm sinh häc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23920" y="10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5040" y="520200"/>
            <a:ext cx="6129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.VnBodoni"/>
              </a:rPr>
              <a:t>1. §Æc ®iÓm sinh häc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2209680"/>
            <a:ext cx="7086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	</a:t>
            </a: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Keeseon S.E om vµ Han Jong Rim, §¹i häc Y TriÒu Tiªn, cho thÊy hiÖn t­îng nhiÔm tù nhiªn Êu trïng s¸n d©y </a:t>
            </a:r>
            <a:r>
              <a:rPr b="1" i="1" lang="en-US" sz="2800" spc="-1" strike="noStrike">
                <a:solidFill>
                  <a:srgbClr val="66ff99"/>
                </a:solidFill>
                <a:latin typeface=".VnArial Narrow"/>
              </a:rPr>
              <a:t>Taenia saginata</a:t>
            </a: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  trªn gan lîn nhµ t¹i TriÒu Tiªn, chóng chØ kh¸c nhau vÒ vËt chñ trung gian vµ m« nhiÔ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76520" y="2286000"/>
            <a:ext cx="7010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L©m sµng: do kÝch th­íc cña SDB rÊt lín, nªn th­êng g©y nh÷ng rèi lo¹n tiªu ho¸ víi c¸c triÖu chøng: ®au tøc vïng th­îng vÞ, ®au bông khi ®ãi, Øa láng, sót c©n, ®«i khi buån n«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41040" y="520200"/>
            <a:ext cx="61340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.VnBodoni"/>
              </a:rPr>
              <a:t>2. Vai trß y häc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752480" y="2263680"/>
            <a:ext cx="716292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Ng­êi m¾c bÖnh s¸n d©y bß cßn bÞ nh÷ng t¸c ®éng t©m lÝ nÆng nÒ, khã chÞu vµ ghª sî, khi nh×n thÊy nh÷ng ®èt s¸n tù rông vµ bß ra kh¾p n¬i: gi­êng, chiÕu, quÇn ¸o, ch¨n mµ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Th­êng rÊt hiÕm thÊy ng­êi m¾c bÖnh Êu trïng s¸n d©y bß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22040" y="520200"/>
            <a:ext cx="61326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.VnBodoni"/>
              </a:rPr>
              <a:t>2. Vai trß y häc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520" y="2362320"/>
            <a:ext cx="6781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Quan s¸t nh÷ng ®èt s¸n giµ tù ®éng ng¾t ra khái th©n s¸n bß ra hËu m«n ra ngoµi. 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CÇn chÈn ®o¸n ph©n biÖt víi s¸n d©y lîn dùa vµo c¸c ®Æc ®iÓm vÒ h×nh thÓ, vËt chñ trung gian truyÒn bÖnh vµ h×nh thøc nhiÔm s¸n…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533520"/>
            <a:ext cx="5791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.VnBodoni"/>
              </a:rPr>
              <a:t>3. ChÈn ®o¸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52480" y="533520"/>
            <a:ext cx="5791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c1ff"/>
                </a:solidFill>
                <a:latin typeface=".VnBodoni"/>
              </a:rPr>
              <a:t>4. §iÒu tr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2133720"/>
            <a:ext cx="655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.VnArial Narrow"/>
              </a:rPr>
              <a:t>§iÒu trÞ s¸n tr­ëng thµn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-</a:t>
            </a:r>
            <a:r>
              <a:rPr b="1" lang="en-US" sz="2800" spc="-1" strike="noStrike">
                <a:solidFill>
                  <a:srgbClr val="ffff99"/>
                </a:solidFill>
                <a:latin typeface=".VnArial Narrow"/>
              </a:rPr>
              <a:t>  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H¹t bÝ ®á: bãc vá gi· nhá, liÒu 100-200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-  H¹t cau: dïng h¹t cau sèng tõ 50-100g. §æ 500ml n­íc l·, ®un c¹n cßn 150-200m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C¸ch uèng: uèng h¹t bÝ tr­íc, hai giê sau uèng n­íc s¾c h¹t cau, sau 30 phót n÷a uèng thuèc tÈy 60ml magie sunfat 50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600200" y="533520"/>
            <a:ext cx="5791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c1ff"/>
                </a:solidFill>
                <a:latin typeface=".VnBodoni"/>
              </a:rPr>
              <a:t>4. §iÒu tr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22096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-   Niclosamid (Yomesan), viªn 0,5 x4-6 viªn, buæi s¸ng nhai tõng viªn mét, nhai thËt kÜ víi mét Ýt n­íc. Thuèc kh«ng ®éc, hiÖu qu¶ ca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-  Praziquantel 18mg/kg c©n nÆng, liÒu duy nhÊt kh«ng cÇn tÈy. KÕt qu¶ ra ®Çu s¸n 100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2361960"/>
            <a:ext cx="6553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Wingdings 3"/>
                <a:ea typeface="Wingdings 3"/>
              </a:rPr>
              <a:t>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 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Nguån bÖnh: ng­êi lµ nguån bÖnh.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Wingdings 3"/>
                <a:ea typeface="Wingdings 3"/>
              </a:rPr>
              <a:t>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 MÇm bÖnh: nang Êu trïng ë thÞt bß.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Wingdings 3"/>
                <a:ea typeface="Wingdings 3"/>
              </a:rPr>
              <a:t>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 §­êng l©y: theo ®­êng tiªu ho¸, do ¨n ph¶t thÞt tr©u, bß cã nang Êu trïng cßn sèng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533520"/>
            <a:ext cx="41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.VnBodoni"/>
              </a:rPr>
              <a:t>5. DÞch tÔ häc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440" y="2209680"/>
            <a:ext cx="6553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Tr­íc ®©y quan niÖm ng­êi bÞ bÖnh s¸n d©y lîn chØ nhiÔm ®¬n ®éc mét s¸n, nay cã thÓ nhiÔm 2 - 5 s¸n, c¸ biÖt nhiÔm 17 s¸n. 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ViÖt Nam, bÖnh SDL kh¸ phæ biÕn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609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H"/>
              </a:rPr>
              <a:t>Tæng qu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708200" y="533520"/>
            <a:ext cx="41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.VnBodoni"/>
              </a:rPr>
              <a:t>5. DÞch tÔ häc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2119320"/>
            <a:ext cx="655308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TØ lÖ nhiÔm tõng n¬i tuú thuéc vµo ®iÒu kiÖn vÖ sinh, tËp qu¸n ¨n uè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BÖnh kh«ng gÆp ë ng­êi ¨n chay. </a:t>
            </a:r>
            <a:r>
              <a:rPr b="1" lang="en-US" sz="2800" spc="-1" strike="noStrike">
                <a:solidFill>
                  <a:srgbClr val="e5ffff"/>
                </a:solidFill>
                <a:latin typeface=".VnArial NarrowH"/>
              </a:rPr>
              <a:t>ë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e5ffff"/>
                </a:solidFill>
                <a:latin typeface=".VnArial NarrowH"/>
              </a:rPr>
              <a:t>Ê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n </a:t>
            </a:r>
            <a:r>
              <a:rPr b="1" lang="en-US" sz="2800" spc="-1" strike="noStrike">
                <a:solidFill>
                  <a:srgbClr val="e5ffff"/>
                </a:solidFill>
                <a:latin typeface=".VnArial NarrowH"/>
              </a:rPr>
              <a:t>®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é nh÷ng ng­êi kh«ng ¨n thÞt bß v× lÝ do t«n gi¸o th× hÇu nh­ kh«ng bÞ nhiÔm s¸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Tr¸i l¹i, tØ lÖ nhiÔm cao ë c¸c n­íc §«ng phi, ch©u </a:t>
            </a:r>
            <a:r>
              <a:rPr b="1" lang="en-US" sz="2800" spc="-1" strike="noStrike">
                <a:solidFill>
                  <a:srgbClr val="e5ffff"/>
                </a:solidFill>
                <a:latin typeface=".VnArial NarrowH"/>
              </a:rPr>
              <a:t>¸,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ch©u MÜ La tinh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708200" y="533520"/>
            <a:ext cx="43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.VnBodoni"/>
              </a:rPr>
              <a:t>5. DÞch tÔ häc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2325600"/>
            <a:ext cx="609624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H"/>
              </a:rPr>
              <a:t>ë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ViÖt Nam, bß Ýt bÞ nhiÔm h¬n lîn, nh­ng ng­êi l¹i nhiÔm s¸n d©y bß nhiÒu h¬n s¸n d©y lîn v× thÝch ¨n bß t¸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Ng­êi ®ång b»ng cã tØ lÖ nhiÔm cao h¬n miÒn nó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52480" y="205740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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Ph¸t hiÖn vµ ®iÒu trÞ cho ng­êi bÞ m¾c bÖnh.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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Kh«ng nªn ¨n thÞt tr©u, bß ch­a chÝn d­íi mäi h×nh thøc.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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KÕt hîp chÆt chÏ víi ngµnh thó y ®Ó kiÓm so¸t ®­îc c¸c mÇm bÖnh kÝ sinh trïng. 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1860480" y="533520"/>
            <a:ext cx="43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.VnBodoni"/>
              </a:rPr>
              <a:t>6. Phßng chè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600200" y="0"/>
          <a:ext cx="6978600" cy="680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0"/>
                    <a:ext cx="6978600" cy="680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48" name=""/>
            <p:cNvSpPr/>
            <p:nvPr/>
          </p:nvSpPr>
          <p:spPr>
            <a:xfrm>
              <a:off x="5921640" y="6275520"/>
              <a:ext cx="3222000" cy="58212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¨n thÞt tr©u, b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51160" y="6275520"/>
              <a:ext cx="3570120" cy="58212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¨n thÞt lîn sèng</a:t>
              </a:r>
              <a:r>
                <a:rPr b="0" lang="en-US" sz="2400" spc="-1" strike="noStrike">
                  <a:solidFill>
                    <a:srgbClr val="e5ffff"/>
                  </a:solidFill>
                  <a:latin typeface=".VnArial Narrow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6275520"/>
              <a:ext cx="2351160" cy="58212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§­êng l©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21640" y="5679000"/>
              <a:ext cx="3222000" cy="5961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Tr©u, b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51160" y="5679000"/>
              <a:ext cx="3570120" cy="5961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Lî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5679000"/>
              <a:ext cx="2351160" cy="5961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VC trung gi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21640" y="5043600"/>
              <a:ext cx="3222000" cy="6354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Khã nhË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51160" y="5043600"/>
              <a:ext cx="3570120" cy="6354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DÔ nhË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5043600"/>
              <a:ext cx="2351160" cy="6354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Nang Êu trï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21640" y="4406040"/>
              <a:ext cx="3222000" cy="6372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BÇu dô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51160" y="4406040"/>
              <a:ext cx="3570120" cy="6372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§.kÝnh 35 -36 </a:t>
              </a:r>
              <a:r>
                <a:rPr b="1" lang="en-US" sz="2400" spc="-1" strike="noStrike">
                  <a:solidFill>
                    <a:srgbClr val="e5ffff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4406040"/>
              <a:ext cx="2351160" cy="6372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Trø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21640" y="3770640"/>
              <a:ext cx="3222000" cy="6354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Tù bß ra ngoµ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51160" y="3770640"/>
              <a:ext cx="3570120" cy="6354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5-6 ®èt liÒn nha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3770640"/>
              <a:ext cx="2351160" cy="6354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§èt s¸n gi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21640" y="3105000"/>
              <a:ext cx="3222000" cy="665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Rông tõng ®è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51160" y="3105000"/>
              <a:ext cx="3570120" cy="665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Rông tõng khó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3105000"/>
              <a:ext cx="2351160" cy="665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C¸ch rô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21640" y="2467080"/>
              <a:ext cx="3222000" cy="6375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1200-20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51160" y="2467080"/>
              <a:ext cx="3570120" cy="6375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800-10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2467080"/>
              <a:ext cx="2351160" cy="6375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Sè ®è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21640" y="1831680"/>
              <a:ext cx="3222000" cy="6354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T. cung 18-35 nh¸n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51160" y="1831680"/>
              <a:ext cx="3570120" cy="6354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Tö cung 6-12 nh¸n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1831680"/>
              <a:ext cx="2351160" cy="6354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§èt gi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21640" y="1196280"/>
              <a:ext cx="3222000" cy="63504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4-12 mÐ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51160" y="1196280"/>
              <a:ext cx="3570120" cy="63504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2-3 mÐ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1196280"/>
              <a:ext cx="2351160" cy="63504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ChiÒu dµ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21640" y="599760"/>
              <a:ext cx="3222000" cy="5961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Kh«ng cã mã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1160" y="599760"/>
              <a:ext cx="3570120" cy="5961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Cã 2 vßng mã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0" y="599760"/>
              <a:ext cx="2351160" cy="5961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§Ç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21640" y="0"/>
              <a:ext cx="3222000" cy="5997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.VnArial NarrowH"/>
                </a:rPr>
                <a:t>S¸n d©y b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51160" y="0"/>
              <a:ext cx="3570120" cy="5997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.VnArial NarrowH"/>
                </a:rPr>
                <a:t>S¸n d©y lî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0"/>
              <a:ext cx="2351160" cy="5997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0"/>
              <a:ext cx="914364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599760"/>
              <a:ext cx="914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1196280"/>
              <a:ext cx="914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0" y="1831680"/>
              <a:ext cx="914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0" y="2467080"/>
              <a:ext cx="914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3105000"/>
              <a:ext cx="914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3770640"/>
              <a:ext cx="914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4406040"/>
              <a:ext cx="914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5043600"/>
              <a:ext cx="914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0" y="5679000"/>
              <a:ext cx="914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275520"/>
              <a:ext cx="914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6857640"/>
              <a:ext cx="914364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0"/>
              <a:ext cx="0" cy="68576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51160" y="0"/>
              <a:ext cx="0" cy="685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21640" y="0"/>
              <a:ext cx="0" cy="685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143640" y="0"/>
              <a:ext cx="0" cy="68576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0040" y="428760"/>
            <a:ext cx="694044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.VnArialH"/>
                <a:ea typeface="Times New Roman"/>
              </a:rPr>
              <a:t>Giíi thiÖu hinh thÓ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22040" y="3059280"/>
            <a:ext cx="6462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 Narrow"/>
                <a:ea typeface="Times New Roman"/>
              </a:rPr>
              <a:t>S¸n tr­ëng thµn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351468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62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895480" y="2319480"/>
            <a:ext cx="4953240" cy="4233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956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6400" y="608040"/>
            <a:ext cx="69408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.VnArialH"/>
                <a:ea typeface="Times New Roman"/>
              </a:rPr>
              <a:t>Giíi thiÖu hinh thÓ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48520" y="6019560"/>
            <a:ext cx="1676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 NarrowH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.VnArial Narrow"/>
                <a:ea typeface="Times New Roman"/>
              </a:rPr>
              <a:t>èt s¸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51468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KG2210" descr=""/>
          <p:cNvPicPr/>
          <p:nvPr/>
        </p:nvPicPr>
        <p:blipFill>
          <a:blip r:embed="rId2"/>
          <a:stretch/>
        </p:blipFill>
        <p:spPr>
          <a:xfrm>
            <a:off x="657360" y="2376360"/>
            <a:ext cx="3349440" cy="3503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162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956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KG1202" descr=""/>
          <p:cNvPicPr/>
          <p:nvPr/>
        </p:nvPicPr>
        <p:blipFill>
          <a:blip r:embed="rId3"/>
          <a:stretch/>
        </p:blipFill>
        <p:spPr>
          <a:xfrm>
            <a:off x="4800600" y="2971800"/>
            <a:ext cx="4191120" cy="2311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0968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 NarrowH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.VnArial Narrow"/>
                <a:ea typeface="Times New Roman"/>
              </a:rPr>
              <a:t>Çu s¸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60040" y="428760"/>
            <a:ext cx="694044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.VnArialH"/>
                <a:ea typeface="Times New Roman"/>
              </a:rPr>
              <a:t>Giíi thiÖu hinh thÓ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14240" y="5943240"/>
            <a:ext cx="1219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 Narrow"/>
                <a:ea typeface="Times New Roman"/>
              </a:rPr>
              <a:t>Trø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51468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62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956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Taenia_egg2" descr="Taenia egg 2"/>
          <p:cNvPicPr/>
          <p:nvPr/>
        </p:nvPicPr>
        <p:blipFill>
          <a:blip r:embed="rId2"/>
          <a:stretch/>
        </p:blipFill>
        <p:spPr>
          <a:xfrm>
            <a:off x="1523880" y="2711520"/>
            <a:ext cx="2971800" cy="2851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800600" y="2666880"/>
            <a:ext cx="3809880" cy="2845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638680" y="594360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 Narrow"/>
                <a:ea typeface="Times New Roman"/>
              </a:rPr>
              <a:t>Nang Êu trï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4360" y="1971720"/>
            <a:ext cx="7443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99"/>
                </a:solidFill>
                <a:latin typeface=".VnArialH"/>
              </a:rPr>
              <a:t>1. ®Æc ®iÓm sinh hä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14:50:29Z</dcterms:created>
  <dc:creator>Mr Luc</dc:creator>
  <dc:description/>
  <dc:language>en-US</dc:language>
  <cp:lastModifiedBy>Từ Ngọc Hiếu</cp:lastModifiedBy>
  <dcterms:modified xsi:type="dcterms:W3CDTF">2008-03-20T21:10:46Z</dcterms:modified>
  <cp:revision>39</cp:revision>
  <dc:subject/>
  <dc:title>S¸n d©y bß (Taenia saginata) </dc:title>
</cp:coreProperties>
</file>