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1EE5-2977-4DFA-B823-1DD94B35E3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65EB-3736-4736-A995-1B1F14E84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35A7-358B-4A11-B78E-2892A16973F6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959B-CC28-4239-B460-71520E2392E3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ABBC-04CD-4878-84EE-4911A66164BD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re are a few definitions. Some very broad - "New concept of healthcare wherein all the constituents (patients, physicians, providers, and payers) focus on healthcare value (outcomes/price) and use competition at the medical condition level over the full cycle of care as the catalyst for improving the safety, efficiency, quality of health care delivery.”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ome very narrow – focusing on new technologies that enable collabora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ts of buzz and hype around this topic these day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ow! A paradigm shift! Now that is something new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riously though, the technology is truly changing the face of healthcar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sumers = patients, everyone actuall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ill push back from  established health players but slowly coming around and collabor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ormation gathering – search, social networks, blogs, wikis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unic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 e.g. patients talking to patients, physicians talking to physicia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ra – patients talking to health care professionals and visa ver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port – patient communities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earch – clinical trials, particip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edback – between industry and consumers e.g. phase I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ormation gathering – search, social networks, blogs, wikis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unic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 e.g. patients talking to patients, physicians talking to physicia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ra – patients talking to health care professionals and visa ver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port – patient communities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earch – clinical trials, particip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edback – between industry and consumers e.g. phase I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E1BD-3CDA-4A6A-9BCE-AAE0E6637012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bile – for healthcare professionals and pati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uman behavior – compliance, adherence, well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ization – technological standa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portability – of PHRs from one provider to an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vacy – HIPAA, data ownershi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urity – user data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derserved populations – how do they access all these technologi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864A-015D-41E0-81E8-E16B4D320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2C6A-1354-49DE-A617-3F1BF2A5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7C44-C7AE-4B8B-90ED-C7CD9C75A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FF3F-3366-4A7C-A951-AC43F1A05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F347-8114-4B36-B0E2-78305403F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7251-564B-4149-8842-FD8A56D2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E74C-1537-40DE-A571-210EE13D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F18D-E1B2-4090-AD6B-C7C92409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16C1-EE04-45BB-A46A-4A9ED0D1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4DAA-EB32-438A-8F8C-75C2E0DD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AABF-46DA-452A-B79A-A783563B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C7DE-F39A-45C0-B697-68F8032E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B1C6-271D-4C2F-9ABB-04DC7663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12BE-AE03-4C5D-8C82-88856D38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2495-B0E5-4E5D-85AF-4C874E7E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4CDE-4197-4F77-A692-F6B8EDE24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C873-B0CA-45B7-953C-14B80A4C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1CC2-B3A9-4793-BFAC-652C6739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EF99-55C4-4AE1-8438-78E9EB5C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D29F-573A-4210-B3BE-D716FFDD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5861-9110-4271-B723-E96A2549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2740-F412-4FDC-AA30-7D963164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1027-CB07-404B-9111-99C6B45C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37C2-C0D0-4CBE-A10D-E711719F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1055520" indent="-40464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2" marL="1623960" indent="-3236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3" marL="2274840" indent="-32364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4" marL="2924280" indent="-32400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5" marL="2924280" indent="-32400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6" marL="2924280" indent="-32400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B3DB-CCE2-4322-B4E2-194B149AE054}" type="datetime">
              <a:rPr b="0" lang="en-US" sz="17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57C8-93D7-46F5-8236-A2087AD9641C}" type="slidenum">
              <a:rPr b="0" lang="en-US" sz="1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-25560" y="-25560"/>
            <a:ext cx="13055760" cy="980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-25560" y="-25560"/>
            <a:ext cx="13055760" cy="9804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635040" y="8809200"/>
            <a:ext cx="1650960" cy="792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1055520" indent="-40464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2" marL="1623960" indent="-3236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3" marL="2274840" indent="-32364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4" marL="2924280" indent="-32400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5" marL="2924280" indent="-32400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6" marL="2924280" indent="-32400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1655-76FF-470D-AFBC-D168E7973B6A}" type="datetime">
              <a:rPr b="0" lang="en-US" sz="17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788E-5784-4B8C-91F5-60F505BFD424}" type="slidenum">
              <a:rPr b="0" lang="en-US" sz="1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dave@inspire.com" TargetMode="External"/><Relationship Id="rId2" Type="http://schemas.openxmlformats.org/officeDocument/2006/relationships/hyperlink" Target="mailto:dave@inspire.com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812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Health 2.0: </a:t>
            </a:r>
            <a:br>
              <a:rPr sz="4900"/>
            </a:br>
            <a:r>
              <a:rPr b="0" i="1" lang="en-US" sz="4900" spc="-1" strike="noStrike">
                <a:solidFill>
                  <a:srgbClr val="000000"/>
                </a:solidFill>
                <a:latin typeface="Calibri"/>
              </a:rPr>
              <a:t>The cat’s out of the bag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11360" y="2844360"/>
            <a:ext cx="10998000" cy="231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esentation for Microsof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pril 24, 200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1397160" y="4800600"/>
            <a:ext cx="10098000" cy="3129120"/>
          </a:xfrm>
          <a:prstGeom prst="rect">
            <a:avLst/>
          </a:prstGeom>
          <a:ln w="0">
            <a:noFill/>
          </a:ln>
        </p:spPr>
      </p:pic>
      <p:sp>
        <p:nvSpPr>
          <p:cNvPr id="95" name="Slide Number Placeholder 7"/>
          <p:cNvSpPr/>
          <p:nvPr/>
        </p:nvSpPr>
        <p:spPr>
          <a:xfrm>
            <a:off x="932004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A80F-32BC-43EF-A748-5963FE2A4538}" type="slidenum">
              <a:rPr b="0" lang="en-US" sz="1700" spc="-1" strike="noStrike">
                <a:solidFill>
                  <a:srgbClr val="898989"/>
                </a:solidFill>
                <a:latin typeface="Gill Sans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Adding value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2921040" y="2243160"/>
            <a:ext cx="7010280" cy="6291360"/>
          </a:xfrm>
          <a:prstGeom prst="rect">
            <a:avLst/>
          </a:prstGeom>
          <a:ln w="0">
            <a:noFill/>
          </a:ln>
        </p:spPr>
      </p:pic>
      <p:sp>
        <p:nvSpPr>
          <p:cNvPr id="128" name="Slide Number Placeholder 8"/>
          <p:cNvSpPr/>
          <p:nvPr/>
        </p:nvSpPr>
        <p:spPr>
          <a:xfrm>
            <a:off x="932004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8107-75D0-49D8-86A8-FAF52CE78020}" type="slidenum">
              <a:rPr b="0" lang="en-US" sz="1700" spc="-1" strike="noStrike">
                <a:solidFill>
                  <a:srgbClr val="898989"/>
                </a:solidFill>
                <a:latin typeface="Gill Sans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7800120" y="7419960"/>
            <a:ext cx="27943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mir Lewkowicz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amir@inspire.co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17-372-2636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2302920" y="7419960"/>
            <a:ext cx="28857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rian Loew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Gill Sans"/>
                <a:hlinkClick r:id="rId2"/>
              </a:rPr>
              <a:t>brian@inspire.co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71-277-6340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32" name="Picture 6" descr="amir.jpg"/>
          <p:cNvPicPr/>
          <p:nvPr/>
        </p:nvPicPr>
        <p:blipFill>
          <a:blip r:embed="rId3"/>
          <a:stretch/>
        </p:blipFill>
        <p:spPr>
          <a:xfrm>
            <a:off x="7035840" y="2604960"/>
            <a:ext cx="5334120" cy="4633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brian.jpg"/>
          <p:cNvPicPr/>
          <p:nvPr/>
        </p:nvPicPr>
        <p:blipFill>
          <a:blip r:embed="rId4"/>
          <a:stretch/>
        </p:blipFill>
        <p:spPr>
          <a:xfrm>
            <a:off x="711360" y="2590920"/>
            <a:ext cx="5349600" cy="4647960"/>
          </a:xfrm>
          <a:prstGeom prst="rect">
            <a:avLst/>
          </a:prstGeom>
          <a:ln w="0">
            <a:noFill/>
          </a:ln>
        </p:spPr>
      </p:pic>
      <p:sp>
        <p:nvSpPr>
          <p:cNvPr id="134" name="Slide Number Placeholder 8"/>
          <p:cNvSpPr/>
          <p:nvPr/>
        </p:nvSpPr>
        <p:spPr>
          <a:xfrm>
            <a:off x="932004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3739-5D95-4239-B14E-6016C97497EC}" type="slidenum">
              <a:rPr b="0" lang="en-US" sz="1700" spc="-1" strike="noStrike">
                <a:solidFill>
                  <a:srgbClr val="898989"/>
                </a:solidFill>
                <a:latin typeface="Gill Sans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What are we here to discuss?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What is Health 2.0? What is Health 3.0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How is it being used today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How will it be used in the futur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87440"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87440"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932004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3758-6F5B-4EFB-8115-A860BCC39E06}" type="slidenum">
              <a:rPr b="0" lang="en-US" sz="1700" spc="-1" strike="noStrike">
                <a:solidFill>
                  <a:srgbClr val="898989"/>
                </a:solidFill>
                <a:latin typeface="Gill Sans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What is Health 2.0?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0">
              <a:spcBef>
                <a:spcPts val="115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The simplest definition 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87440" indent="0">
              <a:spcBef>
                <a:spcPts val="115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87440" indent="0">
              <a:spcBef>
                <a:spcPts val="115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i="1" lang="en-US" sz="4600" spc="-1" strike="noStrike">
                <a:solidFill>
                  <a:srgbClr val="000000"/>
                </a:solidFill>
                <a:latin typeface="Calibri"/>
              </a:rPr>
              <a:t>   ‘</a:t>
            </a:r>
            <a:r>
              <a:rPr b="0" i="1" lang="en-US" sz="4600" spc="-1" strike="noStrike">
                <a:solidFill>
                  <a:srgbClr val="000000"/>
                </a:solidFill>
                <a:latin typeface="Calibri"/>
              </a:rPr>
              <a:t>Applying Web 2.0 technologies in healthcare thus…enabling people e.g. consumers,  providers, payers and suppliers to work together transparently.’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932004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A01E-C807-4DF6-965D-8ADC1BEB40F8}" type="slidenum">
              <a:rPr b="0" lang="en-US" sz="1700" spc="-1" strike="noStrike">
                <a:solidFill>
                  <a:srgbClr val="898989"/>
                </a:solidFill>
                <a:latin typeface="Gill Sans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Surprise! </a:t>
            </a:r>
            <a:br>
              <a:rPr sz="6300"/>
            </a:b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6300" spc="-1" strike="noStrike">
                <a:solidFill>
                  <a:srgbClr val="000000"/>
                </a:solidFill>
                <a:latin typeface="Calibri"/>
              </a:rPr>
              <a:t>paradigm shift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880" y="2895480"/>
            <a:ext cx="11702880" cy="58168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wer shifting to the consumer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umers taking control – no longer pass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chnology enables th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105552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chnology significant part of patient empowerment tre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5552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4 percent of adult online users (54 million in the US) use UG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5552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ost popular type of social media health connectors use is personal e-mail, followed by support groups or boards and blog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5552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0 million Americans report ever having been members of some type of online group, and 79 million Americans have become members of online support groups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7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932004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244F-CB13-4001-8C88-6CE2ED8E454F}" type="slidenum">
              <a:rPr b="0" lang="en-US" sz="1700" spc="-1" strike="noStrike">
                <a:solidFill>
                  <a:srgbClr val="898989"/>
                </a:solidFill>
                <a:latin typeface="Gill Sans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But seriously…</a:t>
            </a:r>
            <a:br>
              <a:rPr sz="6300"/>
            </a:b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How is Health 2.0 used today?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0880" y="3048120"/>
            <a:ext cx="11702880" cy="56642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Information gathering </a:t>
            </a:r>
            <a:r>
              <a:rPr b="0" i="1" lang="en-US" sz="4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ommunication 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upport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Research  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Feedback 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87440" indent="0">
              <a:spcBef>
                <a:spcPts val="115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932004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10C3-BBAC-48DC-A084-8FD5B6A4E281}" type="slidenum">
              <a:rPr b="0" lang="en-US" sz="1700" spc="-1" strike="noStrike">
                <a:solidFill>
                  <a:srgbClr val="898989"/>
                </a:solidFill>
                <a:latin typeface="Gill Sans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Trust, authority &amp; credibility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932004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567A-05D1-4626-8D5B-2EDF0A50B0F1}" type="slidenum">
              <a:rPr b="0" lang="en-US" sz="1700" spc="-1" strike="noStrike">
                <a:solidFill>
                  <a:srgbClr val="898989"/>
                </a:solidFill>
                <a:latin typeface="Gill Sans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785880" y="2927520"/>
            <a:ext cx="11202840" cy="46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Data &amp; Attachment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7950240" y="2057400"/>
            <a:ext cx="4397400" cy="664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Object 4"/>
          <p:cNvGraphicFramePr/>
          <p:nvPr/>
        </p:nvGraphicFramePr>
        <p:xfrm>
          <a:off x="635040" y="4495680"/>
          <a:ext cx="5715000" cy="437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5040" y="4495680"/>
                    <a:ext cx="5715000" cy="43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5"/>
          <p:cNvGraphicFramePr/>
          <p:nvPr/>
        </p:nvGraphicFramePr>
        <p:xfrm>
          <a:off x="482760" y="457200"/>
          <a:ext cx="3300120" cy="4172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6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2760" y="457200"/>
                    <a:ext cx="330012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6"/>
          <p:cNvGraphicFramePr/>
          <p:nvPr/>
        </p:nvGraphicFramePr>
        <p:xfrm>
          <a:off x="3759120" y="2362320"/>
          <a:ext cx="3716280" cy="1881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8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59120" y="2362320"/>
                    <a:ext cx="3716280" cy="18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Slide Number Placeholder 8"/>
          <p:cNvSpPr/>
          <p:nvPr/>
        </p:nvSpPr>
        <p:spPr>
          <a:xfrm>
            <a:off x="932004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9A79-ACD4-4CC4-8D01-F04C1CDD749E}" type="slidenum">
              <a:rPr b="0" lang="en-US" sz="1700" spc="-1" strike="noStrike">
                <a:solidFill>
                  <a:srgbClr val="898989"/>
                </a:solidFill>
                <a:latin typeface="Gill Sans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Looking to the future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Mobile technologies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Human behavior modification e.g. compliance, safety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tandardization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Transportability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Upstarts cooperate with industry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87440"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932004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8FCA-479A-40DB-A2A1-3D6C22A0A63F}" type="slidenum">
              <a:rPr b="0" lang="en-US" sz="1700" spc="-1" strike="noStrike">
                <a:solidFill>
                  <a:srgbClr val="898989"/>
                </a:solidFill>
                <a:latin typeface="Gill Sans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Issues</a:t>
            </a: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Privacy 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ecurity 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Business/economic models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Underserved populations 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87440" indent="0">
              <a:spcBef>
                <a:spcPts val="115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932004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6454-9C9E-4087-BC19-5FC322D135E2}" type="slidenum">
              <a:rPr b="0" lang="en-US" sz="1700" spc="-1" strike="noStrike">
                <a:solidFill>
                  <a:srgbClr val="898989"/>
                </a:solidFill>
                <a:latin typeface="Gill Sans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4:32:57Z</dcterms:created>
  <dc:creator>Dave</dc:creator>
  <dc:description/>
  <dc:language>en-US</dc:language>
  <cp:lastModifiedBy>Brian Loew</cp:lastModifiedBy>
  <dcterms:modified xsi:type="dcterms:W3CDTF">2008-04-24T15:27:15Z</dcterms:modified>
  <cp:revision>88</cp:revision>
  <dc:subject/>
  <dc:title>Inspire creates high-value social networks for health and wellness</dc:title>
</cp:coreProperties>
</file>