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wmf" ContentType="image/x-wmf"/>
  <Override PartName="/ppt/media/image2.png" ContentType="image/png"/>
  <Override PartName="/ppt/media/image26.png" ContentType="image/png"/>
  <Override PartName="/ppt/media/image25.wmf" ContentType="image/x-wmf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dt" idx="4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move the slide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ftr" idx="4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 type="sldNum" idx="4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15C6-2B6F-4FD3-A1F2-47F277BF1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D731-F5A9-409B-B7F5-CB5C9DE59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90360" y="4495680"/>
            <a:ext cx="5027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3383-BD18-4634-9DDC-66D7A2BFB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7850-8308-4DFE-B406-D1DE81D6E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C2C6-7418-44EB-8D31-D2D693E72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741D-A3F6-422D-A96C-931FC73A6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1142640" y="4241880"/>
            <a:ext cx="462276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more information, go t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clinicaloptions.com/HIV/Conference%20Coverage/Retroviruses%202005/Capsules/616.a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2F8B-0C53-40EB-89FC-98C4206CE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C1D8-A051-450C-8991-0574E81DE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401F-CB24-427A-B52B-FC762E717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5CC137-3A7C-4996-950A-FB0D4213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EDA7DF-6B57-4CD6-B829-61E2B999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3098B-F609-4313-872D-DCB354BC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FBC99-0709-4BCB-8AA4-00899C18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9E7A9E-73B1-4FB1-AD46-927E52E5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6BB100-3350-49F1-8D89-1CE38D5A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5D4661-1E3A-4B67-A1D5-E966F600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772828-D4BC-4EFD-91FE-2AAD6E01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A27110-172C-4E4C-A615-BE571D1C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F7201-81A1-4BA6-A504-0E21DA89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1012E7-3756-4498-AFBD-95F0D8A2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23664E-F6CD-4472-938D-4A068099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AEE1B-0F33-437F-80B3-0A23A82A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F9CFA-889E-43BC-A621-FC24E9FB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EC2D72-8219-41A4-8FE7-A85D8F8D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C29AB-E2DB-4EBC-A961-8AE0D467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42E4F-89A7-438F-9C3C-3F5BC4F2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C14467-8034-4B5D-ACAE-A9F86A21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1B9D9D-18BD-40FF-B159-57AE6301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0B8370-0861-45BA-8BC4-D1D751E2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543A0C-6BB5-41EF-ABBD-80477EB6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050F30-1E24-48EF-80FF-36E61914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DCF4C3-486D-44D2-87D2-E071FB62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30D681-38BB-42AB-BBD1-629DBA8B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CE8FB3-A796-40BA-BBA5-1B726D86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543F75-9F7E-4128-ACBE-FEF3B526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57E128-2BC4-40E4-BA4D-85FED978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E6199C-7431-424E-9B5B-CD3E7D8A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03E7A5-4D5C-4D37-AA77-701062AE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5C4F3F-2EB2-402A-9BC6-8ED0B3D9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C36D8-1EEF-4639-8D75-9EF684EC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A75180-A068-41F3-BDC0-6DF65BD4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5187E1-1173-48FA-A6E1-93228905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CF19E8-D592-40C5-B6B3-AD77C0C8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D3D8A3-2376-48FF-88FB-332E828C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820EF6-B017-485B-BA35-BC01F46E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06BD7-4AA9-4856-A113-70C275CC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15E97-CA6C-44F3-8610-E5922137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10DD4C-0DB3-4D79-A240-22F523DB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2EC1C9-4F38-4BDA-9542-12C8AE8D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9DA22-6B97-46AB-AB49-E0B4571F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82A7F-3194-498D-A0D2-395D41C6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AFD736-36B5-428D-A1DA-9F18899B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BBD37-EAFB-4965-9781-51CAB578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8CBE12-E656-4B78-B628-52FDCB2B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9887EB-1384-4BAC-A5FD-D1606AA1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D414E-70F0-4696-A7C9-CBF82A52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BA3312-336A-4D52-AAA3-5353218D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2402D0-A5C7-4C6C-BA57-E616D734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4198B5-FCA3-4054-B8FD-90E41B5E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2004F51-A533-47BE-8925-2F2D92FB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20C4BD0-4247-4E10-88E2-02304DEB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BCF45-E27D-46E8-AB80-199B9E3C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D5B03D-9858-454D-8FB8-C83529F0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F43569-293D-4C87-AEB2-291C0129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FF8FEC-63E3-4E3D-BBBE-1F3D0F4F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76B9EA-A941-4C83-9C74-6A01DC82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0C94F49-F7FE-4982-90C6-891FDA58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9DD86BA-B871-48ED-88BA-88A477E8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E29C16-EAAD-42DC-BF14-FC66148F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F0016F3-A8C7-4503-8ABB-EDA60556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0D09B5-E27E-4FAB-A1F9-00D4258C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CAF0E89-4FEF-4200-9413-2EAA136B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4B391-FC55-4ECF-8D52-705C7FD3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4F1E721-9C51-401C-97CE-EE289ED1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2B0946F-14C4-474A-AF51-8166C40B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BB440BD-6009-4836-A014-3D7E00EE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F5FB1E7-A3A8-475D-9D5F-9894E5F7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F27A5A8-AB5F-49DE-802A-4846C911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DD4CAD3-6124-4300-96D9-07FA583A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D6F400-8CF5-4895-8AEB-0446A990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FA8273A-4A25-44CE-9AAB-23202954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52DD427-2F1C-46BB-86AF-9E77067D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973839-2320-484B-B8D7-E07B8FF060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436F1-6651-4EAE-9AC3-9104F408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F230ED-243E-4D5E-ABDB-400AC759008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0984E4D-0147-44D1-82AD-30E43E2B218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08F05D-89B8-4142-81B8-1213E64DA6F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F9A8234-8E62-44C6-AE6C-0A9B8829479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0C2DCF-898B-4637-A6CD-47079FFBD50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05F018-F36A-426A-90FF-57D07038B5D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98750AE-C446-4943-95B2-8D364ABBC8A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3E7E52-8722-4F6C-A459-1703E38AD43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557CCE-55B3-4F2A-89F8-1207F4ECDE6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A76171-E5FB-4658-B699-0B98C700B8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6C576-2143-4A64-A377-5AF1C334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6B62AE-16D8-45FD-B079-07F3BD0B214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341A4-9431-47A5-9136-FEB40689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CAF8A-4D19-43B6-BA94-28C9FCFF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7442A-2D29-4493-8C0B-43B038F0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E0E70-01BA-4574-B098-C27CAB21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75417-D8E4-4EB9-AA13-A90CBDFA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883BB-24D7-4D05-9D0F-174D8EAC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AA46D7-B66A-4AB9-8396-D1EE12A9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3C9BDC-2731-4F8C-9793-FF567852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64A408-E900-4F61-9CEE-9C53C5EE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30317B-3838-4B89-8B0C-0E12CCED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5D3470-36E8-4175-8869-8AC80648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614C64-A8DF-4A9A-8A7C-1C93D1CA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38294C-55B0-4D08-A4F8-6B958416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28ECF0-6E79-4120-904F-C3FBA797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E2DDAA-62FF-4A7A-B878-3708140D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2BB82C-DEF4-4C46-99CD-98CAF6A5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62BE31-2887-4727-8A95-2AC4B22E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2046E8-D5AC-47C6-85F8-91A26084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BF8DCD-6F6F-4B31-87E2-7E18D3B3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532AE7-5F85-41B6-8337-E4CF1FE1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CE94B6-BCC3-4B0B-A082-F9B04478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9A103C-3536-412E-84DA-1B18B4E7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D2F776-EB8F-4E20-8025-9D34408A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E180B7-B458-45DA-92D7-7C655D76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477935-11BC-4BDD-88B9-5CEA4315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C40700-2421-4459-94B7-C3FAE564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09025D-5AF0-41DF-987E-A9F11B62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FAD772-EE0C-4844-B6D3-B43DB7F6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284FA6-0CDF-4169-8B82-1FA3F8D2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B63010-6CB2-4F56-AD46-A39E9B51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4961AF-EC06-45F5-A84F-A79660B7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A9EDE3-323D-4241-BD1C-4BF2E63D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5084BC-72CC-431D-B26E-C593C094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C93AF3-18DF-4AF1-A226-9B418CC5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AF8F30-B748-4461-AFD2-374BED1A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7FB28E-8E32-4BD0-8894-CE31362C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A3A60A-1ABE-4173-959E-56FDC5E9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F2AD2F-E5F2-4468-A4F5-746B9375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F9FD84-AEC6-473F-A4E8-9295C8C5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92D634-C244-4FEC-B57B-17BFEB16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6A2B1D-0830-4F84-958A-82A069BA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CC9A79-9493-4AAD-ABD8-F401C052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BC181E-6B3E-48F4-ACBC-052F02F2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646DDE-CAFA-49D4-AF56-86B01DE4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F66029-A77F-4C8A-9F08-4F3C6D10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68C999-5194-4CC1-931C-39AE0A61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1F2FBF-6234-4FFF-BCE1-07CFEDF5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6D3264-03F1-41DC-867F-877B1E9D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584907-F0ED-4655-B18E-559827D4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34A1EB-291B-4156-A84E-D551B7DC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4AD80F-F4F9-4E6D-A3CE-9DD9D8B0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D1048C-F2A7-4426-BAD6-3184EF81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F1938C-627B-4C53-BC0C-A9DA4599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01E97B-3CAD-452E-A26E-01F22A5E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B69504-34EA-476F-9BD3-1D91DA05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56B7A3-886F-4D55-839D-944CC48A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DD3596-B89A-45A1-A2AA-5FAC4B78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8F4044-7E85-490A-A3EA-EC0D4759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DECF76-FB60-46F7-A12A-7F01B368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D4DAC0-C46A-4110-B640-57837E50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9D8130-3CEF-49DC-9099-E21A1C88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58D5DD-8323-4307-AEF0-8C356DE3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BAE307-BA8B-4D69-94FC-AEEDDFE4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E733E7-2B95-4D1B-92F8-03421BCD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5DC810-4CFD-436C-915A-814C84F3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E9FEA4-9890-4C81-ACD6-7D8659AC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42565E-03D1-49E5-B326-960FC990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0880B4-8C37-4AF7-9FF8-9AB3BC87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37D3FA-5202-4712-AA1E-F545E8A4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BFF70F-8FB7-4556-8D06-398D71F2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61CA19-4DF9-455B-B681-9FB2A105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F9FA67-9222-4122-A4A2-BE43D062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7A64AD-623A-4615-8E10-01290A0C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DC700F-6A3C-46AA-8C81-01BAC0F4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12C6D4-6FB9-4328-AA78-EAC592A0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837720" y="3895200"/>
            <a:ext cx="7620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D5C53D-5D97-4EA1-B972-52D30440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772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42640" y="3895200"/>
            <a:ext cx="3718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296BDC-4127-476E-B500-B28EBBD7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83772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41424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90760" y="3895200"/>
            <a:ext cx="2453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82C0E1-761D-490B-B934-F97B635C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F9D65-3B36-40C4-A4C1-3B2C9BDC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605B2-E79B-4910-BEBD-EDC94B3A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B517B-0FFA-4A06-8C17-7F555343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Times New Roman"/>
              </a:rPr>
              <a:t>Real-Life Practice in HIV Treatment. July 30, 2010. Prince of Songkla Univer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7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3929-6797-4305-84E6-DA4043EF86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0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25D3-DF1F-4DDD-9326-D1E94FB654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3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E90D-0754-4DB7-B6E0-DC77FD8F14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6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394C-6708-4296-A058-28B7E8383B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9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EA98-F66A-4D4F-806B-82BB0DCFAF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BEBC-7F0A-4949-8D9E-E35573629B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5F34-048A-4572-9140-E07F9FFAD8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E234-39BB-4F4C-A9BB-69B04393E3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2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6A2C-34A7-4A3A-86AB-866E9ABAF9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5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7BC8-5FED-40D0-A724-C7F8A780A8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8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9271-2412-4C12-B8F2-7756E8EB03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1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F00D-9DCD-48D7-9732-F4D1F11141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9"/>
          <p:cNvSpPr/>
          <p:nvPr/>
        </p:nvSpPr>
        <p:spPr>
          <a:xfrm>
            <a:off x="914400" y="1371600"/>
            <a:ext cx="7467480" cy="0"/>
          </a:xfrm>
          <a:prstGeom prst="line">
            <a:avLst/>
          </a:prstGeom>
          <a:ln w="38160">
            <a:solidFill>
              <a:srgbClr val="aa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ck to edit the title text forma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4"/>
          </p:nvPr>
        </p:nvSpPr>
        <p:spPr>
          <a:xfrm>
            <a:off x="914400" y="63241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9CA3-2A86-4922-AC9C-2D1C932536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7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1066680" y="41148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Lucida Handwriting"/>
              </a:rPr>
              <a:t>Pisud Siripaitoon  M.D.</a:t>
            </a:r>
            <a:endParaRPr b="0" lang="en-US" sz="1600" spc="-1" strike="noStrike">
              <a:solidFill>
                <a:srgbClr val="ffffff"/>
              </a:solidFill>
              <a:latin typeface="Cordia New"/>
            </a:endParaRPr>
          </a:p>
          <a:p>
            <a:pPr algn="ct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dia New"/>
            </a:endParaRPr>
          </a:p>
          <a:p>
            <a:pPr algn="ct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Lucida Handwriting"/>
              </a:rPr>
              <a:t>Division of Infectious Disease  Department of Internal Medicine</a:t>
            </a:r>
            <a:endParaRPr b="0" lang="en-US" sz="14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838080" y="1295280"/>
            <a:ext cx="76201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Lucida Handwriting"/>
              </a:rPr>
              <a:t>Short and Long term follow up</a:t>
            </a:r>
            <a:br>
              <a:rPr sz="2800"/>
            </a:br>
            <a:r>
              <a:rPr b="0" lang="en-US" sz="2800" spc="-1" strike="noStrike">
                <a:solidFill>
                  <a:srgbClr val="d1fd45"/>
                </a:solidFill>
                <a:latin typeface="Lucida Handwriting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d1fd45"/>
                </a:solidFill>
                <a:latin typeface="Lucida Handwriting"/>
              </a:rPr>
              <a:t>the HIV patients taking HAART.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3"/>
          <p:cNvSpPr/>
          <p:nvPr/>
        </p:nvSpPr>
        <p:spPr>
          <a:xfrm>
            <a:off x="1835280" y="6480720"/>
            <a:ext cx="6913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spcBef>
                <a:spcPts val="52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Zhou J. HIV Medicine.2007;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Group 4"/>
          <p:cNvGrpSpPr/>
          <p:nvPr/>
        </p:nvGrpSpPr>
        <p:grpSpPr>
          <a:xfrm>
            <a:off x="1184400" y="2062080"/>
            <a:ext cx="6775200" cy="3888000"/>
            <a:chOff x="1184400" y="2062080"/>
            <a:chExt cx="6775200" cy="3888000"/>
          </a:xfrm>
        </p:grpSpPr>
        <p:sp>
          <p:nvSpPr>
            <p:cNvPr id="713" name="AutoShape 5"/>
            <p:cNvSpPr/>
            <p:nvPr/>
          </p:nvSpPr>
          <p:spPr>
            <a:xfrm>
              <a:off x="1184400" y="2062080"/>
              <a:ext cx="6770160" cy="38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4" name="Picture 6" descr=""/>
            <p:cNvPicPr/>
            <p:nvPr/>
          </p:nvPicPr>
          <p:blipFill>
            <a:blip r:embed="rId1"/>
            <a:stretch/>
          </p:blipFill>
          <p:spPr>
            <a:xfrm>
              <a:off x="1184400" y="2062080"/>
              <a:ext cx="6775200" cy="388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fd45"/>
                </a:solidFill>
                <a:latin typeface="Eras Medium ITC"/>
              </a:rPr>
              <a:t>Duration of first ART and probability of treatment change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3"/>
          <p:cNvSpPr/>
          <p:nvPr/>
        </p:nvSpPr>
        <p:spPr>
          <a:xfrm>
            <a:off x="1835280" y="6480720"/>
            <a:ext cx="6913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spcBef>
                <a:spcPts val="52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Zhou J. HIV Medicine.2007;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fd45"/>
                </a:solidFill>
                <a:latin typeface="Eras Medium ITC"/>
              </a:rPr>
              <a:t>Rate of change of first ART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  <p:pic>
        <p:nvPicPr>
          <p:cNvPr id="718" name="Picture 27" descr=""/>
          <p:cNvPicPr/>
          <p:nvPr/>
        </p:nvPicPr>
        <p:blipFill>
          <a:blip r:embed="rId1"/>
          <a:srcRect l="0" t="0" r="52599" b="0"/>
          <a:stretch/>
        </p:blipFill>
        <p:spPr>
          <a:xfrm>
            <a:off x="36360" y="1557360"/>
            <a:ext cx="6480360" cy="42544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28" descr=""/>
          <p:cNvPicPr/>
          <p:nvPr/>
        </p:nvPicPr>
        <p:blipFill>
          <a:blip r:embed="rId2"/>
          <a:srcRect l="59530" t="0" r="20972" b="0"/>
          <a:stretch/>
        </p:blipFill>
        <p:spPr>
          <a:xfrm>
            <a:off x="6443640" y="1557360"/>
            <a:ext cx="26654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4932360" y="1557360"/>
            <a:ext cx="3889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Major reason for treatment change to ZDV/3TC/NVP was adverse effects (86%)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52 % lipodystrophy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20 % peripheral neuropathy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14 % lactic acidosis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rdia New"/>
              </a:rPr>
              <a:t>Multivariate analysis indicated HBV or HCV were not significant predict change regimen (but serologic status available only 1/3)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</p:txBody>
      </p:sp>
      <p:pic>
        <p:nvPicPr>
          <p:cNvPr id="721" name="Picture 11" descr=""/>
          <p:cNvPicPr/>
          <p:nvPr/>
        </p:nvPicPr>
        <p:blipFill>
          <a:blip r:embed="rId1"/>
          <a:stretch/>
        </p:blipFill>
        <p:spPr>
          <a:xfrm>
            <a:off x="558720" y="765000"/>
            <a:ext cx="4125960" cy="554364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12"/>
          <p:cNvSpPr/>
          <p:nvPr/>
        </p:nvSpPr>
        <p:spPr>
          <a:xfrm>
            <a:off x="1835280" y="6480720"/>
            <a:ext cx="6913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spcBef>
                <a:spcPts val="52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Zhou J. HIV Medicine.2007;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3"/>
          <p:cNvSpPr/>
          <p:nvPr/>
        </p:nvSpPr>
        <p:spPr>
          <a:xfrm>
            <a:off x="4767120" y="5889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4"/>
          <p:cNvSpPr/>
          <p:nvPr/>
        </p:nvSpPr>
        <p:spPr>
          <a:xfrm>
            <a:off x="468360" y="692280"/>
            <a:ext cx="437652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Reason for d4T/3TC/NV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reatmen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5"/>
          <p:cNvSpPr/>
          <p:nvPr/>
        </p:nvSpPr>
        <p:spPr>
          <a:xfrm>
            <a:off x="611280" y="4365720"/>
            <a:ext cx="2016000" cy="5032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Toxicity : </a:t>
            </a:r>
            <a:r>
              <a:rPr b="0" lang="en-US" sz="2400" spc="-1" strike="noStrike">
                <a:solidFill>
                  <a:srgbClr val="119fff"/>
                </a:solidFill>
                <a:latin typeface="Arial"/>
                <a:ea typeface="Arial"/>
              </a:rPr>
              <a:t>most common reason for discontinuation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  <a:ea typeface="Arial"/>
              </a:rPr>
              <a:t>Develop a plan to help patients deal with side effects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inor” common side effects may b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s important to the patient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major grade 3/4 events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2" marL="1131480" indent="-226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usea, vomiting, abdominal discomfort or cramping, and diarrhea are common reasons why patients stop their medications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fd45"/>
                </a:solidFill>
                <a:latin typeface="Arial"/>
                <a:ea typeface="Arial"/>
              </a:rPr>
              <a:t>Most patients are asymptomatic when treatment is started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2" marL="1131480" indent="-226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fd45"/>
                </a:solidFill>
                <a:latin typeface="Arial"/>
                <a:ea typeface="Arial"/>
              </a:rPr>
              <a:t>Development of even minor symptoms can therefore be distressing and markedly concerned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620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Develop a plan to help patients deal with side effects (cont.)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 the possible side effects and toxicities before starting HAART 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defc"/>
                </a:solidFill>
                <a:latin typeface="Arial"/>
              </a:rPr>
              <a:t>Remind patients not to “self-diagnose” by stopping one of their medications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blish accessible unit for informal consultation about the patient’s concerned abnormal symptoms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Toxicity : </a:t>
            </a:r>
            <a:r>
              <a:rPr b="0" lang="en-US" sz="2400" spc="-1" strike="noStrike">
                <a:solidFill>
                  <a:srgbClr val="119fff"/>
                </a:solidFill>
                <a:latin typeface="Eras Medium ITC"/>
              </a:rPr>
              <a:t>most common reason for discontinuation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Liver in HIV-Infected Patients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1135080" y="2065320"/>
            <a:ext cx="32958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portunistic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5889600" y="5743440"/>
            <a:ext cx="15620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cohol ab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5"/>
          <p:cNvSpPr/>
          <p:nvPr/>
        </p:nvSpPr>
        <p:spPr>
          <a:xfrm>
            <a:off x="6407280" y="2144880"/>
            <a:ext cx="20365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CV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1546200" y="5274000"/>
            <a:ext cx="173844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m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on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7"/>
          <p:cNvSpPr/>
          <p:nvPr/>
        </p:nvSpPr>
        <p:spPr>
          <a:xfrm>
            <a:off x="2751120" y="3211560"/>
            <a:ext cx="1440" cy="655560"/>
          </a:xfrm>
          <a:custGeom>
            <a:avLst/>
            <a:gdLst>
              <a:gd name="textAreaLeft" fmla="*/ 0 w 1440"/>
              <a:gd name="textAreaRight" fmla="*/ 1440 w 1440"/>
              <a:gd name="textAreaTop" fmla="*/ 163800 h 655560"/>
              <a:gd name="textAreaBottom" fmla="*/ 491760 h 655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8"/>
          <p:cNvSpPr/>
          <p:nvPr/>
        </p:nvSpPr>
        <p:spPr>
          <a:xfrm>
            <a:off x="5122800" y="3106800"/>
            <a:ext cx="1800" cy="546120"/>
          </a:xfrm>
          <a:custGeom>
            <a:avLst/>
            <a:gdLst>
              <a:gd name="textAreaLeft" fmla="*/ 0 w 1800"/>
              <a:gd name="textAreaRight" fmla="*/ 1800 w 1800"/>
              <a:gd name="textAreaTop" fmla="*/ 95400 h 546120"/>
              <a:gd name="textAreaBottom" fmla="*/ 39600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9"/>
          <p:cNvSpPr/>
          <p:nvPr/>
        </p:nvSpPr>
        <p:spPr>
          <a:xfrm>
            <a:off x="1220760" y="3368520"/>
            <a:ext cx="114444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patitis vir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0"/>
          <p:cNvSpPr/>
          <p:nvPr/>
        </p:nvSpPr>
        <p:spPr>
          <a:xfrm>
            <a:off x="6613560" y="2812320"/>
            <a:ext cx="1654200" cy="7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V treatment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NRTIs, PIs, NR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11" descr="LIVER002"/>
          <p:cNvPicPr/>
          <p:nvPr/>
        </p:nvPicPr>
        <p:blipFill>
          <a:blip r:embed="rId1"/>
          <a:stretch/>
        </p:blipFill>
        <p:spPr>
          <a:xfrm>
            <a:off x="2709720" y="2751120"/>
            <a:ext cx="3434040" cy="2247840"/>
          </a:xfrm>
          <a:prstGeom prst="rect">
            <a:avLst/>
          </a:prstGeom>
          <a:ln w="0">
            <a:noFill/>
          </a:ln>
        </p:spPr>
      </p:pic>
      <p:sp>
        <p:nvSpPr>
          <p:cNvPr id="740" name="Line 12"/>
          <p:cNvSpPr/>
          <p:nvPr/>
        </p:nvSpPr>
        <p:spPr>
          <a:xfrm>
            <a:off x="2773440" y="2370240"/>
            <a:ext cx="444600" cy="698400"/>
          </a:xfrm>
          <a:prstGeom prst="line">
            <a:avLst/>
          </a:prstGeom>
          <a:ln w="76320">
            <a:solidFill>
              <a:srgbClr val="ff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3"/>
          <p:cNvSpPr/>
          <p:nvPr/>
        </p:nvSpPr>
        <p:spPr>
          <a:xfrm>
            <a:off x="2327400" y="3641760"/>
            <a:ext cx="954000" cy="0"/>
          </a:xfrm>
          <a:prstGeom prst="line">
            <a:avLst/>
          </a:prstGeom>
          <a:ln w="76320">
            <a:solidFill>
              <a:srgbClr val="ff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4"/>
          <p:cNvSpPr/>
          <p:nvPr/>
        </p:nvSpPr>
        <p:spPr>
          <a:xfrm flipV="1">
            <a:off x="2517840" y="4659480"/>
            <a:ext cx="1146240" cy="761760"/>
          </a:xfrm>
          <a:prstGeom prst="line">
            <a:avLst/>
          </a:prstGeom>
          <a:ln w="76320">
            <a:solidFill>
              <a:srgbClr val="ff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5"/>
          <p:cNvSpPr/>
          <p:nvPr/>
        </p:nvSpPr>
        <p:spPr>
          <a:xfrm flipH="1">
            <a:off x="5252760" y="2370240"/>
            <a:ext cx="1081080" cy="952560"/>
          </a:xfrm>
          <a:prstGeom prst="line">
            <a:avLst/>
          </a:prstGeom>
          <a:ln w="76320">
            <a:solidFill>
              <a:srgbClr val="ff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6"/>
          <p:cNvSpPr/>
          <p:nvPr/>
        </p:nvSpPr>
        <p:spPr>
          <a:xfrm flipH="1">
            <a:off x="5316480" y="3195720"/>
            <a:ext cx="1208160" cy="255600"/>
          </a:xfrm>
          <a:prstGeom prst="line">
            <a:avLst/>
          </a:prstGeom>
          <a:ln w="76320">
            <a:solidFill>
              <a:srgbClr val="ff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7"/>
          <p:cNvSpPr/>
          <p:nvPr/>
        </p:nvSpPr>
        <p:spPr>
          <a:xfrm flipH="1" flipV="1">
            <a:off x="5125680" y="4595400"/>
            <a:ext cx="1017720" cy="1081080"/>
          </a:xfrm>
          <a:prstGeom prst="line">
            <a:avLst/>
          </a:prstGeom>
          <a:ln w="76320">
            <a:solidFill>
              <a:srgbClr val="ff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8"/>
          <p:cNvSpPr/>
          <p:nvPr/>
        </p:nvSpPr>
        <p:spPr>
          <a:xfrm>
            <a:off x="2525760" y="5937120"/>
            <a:ext cx="32954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existing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9"/>
          <p:cNvSpPr/>
          <p:nvPr/>
        </p:nvSpPr>
        <p:spPr>
          <a:xfrm flipV="1">
            <a:off x="4172040" y="5040000"/>
            <a:ext cx="0" cy="826920"/>
          </a:xfrm>
          <a:prstGeom prst="line">
            <a:avLst/>
          </a:prstGeom>
          <a:ln w="5724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0"/>
          <p:cNvSpPr/>
          <p:nvPr/>
        </p:nvSpPr>
        <p:spPr>
          <a:xfrm flipH="1" flipV="1">
            <a:off x="5302080" y="4086360"/>
            <a:ext cx="1640160" cy="31752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1"/>
          <p:cNvSpPr/>
          <p:nvPr/>
        </p:nvSpPr>
        <p:spPr>
          <a:xfrm>
            <a:off x="7031160" y="4143600"/>
            <a:ext cx="153324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tty Liver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2"/>
          <p:cNvSpPr/>
          <p:nvPr/>
        </p:nvSpPr>
        <p:spPr>
          <a:xfrm>
            <a:off x="2368440" y="6384600"/>
            <a:ext cx="601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0c0c0"/>
                </a:solidFill>
                <a:latin typeface="Arial"/>
              </a:rPr>
              <a:t>Courtesy of Mark Sulkowsk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HIV-HCV co-infection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6840" y="178272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Prevalence of HBV, HCV co-infection with HIV were  8.7 and 7.8 %, respectively 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IVDU associated to HIV-HCV co-infection , p&lt;0.001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53" name="Text Box 9"/>
          <p:cNvSpPr/>
          <p:nvPr/>
        </p:nvSpPr>
        <p:spPr>
          <a:xfrm>
            <a:off x="1835280" y="6480720"/>
            <a:ext cx="6913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spcBef>
                <a:spcPts val="52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Sungkanuparph S. J Med Assoc Thai. 2004; 87(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Interaction of HIV and HCV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33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dia New"/>
              </a:rPr>
              <a:t>HCV on HIV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dia New"/>
              </a:rPr>
              <a:t>No major difference in HIV-related mortality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dia New"/>
              </a:rPr>
              <a:t>Not increased the rate of progression to ADI/death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dia New"/>
              </a:rPr>
              <a:t>No definite effect on immunologic/virologic response to HAART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dia New"/>
              </a:rPr>
              <a:t>Increased ART-associated liver toxicity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724280" y="1904760"/>
            <a:ext cx="3733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rdia New"/>
              </a:rPr>
              <a:t>HIV on HCV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623880" indent="-23976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rdia New"/>
              </a:rPr>
              <a:t>Accelerate fibrosis progression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623880" indent="-23976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rdia New"/>
              </a:rPr>
              <a:t>Higher HCV-RNA level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623880" indent="-23976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rdia New"/>
              </a:rPr>
              <a:t>Increased risk of cirrhosis and ESLD. 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623880" indent="-23976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rdia New"/>
              </a:rPr>
              <a:t>Develops HCC earlier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623880" indent="-23976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rdia New"/>
              </a:rPr>
              <a:t>Enhanced RBV side effect due to ART use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lvl="1" marL="623880" indent="-23976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rdia New"/>
              </a:rPr>
              <a:t>HAART reduced liver-related mortality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757" name="Text Box 6"/>
          <p:cNvSpPr/>
          <p:nvPr/>
        </p:nvSpPr>
        <p:spPr>
          <a:xfrm>
            <a:off x="611280" y="6314400"/>
            <a:ext cx="691344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388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Arial"/>
              </a:rPr>
              <a:t>Zhou J. J Gastroenterol Hepatol. 2007; Ju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88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Arial"/>
              </a:rPr>
              <a:t>Sulkowski MS. J Viral Hepatitis. 2007;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fd45"/>
                </a:solidFill>
                <a:latin typeface="Eras Medium ITC"/>
              </a:rPr>
              <a:t>HAART reduce Liver-related mortality in HIV/HCV co-infection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  <p:pic>
        <p:nvPicPr>
          <p:cNvPr id="759" name="Picture 5" descr=""/>
          <p:cNvPicPr/>
          <p:nvPr/>
        </p:nvPicPr>
        <p:blipFill>
          <a:blip r:embed="rId1"/>
          <a:stretch/>
        </p:blipFill>
        <p:spPr>
          <a:xfrm>
            <a:off x="2021040" y="1782720"/>
            <a:ext cx="5101920" cy="4525920"/>
          </a:xfrm>
          <a:prstGeom prst="rect">
            <a:avLst/>
          </a:prstGeom>
          <a:ln w="0">
            <a:noFill/>
          </a:ln>
        </p:spPr>
      </p:pic>
      <p:sp>
        <p:nvSpPr>
          <p:cNvPr id="760" name="Text Box 6"/>
          <p:cNvSpPr/>
          <p:nvPr/>
        </p:nvSpPr>
        <p:spPr>
          <a:xfrm>
            <a:off x="1835280" y="6521760"/>
            <a:ext cx="69134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spcBef>
                <a:spcPts val="388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Arial"/>
              </a:rPr>
              <a:t>Sulkowski MS. J Viral Hepatitis. 2007;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2"/>
          <p:cNvSpPr/>
          <p:nvPr/>
        </p:nvSpPr>
        <p:spPr>
          <a:xfrm>
            <a:off x="2556000" y="6384600"/>
            <a:ext cx="60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Benhamou Y, et al. CROI 2006. Abstract 8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"/>
          <p:cNvSpPr/>
          <p:nvPr/>
        </p:nvSpPr>
        <p:spPr>
          <a:xfrm>
            <a:off x="1986120" y="3755880"/>
            <a:ext cx="209520" cy="112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2941560" y="4165560"/>
            <a:ext cx="208080" cy="717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5"/>
          <p:cNvSpPr/>
          <p:nvPr/>
        </p:nvSpPr>
        <p:spPr>
          <a:xfrm>
            <a:off x="3895560" y="4272120"/>
            <a:ext cx="209880" cy="61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4849920" y="4454640"/>
            <a:ext cx="209520" cy="428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7"/>
          <p:cNvSpPr/>
          <p:nvPr/>
        </p:nvSpPr>
        <p:spPr>
          <a:xfrm>
            <a:off x="5803920" y="4557600"/>
            <a:ext cx="209520" cy="32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8"/>
          <p:cNvSpPr/>
          <p:nvPr/>
        </p:nvSpPr>
        <p:spPr>
          <a:xfrm>
            <a:off x="6759720" y="4303800"/>
            <a:ext cx="207720" cy="579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9"/>
          <p:cNvSpPr/>
          <p:nvPr/>
        </p:nvSpPr>
        <p:spPr>
          <a:xfrm>
            <a:off x="2195640" y="3325680"/>
            <a:ext cx="222120" cy="1557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0"/>
          <p:cNvSpPr/>
          <p:nvPr/>
        </p:nvSpPr>
        <p:spPr>
          <a:xfrm>
            <a:off x="3149640" y="3990960"/>
            <a:ext cx="222120" cy="892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11"/>
          <p:cNvSpPr/>
          <p:nvPr/>
        </p:nvSpPr>
        <p:spPr>
          <a:xfrm>
            <a:off x="4105440" y="4233960"/>
            <a:ext cx="220320" cy="649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2"/>
          <p:cNvSpPr/>
          <p:nvPr/>
        </p:nvSpPr>
        <p:spPr>
          <a:xfrm>
            <a:off x="5059440" y="4111560"/>
            <a:ext cx="222120" cy="771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3"/>
          <p:cNvSpPr/>
          <p:nvPr/>
        </p:nvSpPr>
        <p:spPr>
          <a:xfrm>
            <a:off x="6013440" y="4467240"/>
            <a:ext cx="222120" cy="41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4"/>
          <p:cNvSpPr/>
          <p:nvPr/>
        </p:nvSpPr>
        <p:spPr>
          <a:xfrm>
            <a:off x="6967440" y="4184640"/>
            <a:ext cx="223920" cy="698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5"/>
          <p:cNvSpPr/>
          <p:nvPr/>
        </p:nvSpPr>
        <p:spPr>
          <a:xfrm>
            <a:off x="2417760" y="4070520"/>
            <a:ext cx="209520" cy="81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6"/>
          <p:cNvSpPr/>
          <p:nvPr/>
        </p:nvSpPr>
        <p:spPr>
          <a:xfrm>
            <a:off x="3371760" y="4425840"/>
            <a:ext cx="209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7"/>
          <p:cNvSpPr/>
          <p:nvPr/>
        </p:nvSpPr>
        <p:spPr>
          <a:xfrm>
            <a:off x="4325760" y="4498920"/>
            <a:ext cx="209880" cy="384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8"/>
          <p:cNvSpPr/>
          <p:nvPr/>
        </p:nvSpPr>
        <p:spPr>
          <a:xfrm>
            <a:off x="5281560" y="4599000"/>
            <a:ext cx="209520" cy="284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9"/>
          <p:cNvSpPr/>
          <p:nvPr/>
        </p:nvSpPr>
        <p:spPr>
          <a:xfrm>
            <a:off x="6235560" y="4446720"/>
            <a:ext cx="209520" cy="43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20"/>
          <p:cNvSpPr/>
          <p:nvPr/>
        </p:nvSpPr>
        <p:spPr>
          <a:xfrm>
            <a:off x="7191360" y="4483080"/>
            <a:ext cx="208080" cy="39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21"/>
          <p:cNvSpPr/>
          <p:nvPr/>
        </p:nvSpPr>
        <p:spPr>
          <a:xfrm>
            <a:off x="1828800" y="2952720"/>
            <a:ext cx="1440" cy="19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22"/>
          <p:cNvSpPr/>
          <p:nvPr/>
        </p:nvSpPr>
        <p:spPr>
          <a:xfrm>
            <a:off x="1819440" y="4883040"/>
            <a:ext cx="57369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23"/>
          <p:cNvSpPr/>
          <p:nvPr/>
        </p:nvSpPr>
        <p:spPr>
          <a:xfrm>
            <a:off x="1588680" y="4753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4"/>
          <p:cNvSpPr/>
          <p:nvPr/>
        </p:nvSpPr>
        <p:spPr>
          <a:xfrm>
            <a:off x="1476000" y="4297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25"/>
          <p:cNvSpPr/>
          <p:nvPr/>
        </p:nvSpPr>
        <p:spPr>
          <a:xfrm>
            <a:off x="1476000" y="3813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26"/>
          <p:cNvSpPr/>
          <p:nvPr/>
        </p:nvSpPr>
        <p:spPr>
          <a:xfrm>
            <a:off x="1476000" y="33228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7"/>
          <p:cNvSpPr/>
          <p:nvPr/>
        </p:nvSpPr>
        <p:spPr>
          <a:xfrm>
            <a:off x="1476000" y="2841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28"/>
          <p:cNvSpPr/>
          <p:nvPr/>
        </p:nvSpPr>
        <p:spPr>
          <a:xfrm>
            <a:off x="1998720" y="495468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NR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29"/>
          <p:cNvSpPr/>
          <p:nvPr/>
        </p:nvSpPr>
        <p:spPr>
          <a:xfrm>
            <a:off x="3170160" y="49546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30"/>
          <p:cNvSpPr/>
          <p:nvPr/>
        </p:nvSpPr>
        <p:spPr>
          <a:xfrm>
            <a:off x="3947400" y="4954680"/>
            <a:ext cx="54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x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31"/>
          <p:cNvSpPr/>
          <p:nvPr/>
        </p:nvSpPr>
        <p:spPr>
          <a:xfrm>
            <a:off x="5007960" y="495468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32"/>
          <p:cNvSpPr/>
          <p:nvPr/>
        </p:nvSpPr>
        <p:spPr>
          <a:xfrm>
            <a:off x="5891040" y="49546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R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3"/>
          <p:cNvSpPr/>
          <p:nvPr/>
        </p:nvSpPr>
        <p:spPr>
          <a:xfrm>
            <a:off x="6764040" y="4954680"/>
            <a:ext cx="64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ver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4"/>
          <p:cNvSpPr/>
          <p:nvPr/>
        </p:nvSpPr>
        <p:spPr>
          <a:xfrm rot="16200000">
            <a:off x="253800" y="3798360"/>
            <a:ext cx="193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% Patients with L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5"/>
          <p:cNvSpPr/>
          <p:nvPr/>
        </p:nvSpPr>
        <p:spPr>
          <a:xfrm>
            <a:off x="6662880" y="2768760"/>
            <a:ext cx="128520" cy="12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36"/>
          <p:cNvSpPr/>
          <p:nvPr/>
        </p:nvSpPr>
        <p:spPr>
          <a:xfrm>
            <a:off x="6892200" y="269568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l 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37"/>
          <p:cNvSpPr/>
          <p:nvPr/>
        </p:nvSpPr>
        <p:spPr>
          <a:xfrm>
            <a:off x="6662880" y="3081240"/>
            <a:ext cx="128520" cy="12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38"/>
          <p:cNvSpPr/>
          <p:nvPr/>
        </p:nvSpPr>
        <p:spPr>
          <a:xfrm>
            <a:off x="6891120" y="3016080"/>
            <a:ext cx="149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CV coinf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9"/>
          <p:cNvSpPr/>
          <p:nvPr/>
        </p:nvSpPr>
        <p:spPr>
          <a:xfrm>
            <a:off x="6662880" y="3386160"/>
            <a:ext cx="12852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40"/>
          <p:cNvSpPr/>
          <p:nvPr/>
        </p:nvSpPr>
        <p:spPr>
          <a:xfrm>
            <a:off x="6892560" y="3321000"/>
            <a:ext cx="172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V monoinf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41"/>
          <p:cNvSpPr/>
          <p:nvPr/>
        </p:nvSpPr>
        <p:spPr>
          <a:xfrm flipH="1">
            <a:off x="1760400" y="2967120"/>
            <a:ext cx="61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42"/>
          <p:cNvSpPr/>
          <p:nvPr/>
        </p:nvSpPr>
        <p:spPr>
          <a:xfrm flipH="1">
            <a:off x="1760400" y="4883040"/>
            <a:ext cx="61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43"/>
          <p:cNvSpPr/>
          <p:nvPr/>
        </p:nvSpPr>
        <p:spPr>
          <a:xfrm flipH="1">
            <a:off x="1760400" y="4427640"/>
            <a:ext cx="61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44"/>
          <p:cNvSpPr/>
          <p:nvPr/>
        </p:nvSpPr>
        <p:spPr>
          <a:xfrm flipH="1">
            <a:off x="1760400" y="3941640"/>
            <a:ext cx="61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45"/>
          <p:cNvSpPr/>
          <p:nvPr/>
        </p:nvSpPr>
        <p:spPr>
          <a:xfrm flipH="1">
            <a:off x="1760400" y="3448080"/>
            <a:ext cx="61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46"/>
          <p:cNvSpPr/>
          <p:nvPr/>
        </p:nvSpPr>
        <p:spPr>
          <a:xfrm flipV="1">
            <a:off x="1830240" y="4890960"/>
            <a:ext cx="0" cy="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47"/>
          <p:cNvSpPr/>
          <p:nvPr/>
        </p:nvSpPr>
        <p:spPr>
          <a:xfrm flipV="1">
            <a:off x="2774880" y="4890960"/>
            <a:ext cx="0" cy="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48"/>
          <p:cNvSpPr/>
          <p:nvPr/>
        </p:nvSpPr>
        <p:spPr>
          <a:xfrm flipV="1">
            <a:off x="3740040" y="4890960"/>
            <a:ext cx="0" cy="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49"/>
          <p:cNvSpPr/>
          <p:nvPr/>
        </p:nvSpPr>
        <p:spPr>
          <a:xfrm flipV="1">
            <a:off x="4678200" y="4890960"/>
            <a:ext cx="0" cy="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50"/>
          <p:cNvSpPr/>
          <p:nvPr/>
        </p:nvSpPr>
        <p:spPr>
          <a:xfrm flipV="1">
            <a:off x="5643720" y="4890960"/>
            <a:ext cx="0" cy="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51"/>
          <p:cNvSpPr/>
          <p:nvPr/>
        </p:nvSpPr>
        <p:spPr>
          <a:xfrm flipV="1">
            <a:off x="6605640" y="4890960"/>
            <a:ext cx="0" cy="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52"/>
          <p:cNvSpPr/>
          <p:nvPr/>
        </p:nvSpPr>
        <p:spPr>
          <a:xfrm flipV="1">
            <a:off x="7542360" y="4890960"/>
            <a:ext cx="0" cy="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53"/>
          <p:cNvSpPr/>
          <p:nvPr/>
        </p:nvSpPr>
        <p:spPr>
          <a:xfrm>
            <a:off x="1863720" y="4879800"/>
            <a:ext cx="3960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54"/>
          <p:cNvSpPr/>
          <p:nvPr/>
        </p:nvSpPr>
        <p:spPr>
          <a:xfrm>
            <a:off x="719280" y="5345280"/>
            <a:ext cx="89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arm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55"/>
          <p:cNvSpPr/>
          <p:nvPr/>
        </p:nvSpPr>
        <p:spPr>
          <a:xfrm>
            <a:off x="4120560" y="6045120"/>
            <a:ext cx="112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ug Cla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56"/>
          <p:cNvSpPr/>
          <p:nvPr/>
        </p:nvSpPr>
        <p:spPr>
          <a:xfrm>
            <a:off x="1746360" y="5349960"/>
            <a:ext cx="48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11</a:t>
            </a:r>
            <a:br>
              <a:rPr sz="1200"/>
            </a:b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5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57"/>
          <p:cNvSpPr/>
          <p:nvPr/>
        </p:nvSpPr>
        <p:spPr>
          <a:xfrm>
            <a:off x="2052720" y="5464080"/>
            <a:ext cx="48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7</a:t>
            </a:r>
            <a:br>
              <a:rPr sz="1200"/>
            </a:b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2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58"/>
          <p:cNvSpPr/>
          <p:nvPr/>
        </p:nvSpPr>
        <p:spPr>
          <a:xfrm>
            <a:off x="2367000" y="5621400"/>
            <a:ext cx="48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59"/>
          <p:cNvSpPr/>
          <p:nvPr/>
        </p:nvSpPr>
        <p:spPr>
          <a:xfrm>
            <a:off x="2654280" y="5349960"/>
            <a:ext cx="59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12</a:t>
            </a:r>
            <a:br>
              <a:rPr sz="1200"/>
            </a:b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12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60"/>
          <p:cNvSpPr/>
          <p:nvPr/>
        </p:nvSpPr>
        <p:spPr>
          <a:xfrm>
            <a:off x="3008160" y="5464080"/>
            <a:ext cx="48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9</a:t>
            </a:r>
            <a:br>
              <a:rPr sz="1200"/>
            </a:b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7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61"/>
          <p:cNvSpPr/>
          <p:nvPr/>
        </p:nvSpPr>
        <p:spPr>
          <a:xfrm>
            <a:off x="3298680" y="5621400"/>
            <a:ext cx="52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62"/>
          <p:cNvSpPr/>
          <p:nvPr/>
        </p:nvSpPr>
        <p:spPr>
          <a:xfrm>
            <a:off x="3646440" y="5349960"/>
            <a:ext cx="54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14</a:t>
            </a:r>
            <a:br>
              <a:rPr sz="1200"/>
            </a:b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27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63"/>
          <p:cNvSpPr/>
          <p:nvPr/>
        </p:nvSpPr>
        <p:spPr>
          <a:xfrm>
            <a:off x="3976560" y="5464080"/>
            <a:ext cx="58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10</a:t>
            </a:r>
            <a:br>
              <a:rPr sz="1200"/>
            </a:b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23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64"/>
          <p:cNvSpPr/>
          <p:nvPr/>
        </p:nvSpPr>
        <p:spPr>
          <a:xfrm>
            <a:off x="4290840" y="5621400"/>
            <a:ext cx="52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65"/>
          <p:cNvSpPr/>
          <p:nvPr/>
        </p:nvSpPr>
        <p:spPr>
          <a:xfrm>
            <a:off x="4648320" y="5349960"/>
            <a:ext cx="52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11</a:t>
            </a:r>
            <a:br>
              <a:rPr sz="1200"/>
            </a:b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20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66"/>
          <p:cNvSpPr/>
          <p:nvPr/>
        </p:nvSpPr>
        <p:spPr>
          <a:xfrm>
            <a:off x="4986360" y="5464080"/>
            <a:ext cx="48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6</a:t>
            </a:r>
            <a:br>
              <a:rPr sz="1200"/>
            </a:b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6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67"/>
          <p:cNvSpPr/>
          <p:nvPr/>
        </p:nvSpPr>
        <p:spPr>
          <a:xfrm>
            <a:off x="5268960" y="5621400"/>
            <a:ext cx="52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4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68"/>
          <p:cNvSpPr/>
          <p:nvPr/>
        </p:nvSpPr>
        <p:spPr>
          <a:xfrm>
            <a:off x="5608800" y="534996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5</a:t>
            </a:r>
            <a:br>
              <a:rPr sz="1200"/>
            </a:b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10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69"/>
          <p:cNvSpPr/>
          <p:nvPr/>
        </p:nvSpPr>
        <p:spPr>
          <a:xfrm>
            <a:off x="5954760" y="5464080"/>
            <a:ext cx="48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3</a:t>
            </a:r>
            <a:br>
              <a:rPr sz="1200"/>
            </a:b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5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70"/>
          <p:cNvSpPr/>
          <p:nvPr/>
        </p:nvSpPr>
        <p:spPr>
          <a:xfrm>
            <a:off x="6229440" y="5621400"/>
            <a:ext cx="48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71"/>
          <p:cNvSpPr/>
          <p:nvPr/>
        </p:nvSpPr>
        <p:spPr>
          <a:xfrm>
            <a:off x="6526080" y="5349960"/>
            <a:ext cx="54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53</a:t>
            </a:r>
            <a:br>
              <a:rPr sz="1200"/>
            </a:b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76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72"/>
          <p:cNvSpPr/>
          <p:nvPr/>
        </p:nvSpPr>
        <p:spPr>
          <a:xfrm>
            <a:off x="6880320" y="5464080"/>
            <a:ext cx="53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35</a:t>
            </a:r>
            <a:br>
              <a:rPr sz="1200"/>
            </a:b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45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73"/>
          <p:cNvSpPr/>
          <p:nvPr/>
        </p:nvSpPr>
        <p:spPr>
          <a:xfrm>
            <a:off x="7250040" y="5621400"/>
            <a:ext cx="5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8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1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74"/>
          <p:cNvSpPr/>
          <p:nvPr/>
        </p:nvSpPr>
        <p:spPr>
          <a:xfrm>
            <a:off x="393840" y="2000160"/>
            <a:ext cx="84549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Interactions were not significant between drug class and co-infection (P = .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82680" y="380520"/>
            <a:ext cx="846432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fd45"/>
                </a:solidFill>
                <a:latin typeface="Eras Medium ITC"/>
              </a:rPr>
              <a:t>%LEE by HIV/HCV Co-infection Status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What need to be taken care at HIV clinic ?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Regimen tolerability and adherenc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548280" indent="-548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Determine response and considering rescue therapy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548280" indent="-548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e needs of chemoprophylaxis for OIs.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548280" indent="-548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e immune reconstitution illnesses or new concomitant disease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548280" indent="-548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Health promotion and disease prevention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548280" indent="-548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Psychosocial suppor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548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Regimen tolerability and Adherence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ffffff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fd45"/>
                </a:solidFill>
                <a:latin typeface="Eras Medium ITC"/>
              </a:rPr>
              <a:t>Factors Affecting Adherence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385920" y="1981080"/>
          <a:ext cx="8454960" cy="4378320"/>
        </p:xfrm>
        <a:graphic>
          <a:graphicData uri="http://schemas.openxmlformats.org/drawingml/2006/table">
            <a:tbl>
              <a:tblPr/>
              <a:tblGrid>
                <a:gridCol w="2614320"/>
                <a:gridCol w="5840640"/>
              </a:tblGrid>
              <a:tr h="177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ffcc"/>
                          </a:solidFill>
                          <a:latin typeface="Arial"/>
                          <a:ea typeface="Times New Roman"/>
                        </a:rPr>
                        <a:t>Factors associated w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ffcc"/>
                          </a:solidFill>
                          <a:latin typeface="Arial"/>
                          <a:ea typeface="Times New Roman"/>
                        </a:rPr>
                        <a:t>increased adh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Aft>
                          <a:spcPts val="561"/>
                        </a:spcAft>
                        <a:buClr>
                          <a:srgbClr val="bbe0e3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ffcc"/>
                          </a:solidFill>
                          <a:latin typeface="Arial"/>
                          <a:ea typeface="Times New Roman"/>
                        </a:rPr>
                        <a:t>Patient belief in HA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Aft>
                          <a:spcPts val="561"/>
                        </a:spcAft>
                        <a:buClr>
                          <a:srgbClr val="bbe0e3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ffc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ffcc"/>
                          </a:solidFill>
                          <a:latin typeface="Arial"/>
                          <a:ea typeface="Times New Roman"/>
                        </a:rPr>
                        <a:t>Physician exper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Aft>
                          <a:spcPts val="561"/>
                        </a:spcAft>
                        <a:buClr>
                          <a:srgbClr val="bbe0e3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ffc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ffcc"/>
                          </a:solidFill>
                          <a:latin typeface="Arial"/>
                          <a:ea typeface="Times New Roman"/>
                        </a:rPr>
                        <a:t>Social supp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Aft>
                          <a:spcPts val="561"/>
                        </a:spcAft>
                        <a:buClr>
                          <a:srgbClr val="bbe0e3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ffc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ffcc"/>
                          </a:solidFill>
                          <a:latin typeface="Arial"/>
                          <a:ea typeface="Times New Roman"/>
                        </a:rPr>
                        <a:t>Regular office visi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60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509"/>
                          </a:solidFill>
                          <a:latin typeface="Arial"/>
                          <a:ea typeface="Times New Roman"/>
                        </a:rPr>
                        <a:t>Factors associated w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509"/>
                          </a:solidFill>
                          <a:latin typeface="Arial"/>
                          <a:ea typeface="Times New Roman"/>
                        </a:rPr>
                        <a:t>Non-adh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Aft>
                          <a:spcPts val="561"/>
                        </a:spcAft>
                        <a:buClr>
                          <a:srgbClr val="bbe0e3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50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e509"/>
                          </a:solidFill>
                          <a:latin typeface="Arial"/>
                          <a:ea typeface="Times New Roman"/>
                        </a:rPr>
                        <a:t>Active injection-drug 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Aft>
                          <a:spcPts val="561"/>
                        </a:spcAft>
                        <a:buClr>
                          <a:srgbClr val="bbe0e3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50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e509"/>
                          </a:solidFill>
                          <a:latin typeface="Arial"/>
                          <a:ea typeface="Times New Roman"/>
                        </a:rPr>
                        <a:t>Active alcohol ab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Aft>
                          <a:spcPts val="561"/>
                        </a:spcAft>
                        <a:buClr>
                          <a:srgbClr val="bbe0e3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50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e509"/>
                          </a:solidFill>
                          <a:latin typeface="Arial"/>
                          <a:ea typeface="Times New Roman"/>
                        </a:rPr>
                        <a:t>Active psychiatric disease (especially depres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Aft>
                          <a:spcPts val="561"/>
                        </a:spcAft>
                        <a:buClr>
                          <a:srgbClr val="bbe0e3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50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e509"/>
                          </a:solidFill>
                          <a:latin typeface="Arial"/>
                          <a:ea typeface="Times New Roman"/>
                        </a:rPr>
                        <a:t>Younger 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Aft>
                          <a:spcPts val="561"/>
                        </a:spcAft>
                        <a:buClr>
                          <a:srgbClr val="bbe0e3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50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e509"/>
                          </a:solidFill>
                          <a:latin typeface="Arial"/>
                          <a:ea typeface="Times New Roman"/>
                        </a:rPr>
                        <a:t>Low functional liter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Question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What is the most common reason your patient miss the regimen ?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1440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oo busy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1440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Away from hom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1440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Depressive mood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1440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oo many pill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1440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Ran off medicin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1440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1440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2"/>
          <p:cNvSpPr/>
          <p:nvPr/>
        </p:nvSpPr>
        <p:spPr>
          <a:xfrm>
            <a:off x="6217920" y="4704120"/>
            <a:ext cx="23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mplify dosing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3"/>
          <p:cNvSpPr/>
          <p:nvPr/>
        </p:nvSpPr>
        <p:spPr>
          <a:xfrm>
            <a:off x="6219360" y="4977360"/>
            <a:ext cx="193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crease pill bur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4"/>
          <p:cNvSpPr/>
          <p:nvPr/>
        </p:nvSpPr>
        <p:spPr>
          <a:xfrm>
            <a:off x="6223320" y="52408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82680" y="228600"/>
            <a:ext cx="846432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1fd45"/>
                </a:solidFill>
                <a:latin typeface="Eras Medium ITC"/>
              </a:rPr>
              <a:t>Why Do Patients Miss Doses?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845" name="Text Box 6"/>
          <p:cNvSpPr/>
          <p:nvPr/>
        </p:nvSpPr>
        <p:spPr>
          <a:xfrm>
            <a:off x="388800" y="2045520"/>
            <a:ext cx="8305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sons Given for Missing Antiretroviral Doses (Structured Questionnaire),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7"/>
          <p:cNvSpPr/>
          <p:nvPr/>
        </p:nvSpPr>
        <p:spPr>
          <a:xfrm>
            <a:off x="6012000" y="4432680"/>
            <a:ext cx="25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ssible interven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8"/>
          <p:cNvSpPr/>
          <p:nvPr/>
        </p:nvSpPr>
        <p:spPr>
          <a:xfrm>
            <a:off x="6113520" y="4803840"/>
            <a:ext cx="128520" cy="12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9"/>
          <p:cNvSpPr/>
          <p:nvPr/>
        </p:nvSpPr>
        <p:spPr>
          <a:xfrm>
            <a:off x="6113520" y="5076720"/>
            <a:ext cx="128520" cy="1285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10"/>
          <p:cNvSpPr/>
          <p:nvPr/>
        </p:nvSpPr>
        <p:spPr>
          <a:xfrm>
            <a:off x="6113520" y="5340240"/>
            <a:ext cx="128520" cy="12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11"/>
          <p:cNvSpPr/>
          <p:nvPr/>
        </p:nvSpPr>
        <p:spPr>
          <a:xfrm>
            <a:off x="4037040" y="2719440"/>
            <a:ext cx="4441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12"/>
          <p:cNvSpPr/>
          <p:nvPr/>
        </p:nvSpPr>
        <p:spPr>
          <a:xfrm flipV="1">
            <a:off x="4037040" y="2652840"/>
            <a:ext cx="1440" cy="6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13"/>
          <p:cNvSpPr/>
          <p:nvPr/>
        </p:nvSpPr>
        <p:spPr>
          <a:xfrm flipV="1">
            <a:off x="4780080" y="2652840"/>
            <a:ext cx="1440" cy="6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14"/>
          <p:cNvSpPr/>
          <p:nvPr/>
        </p:nvSpPr>
        <p:spPr>
          <a:xfrm flipV="1">
            <a:off x="5514840" y="2652840"/>
            <a:ext cx="1800" cy="6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5"/>
          <p:cNvSpPr/>
          <p:nvPr/>
        </p:nvSpPr>
        <p:spPr>
          <a:xfrm flipV="1">
            <a:off x="6257880" y="2652840"/>
            <a:ext cx="1800" cy="6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16"/>
          <p:cNvSpPr/>
          <p:nvPr/>
        </p:nvSpPr>
        <p:spPr>
          <a:xfrm flipV="1">
            <a:off x="7000920" y="2652840"/>
            <a:ext cx="1440" cy="6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17"/>
          <p:cNvSpPr/>
          <p:nvPr/>
        </p:nvSpPr>
        <p:spPr>
          <a:xfrm flipV="1">
            <a:off x="7736040" y="2652840"/>
            <a:ext cx="1440" cy="6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18"/>
          <p:cNvSpPr/>
          <p:nvPr/>
        </p:nvSpPr>
        <p:spPr>
          <a:xfrm flipV="1">
            <a:off x="8478720" y="2652840"/>
            <a:ext cx="1800" cy="6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Group 19"/>
          <p:cNvGrpSpPr/>
          <p:nvPr/>
        </p:nvGrpSpPr>
        <p:grpSpPr>
          <a:xfrm>
            <a:off x="3970440" y="2720880"/>
            <a:ext cx="63360" cy="3327480"/>
            <a:chOff x="3970440" y="2720880"/>
            <a:chExt cx="63360" cy="3327480"/>
          </a:xfrm>
        </p:grpSpPr>
        <p:sp>
          <p:nvSpPr>
            <p:cNvPr id="859" name="Line 20"/>
            <p:cNvSpPr/>
            <p:nvPr/>
          </p:nvSpPr>
          <p:spPr>
            <a:xfrm>
              <a:off x="3970440" y="272088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21"/>
            <p:cNvSpPr/>
            <p:nvPr/>
          </p:nvSpPr>
          <p:spPr>
            <a:xfrm>
              <a:off x="3970440" y="292896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22"/>
            <p:cNvSpPr/>
            <p:nvPr/>
          </p:nvSpPr>
          <p:spPr>
            <a:xfrm>
              <a:off x="3970440" y="313704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23"/>
            <p:cNvSpPr/>
            <p:nvPr/>
          </p:nvSpPr>
          <p:spPr>
            <a:xfrm>
              <a:off x="3970440" y="334476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24"/>
            <p:cNvSpPr/>
            <p:nvPr/>
          </p:nvSpPr>
          <p:spPr>
            <a:xfrm>
              <a:off x="3970440" y="355284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25"/>
            <p:cNvSpPr/>
            <p:nvPr/>
          </p:nvSpPr>
          <p:spPr>
            <a:xfrm>
              <a:off x="3970440" y="376092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Line 26"/>
            <p:cNvSpPr/>
            <p:nvPr/>
          </p:nvSpPr>
          <p:spPr>
            <a:xfrm>
              <a:off x="3970440" y="396864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27"/>
            <p:cNvSpPr/>
            <p:nvPr/>
          </p:nvSpPr>
          <p:spPr>
            <a:xfrm>
              <a:off x="3970440" y="417672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28"/>
            <p:cNvSpPr/>
            <p:nvPr/>
          </p:nvSpPr>
          <p:spPr>
            <a:xfrm>
              <a:off x="3970440" y="438480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29"/>
            <p:cNvSpPr/>
            <p:nvPr/>
          </p:nvSpPr>
          <p:spPr>
            <a:xfrm>
              <a:off x="3970440" y="459252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30"/>
            <p:cNvSpPr/>
            <p:nvPr/>
          </p:nvSpPr>
          <p:spPr>
            <a:xfrm>
              <a:off x="3970440" y="480060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Line 31"/>
            <p:cNvSpPr/>
            <p:nvPr/>
          </p:nvSpPr>
          <p:spPr>
            <a:xfrm>
              <a:off x="3970440" y="500868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Line 32"/>
            <p:cNvSpPr/>
            <p:nvPr/>
          </p:nvSpPr>
          <p:spPr>
            <a:xfrm>
              <a:off x="3970440" y="521640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Line 33"/>
            <p:cNvSpPr/>
            <p:nvPr/>
          </p:nvSpPr>
          <p:spPr>
            <a:xfrm>
              <a:off x="3970440" y="542448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34"/>
            <p:cNvSpPr/>
            <p:nvPr/>
          </p:nvSpPr>
          <p:spPr>
            <a:xfrm>
              <a:off x="3970440" y="563256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35"/>
            <p:cNvSpPr/>
            <p:nvPr/>
          </p:nvSpPr>
          <p:spPr>
            <a:xfrm>
              <a:off x="3970440" y="584028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36"/>
            <p:cNvSpPr/>
            <p:nvPr/>
          </p:nvSpPr>
          <p:spPr>
            <a:xfrm>
              <a:off x="3970440" y="6048360"/>
              <a:ext cx="6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Rectangle 37"/>
          <p:cNvSpPr/>
          <p:nvPr/>
        </p:nvSpPr>
        <p:spPr>
          <a:xfrm>
            <a:off x="3968280" y="2419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38"/>
          <p:cNvSpPr/>
          <p:nvPr/>
        </p:nvSpPr>
        <p:spPr>
          <a:xfrm>
            <a:off x="4676040" y="241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39"/>
          <p:cNvSpPr/>
          <p:nvPr/>
        </p:nvSpPr>
        <p:spPr>
          <a:xfrm>
            <a:off x="5411160" y="241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40"/>
          <p:cNvSpPr/>
          <p:nvPr/>
        </p:nvSpPr>
        <p:spPr>
          <a:xfrm>
            <a:off x="6152400" y="241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41"/>
          <p:cNvSpPr/>
          <p:nvPr/>
        </p:nvSpPr>
        <p:spPr>
          <a:xfrm>
            <a:off x="6895440" y="241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42"/>
          <p:cNvSpPr/>
          <p:nvPr/>
        </p:nvSpPr>
        <p:spPr>
          <a:xfrm>
            <a:off x="7630200" y="241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43"/>
          <p:cNvSpPr/>
          <p:nvPr/>
        </p:nvSpPr>
        <p:spPr>
          <a:xfrm>
            <a:off x="8373240" y="241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44"/>
          <p:cNvSpPr/>
          <p:nvPr/>
        </p:nvSpPr>
        <p:spPr>
          <a:xfrm>
            <a:off x="4037040" y="2747880"/>
            <a:ext cx="3848040" cy="163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45"/>
          <p:cNvSpPr/>
          <p:nvPr/>
        </p:nvSpPr>
        <p:spPr>
          <a:xfrm>
            <a:off x="7606440" y="2723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46"/>
          <p:cNvSpPr/>
          <p:nvPr/>
        </p:nvSpPr>
        <p:spPr>
          <a:xfrm>
            <a:off x="2073240" y="2722320"/>
            <a:ext cx="179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oo busy/simply forg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47"/>
          <p:cNvSpPr/>
          <p:nvPr/>
        </p:nvSpPr>
        <p:spPr>
          <a:xfrm>
            <a:off x="4037040" y="2954160"/>
            <a:ext cx="3405240" cy="165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48"/>
          <p:cNvSpPr/>
          <p:nvPr/>
        </p:nvSpPr>
        <p:spPr>
          <a:xfrm>
            <a:off x="7165080" y="2930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49"/>
          <p:cNvSpPr/>
          <p:nvPr/>
        </p:nvSpPr>
        <p:spPr>
          <a:xfrm>
            <a:off x="2558160" y="2930040"/>
            <a:ext cx="1338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Away from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50"/>
          <p:cNvSpPr/>
          <p:nvPr/>
        </p:nvSpPr>
        <p:spPr>
          <a:xfrm>
            <a:off x="4037040" y="3162240"/>
            <a:ext cx="3330720" cy="163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51"/>
          <p:cNvSpPr/>
          <p:nvPr/>
        </p:nvSpPr>
        <p:spPr>
          <a:xfrm>
            <a:off x="7089120" y="3138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52"/>
          <p:cNvSpPr/>
          <p:nvPr/>
        </p:nvSpPr>
        <p:spPr>
          <a:xfrm>
            <a:off x="2072880" y="3136680"/>
            <a:ext cx="182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Change in daily rou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53"/>
          <p:cNvSpPr/>
          <p:nvPr/>
        </p:nvSpPr>
        <p:spPr>
          <a:xfrm>
            <a:off x="4037040" y="3370320"/>
            <a:ext cx="1995480" cy="16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4"/>
          <p:cNvSpPr/>
          <p:nvPr/>
        </p:nvSpPr>
        <p:spPr>
          <a:xfrm>
            <a:off x="5755320" y="3344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55"/>
          <p:cNvSpPr/>
          <p:nvPr/>
        </p:nvSpPr>
        <p:spPr>
          <a:xfrm>
            <a:off x="1609560" y="3344400"/>
            <a:ext cx="2291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elt depressed/overwhel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56"/>
          <p:cNvSpPr/>
          <p:nvPr/>
        </p:nvSpPr>
        <p:spPr>
          <a:xfrm>
            <a:off x="4037040" y="3578400"/>
            <a:ext cx="1477800" cy="16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57"/>
          <p:cNvSpPr/>
          <p:nvPr/>
        </p:nvSpPr>
        <p:spPr>
          <a:xfrm>
            <a:off x="5238000" y="3555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8"/>
          <p:cNvSpPr/>
          <p:nvPr/>
        </p:nvSpPr>
        <p:spPr>
          <a:xfrm>
            <a:off x="1076400" y="3555000"/>
            <a:ext cx="2829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ook drug holiday/medication br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59"/>
          <p:cNvSpPr/>
          <p:nvPr/>
        </p:nvSpPr>
        <p:spPr>
          <a:xfrm>
            <a:off x="4037040" y="3787920"/>
            <a:ext cx="1477800" cy="16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60"/>
          <p:cNvSpPr/>
          <p:nvPr/>
        </p:nvSpPr>
        <p:spPr>
          <a:xfrm>
            <a:off x="5238000" y="3762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61"/>
          <p:cNvSpPr/>
          <p:nvPr/>
        </p:nvSpPr>
        <p:spPr>
          <a:xfrm>
            <a:off x="2163240" y="3762000"/>
            <a:ext cx="173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Ran out of med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62"/>
          <p:cNvSpPr/>
          <p:nvPr/>
        </p:nvSpPr>
        <p:spPr>
          <a:xfrm>
            <a:off x="4037040" y="3992400"/>
            <a:ext cx="1401840" cy="162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63"/>
          <p:cNvSpPr/>
          <p:nvPr/>
        </p:nvSpPr>
        <p:spPr>
          <a:xfrm>
            <a:off x="5161680" y="3970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64"/>
          <p:cNvSpPr/>
          <p:nvPr/>
        </p:nvSpPr>
        <p:spPr>
          <a:xfrm>
            <a:off x="2747160" y="3968280"/>
            <a:ext cx="115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oo many p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65"/>
          <p:cNvSpPr/>
          <p:nvPr/>
        </p:nvSpPr>
        <p:spPr>
          <a:xfrm>
            <a:off x="4037040" y="4199040"/>
            <a:ext cx="1401840" cy="16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66"/>
          <p:cNvSpPr/>
          <p:nvPr/>
        </p:nvSpPr>
        <p:spPr>
          <a:xfrm>
            <a:off x="5161680" y="41763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67"/>
          <p:cNvSpPr/>
          <p:nvPr/>
        </p:nvSpPr>
        <p:spPr>
          <a:xfrm>
            <a:off x="1157760" y="4187520"/>
            <a:ext cx="274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ried about becoming “immun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68"/>
          <p:cNvSpPr/>
          <p:nvPr/>
        </p:nvSpPr>
        <p:spPr>
          <a:xfrm>
            <a:off x="4037040" y="4408560"/>
            <a:ext cx="1336680" cy="16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69"/>
          <p:cNvSpPr/>
          <p:nvPr/>
        </p:nvSpPr>
        <p:spPr>
          <a:xfrm>
            <a:off x="5095080" y="4383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70"/>
          <p:cNvSpPr/>
          <p:nvPr/>
        </p:nvSpPr>
        <p:spPr>
          <a:xfrm>
            <a:off x="2112480" y="4393800"/>
            <a:ext cx="178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elt drug was too tox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71"/>
          <p:cNvSpPr/>
          <p:nvPr/>
        </p:nvSpPr>
        <p:spPr>
          <a:xfrm>
            <a:off x="4037040" y="4616280"/>
            <a:ext cx="1260360" cy="16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72"/>
          <p:cNvSpPr/>
          <p:nvPr/>
        </p:nvSpPr>
        <p:spPr>
          <a:xfrm>
            <a:off x="5020560" y="45932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3"/>
          <p:cNvSpPr/>
          <p:nvPr/>
        </p:nvSpPr>
        <p:spPr>
          <a:xfrm>
            <a:off x="1350000" y="4601880"/>
            <a:ext cx="255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anted to avoid adverse eff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74"/>
          <p:cNvSpPr/>
          <p:nvPr/>
        </p:nvSpPr>
        <p:spPr>
          <a:xfrm>
            <a:off x="4037040" y="4824360"/>
            <a:ext cx="1260360" cy="162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75"/>
          <p:cNvSpPr/>
          <p:nvPr/>
        </p:nvSpPr>
        <p:spPr>
          <a:xfrm>
            <a:off x="5020560" y="4802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76"/>
          <p:cNvSpPr/>
          <p:nvPr/>
        </p:nvSpPr>
        <p:spPr>
          <a:xfrm>
            <a:off x="1637640" y="48081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d not want others to no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7"/>
          <p:cNvSpPr/>
          <p:nvPr/>
        </p:nvSpPr>
        <p:spPr>
          <a:xfrm>
            <a:off x="4037040" y="5030640"/>
            <a:ext cx="1187280" cy="163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78"/>
          <p:cNvSpPr/>
          <p:nvPr/>
        </p:nvSpPr>
        <p:spPr>
          <a:xfrm>
            <a:off x="4946040" y="50083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79"/>
          <p:cNvSpPr/>
          <p:nvPr/>
        </p:nvSpPr>
        <p:spPr>
          <a:xfrm>
            <a:off x="1865880" y="5014440"/>
            <a:ext cx="2035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Reminder of HIV inf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80"/>
          <p:cNvSpPr/>
          <p:nvPr/>
        </p:nvSpPr>
        <p:spPr>
          <a:xfrm>
            <a:off x="4037040" y="5238720"/>
            <a:ext cx="1035000" cy="163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81"/>
          <p:cNvSpPr/>
          <p:nvPr/>
        </p:nvSpPr>
        <p:spPr>
          <a:xfrm>
            <a:off x="4795200" y="5216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82"/>
          <p:cNvSpPr/>
          <p:nvPr/>
        </p:nvSpPr>
        <p:spPr>
          <a:xfrm>
            <a:off x="1283040" y="5222520"/>
            <a:ext cx="262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nfused about dosage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83"/>
          <p:cNvSpPr/>
          <p:nvPr/>
        </p:nvSpPr>
        <p:spPr>
          <a:xfrm>
            <a:off x="4037040" y="5445000"/>
            <a:ext cx="960480" cy="165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84"/>
          <p:cNvSpPr/>
          <p:nvPr/>
        </p:nvSpPr>
        <p:spPr>
          <a:xfrm>
            <a:off x="4718880" y="5422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85"/>
          <p:cNvSpPr/>
          <p:nvPr/>
        </p:nvSpPr>
        <p:spPr>
          <a:xfrm>
            <a:off x="1044360" y="5433480"/>
            <a:ext cx="286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d not think it was improving 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86"/>
          <p:cNvSpPr/>
          <p:nvPr/>
        </p:nvSpPr>
        <p:spPr>
          <a:xfrm>
            <a:off x="4037040" y="5653080"/>
            <a:ext cx="743040" cy="165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87"/>
          <p:cNvSpPr/>
          <p:nvPr/>
        </p:nvSpPr>
        <p:spPr>
          <a:xfrm>
            <a:off x="4502880" y="5629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88"/>
          <p:cNvSpPr/>
          <p:nvPr/>
        </p:nvSpPr>
        <p:spPr>
          <a:xfrm>
            <a:off x="2192760" y="5629680"/>
            <a:ext cx="1709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o make it last lo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89"/>
          <p:cNvSpPr/>
          <p:nvPr/>
        </p:nvSpPr>
        <p:spPr>
          <a:xfrm>
            <a:off x="4037040" y="5862600"/>
            <a:ext cx="668160" cy="16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90"/>
          <p:cNvSpPr/>
          <p:nvPr/>
        </p:nvSpPr>
        <p:spPr>
          <a:xfrm>
            <a:off x="4541400" y="5838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91"/>
          <p:cNvSpPr/>
          <p:nvPr/>
        </p:nvSpPr>
        <p:spPr>
          <a:xfrm>
            <a:off x="1272240" y="5837040"/>
            <a:ext cx="263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as told the medicine is no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92"/>
          <p:cNvSpPr/>
          <p:nvPr/>
        </p:nvSpPr>
        <p:spPr>
          <a:xfrm>
            <a:off x="4037040" y="2724120"/>
            <a:ext cx="1440" cy="3340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93"/>
          <p:cNvSpPr/>
          <p:nvPr/>
        </p:nvSpPr>
        <p:spPr>
          <a:xfrm>
            <a:off x="3224160" y="6386400"/>
            <a:ext cx="53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Gifford AL, et al. J Acquire Immune Defic Syndr. 2000;23:386-3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Incidence of ADI after starting HAART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26920" y="178272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AHOD patient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Incidence of ADI 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within 90 days after starting HAART was 6.3 %  ( 26.8 / 100 person-year )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90 days - 1 yr after starting HAART was 3.6 %  ( 4.2 /100 person-year )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935" name="Text Box 4"/>
          <p:cNvSpPr/>
          <p:nvPr/>
        </p:nvSpPr>
        <p:spPr>
          <a:xfrm>
            <a:off x="2556000" y="6384600"/>
            <a:ext cx="60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Zhou J. Int J STD AIDS. 2007 July 18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Viral Suppression Possible for Most Patients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901880"/>
            <a:ext cx="762012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~ 75% of treatment-naive patients can achieve effective, long-term viral suppression (by ITT analysis)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586800" indent="-2257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uppression dependent upon 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902880" indent="-180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rdia New"/>
              </a:rPr>
              <a:t>viral susceptibility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 to the drugs used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902880" indent="-180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rdia New"/>
              </a:rPr>
              <a:t>patient adherence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27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rdia New"/>
              </a:rPr>
              <a:t>By on-treatment analyses, over 90% of naive patients may achieve and maintain undetectable viral loads</a:t>
            </a:r>
            <a:endParaRPr b="0" lang="en-US" sz="3600" spc="-1" strike="noStrike">
              <a:solidFill>
                <a:srgbClr val="ffffff"/>
              </a:solidFill>
              <a:latin typeface="Cordia New"/>
            </a:endParaRPr>
          </a:p>
          <a:p>
            <a:pPr lvl="1" marL="586800" indent="-2257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urrent potent regimens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rdia New"/>
              </a:rPr>
              <a:t>extremely effective if patients reliably take their medications”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Adherence and Virologic response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graphicFrame>
        <p:nvGraphicFramePr>
          <p:cNvPr id="939" name=""/>
          <p:cNvGraphicFramePr/>
          <p:nvPr/>
        </p:nvGraphicFramePr>
        <p:xfrm>
          <a:off x="838080" y="1752480"/>
          <a:ext cx="7391520" cy="3962520"/>
        </p:xfrm>
        <a:graphic>
          <a:graphicData uri="http://schemas.openxmlformats.org/drawingml/2006/table">
            <a:tbl>
              <a:tblPr/>
              <a:tblGrid>
                <a:gridCol w="4165560"/>
                <a:gridCol w="3225960"/>
              </a:tblGrid>
              <a:tr h="67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% Adherence to HAAR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VL&lt; 500 cop/mL (%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&gt; 9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81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90-9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80-90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70-80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5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&lt; 70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ordia New"/>
                          <a:ea typeface="CordiaUPC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940" name="Text Box 26"/>
          <p:cNvSpPr/>
          <p:nvPr/>
        </p:nvSpPr>
        <p:spPr>
          <a:xfrm>
            <a:off x="5703480" y="6004080"/>
            <a:ext cx="33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Cordia New"/>
                <a:ea typeface="Cordia New"/>
              </a:rPr>
              <a:t>ICAAC,1998 Abstract I-1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Group 76"/>
          <p:cNvGrpSpPr/>
          <p:nvPr/>
        </p:nvGrpSpPr>
        <p:grpSpPr>
          <a:xfrm>
            <a:off x="685800" y="2054160"/>
            <a:ext cx="8008920" cy="3813840"/>
            <a:chOff x="685800" y="2054160"/>
            <a:chExt cx="8008920" cy="3813840"/>
          </a:xfrm>
        </p:grpSpPr>
        <p:sp>
          <p:nvSpPr>
            <p:cNvPr id="942" name="Rectangle 2"/>
            <p:cNvSpPr/>
            <p:nvPr/>
          </p:nvSpPr>
          <p:spPr>
            <a:xfrm>
              <a:off x="1945440" y="206208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3"/>
            <p:cNvSpPr/>
            <p:nvPr/>
          </p:nvSpPr>
          <p:spPr>
            <a:xfrm>
              <a:off x="1951200" y="2341800"/>
              <a:ext cx="54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NR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4"/>
            <p:cNvSpPr/>
            <p:nvPr/>
          </p:nvSpPr>
          <p:spPr>
            <a:xfrm>
              <a:off x="1726560" y="2116800"/>
              <a:ext cx="131760" cy="169920"/>
            </a:xfrm>
            <a:prstGeom prst="rect">
              <a:avLst/>
            </a:prstGeom>
            <a:solidFill>
              <a:srgbClr val="e1b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5"/>
            <p:cNvSpPr/>
            <p:nvPr/>
          </p:nvSpPr>
          <p:spPr>
            <a:xfrm>
              <a:off x="1726560" y="2409120"/>
              <a:ext cx="131760" cy="16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6"/>
            <p:cNvSpPr/>
            <p:nvPr/>
          </p:nvSpPr>
          <p:spPr>
            <a:xfrm>
              <a:off x="4187520" y="2430000"/>
              <a:ext cx="205200" cy="287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7"/>
            <p:cNvSpPr/>
            <p:nvPr/>
          </p:nvSpPr>
          <p:spPr>
            <a:xfrm>
              <a:off x="3972600" y="3195000"/>
              <a:ext cx="206640" cy="2106360"/>
            </a:xfrm>
            <a:prstGeom prst="rect">
              <a:avLst/>
            </a:prstGeom>
            <a:solidFill>
              <a:srgbClr val="e0b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8"/>
            <p:cNvSpPr/>
            <p:nvPr/>
          </p:nvSpPr>
          <p:spPr>
            <a:xfrm>
              <a:off x="3422160" y="3380040"/>
              <a:ext cx="204840" cy="191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9"/>
            <p:cNvSpPr/>
            <p:nvPr/>
          </p:nvSpPr>
          <p:spPr>
            <a:xfrm>
              <a:off x="3207240" y="3313080"/>
              <a:ext cx="204840" cy="1984320"/>
            </a:xfrm>
            <a:prstGeom prst="rect">
              <a:avLst/>
            </a:prstGeom>
            <a:solidFill>
              <a:srgbClr val="e0b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10"/>
            <p:cNvSpPr/>
            <p:nvPr/>
          </p:nvSpPr>
          <p:spPr>
            <a:xfrm>
              <a:off x="2603160" y="2976480"/>
              <a:ext cx="206640" cy="232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11"/>
            <p:cNvSpPr/>
            <p:nvPr/>
          </p:nvSpPr>
          <p:spPr>
            <a:xfrm>
              <a:off x="2389680" y="4326480"/>
              <a:ext cx="205200" cy="975240"/>
            </a:xfrm>
            <a:prstGeom prst="rect">
              <a:avLst/>
            </a:prstGeom>
            <a:solidFill>
              <a:srgbClr val="e0b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12"/>
            <p:cNvSpPr/>
            <p:nvPr/>
          </p:nvSpPr>
          <p:spPr>
            <a:xfrm>
              <a:off x="1651320" y="535824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-5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3"/>
            <p:cNvSpPr/>
            <p:nvPr/>
          </p:nvSpPr>
          <p:spPr>
            <a:xfrm>
              <a:off x="2368080" y="53582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4-7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4"/>
            <p:cNvSpPr/>
            <p:nvPr/>
          </p:nvSpPr>
          <p:spPr>
            <a:xfrm>
              <a:off x="3189240" y="53582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74-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15"/>
            <p:cNvSpPr/>
            <p:nvPr/>
          </p:nvSpPr>
          <p:spPr>
            <a:xfrm>
              <a:off x="3912480" y="5358240"/>
              <a:ext cx="55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94-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16"/>
            <p:cNvSpPr/>
            <p:nvPr/>
          </p:nvSpPr>
          <p:spPr>
            <a:xfrm>
              <a:off x="1830600" y="4322160"/>
              <a:ext cx="207000" cy="975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17"/>
            <p:cNvSpPr/>
            <p:nvPr/>
          </p:nvSpPr>
          <p:spPr>
            <a:xfrm>
              <a:off x="1623960" y="4881240"/>
              <a:ext cx="205200" cy="417960"/>
            </a:xfrm>
            <a:prstGeom prst="rect">
              <a:avLst/>
            </a:prstGeom>
            <a:solidFill>
              <a:srgbClr val="e0b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Line 18"/>
            <p:cNvSpPr/>
            <p:nvPr/>
          </p:nvSpPr>
          <p:spPr>
            <a:xfrm>
              <a:off x="1436400" y="2175480"/>
              <a:ext cx="0" cy="3123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19"/>
            <p:cNvSpPr/>
            <p:nvPr/>
          </p:nvSpPr>
          <p:spPr>
            <a:xfrm>
              <a:off x="1233000" y="5160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20"/>
            <p:cNvSpPr/>
            <p:nvPr/>
          </p:nvSpPr>
          <p:spPr>
            <a:xfrm>
              <a:off x="1134360" y="4559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21"/>
            <p:cNvSpPr/>
            <p:nvPr/>
          </p:nvSpPr>
          <p:spPr>
            <a:xfrm>
              <a:off x="1134360" y="3926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22"/>
            <p:cNvSpPr/>
            <p:nvPr/>
          </p:nvSpPr>
          <p:spPr>
            <a:xfrm>
              <a:off x="1134360" y="330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23"/>
            <p:cNvSpPr/>
            <p:nvPr/>
          </p:nvSpPr>
          <p:spPr>
            <a:xfrm>
              <a:off x="1134360" y="2684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24"/>
            <p:cNvSpPr/>
            <p:nvPr/>
          </p:nvSpPr>
          <p:spPr>
            <a:xfrm>
              <a:off x="1035000" y="2064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Text Box 25"/>
            <p:cNvSpPr/>
            <p:nvPr/>
          </p:nvSpPr>
          <p:spPr>
            <a:xfrm rot="16200000">
              <a:off x="-269640" y="3603240"/>
              <a:ext cx="221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L &lt; 400 copies/mL (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26"/>
            <p:cNvSpPr/>
            <p:nvPr/>
          </p:nvSpPr>
          <p:spPr>
            <a:xfrm>
              <a:off x="1881000" y="5654520"/>
              <a:ext cx="224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herence (Pill Count) (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27"/>
            <p:cNvSpPr/>
            <p:nvPr/>
          </p:nvSpPr>
          <p:spPr>
            <a:xfrm>
              <a:off x="8110080" y="2970000"/>
              <a:ext cx="201960" cy="2322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28"/>
            <p:cNvSpPr/>
            <p:nvPr/>
          </p:nvSpPr>
          <p:spPr>
            <a:xfrm>
              <a:off x="7899840" y="2738880"/>
              <a:ext cx="200520" cy="2552040"/>
            </a:xfrm>
            <a:prstGeom prst="rect">
              <a:avLst/>
            </a:prstGeom>
            <a:solidFill>
              <a:srgbClr val="e0b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29"/>
            <p:cNvSpPr/>
            <p:nvPr/>
          </p:nvSpPr>
          <p:spPr>
            <a:xfrm>
              <a:off x="7357680" y="2623680"/>
              <a:ext cx="200160" cy="266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30"/>
            <p:cNvSpPr/>
            <p:nvPr/>
          </p:nvSpPr>
          <p:spPr>
            <a:xfrm>
              <a:off x="7152120" y="3199320"/>
              <a:ext cx="200160" cy="2087280"/>
            </a:xfrm>
            <a:prstGeom prst="rect">
              <a:avLst/>
            </a:prstGeom>
            <a:solidFill>
              <a:srgbClr val="e0b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31"/>
            <p:cNvSpPr/>
            <p:nvPr/>
          </p:nvSpPr>
          <p:spPr>
            <a:xfrm>
              <a:off x="6570720" y="2203200"/>
              <a:ext cx="200160" cy="3089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32"/>
            <p:cNvSpPr/>
            <p:nvPr/>
          </p:nvSpPr>
          <p:spPr>
            <a:xfrm>
              <a:off x="6359040" y="4315320"/>
              <a:ext cx="201600" cy="975600"/>
            </a:xfrm>
            <a:prstGeom prst="rect">
              <a:avLst/>
            </a:prstGeom>
            <a:solidFill>
              <a:srgbClr val="e0b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33"/>
            <p:cNvSpPr/>
            <p:nvPr/>
          </p:nvSpPr>
          <p:spPr>
            <a:xfrm>
              <a:off x="5623920" y="535824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-5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34"/>
            <p:cNvSpPr/>
            <p:nvPr/>
          </p:nvSpPr>
          <p:spPr>
            <a:xfrm>
              <a:off x="6340680" y="53582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4-7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35"/>
            <p:cNvSpPr/>
            <p:nvPr/>
          </p:nvSpPr>
          <p:spPr>
            <a:xfrm>
              <a:off x="7135560" y="53582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74-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36"/>
            <p:cNvSpPr/>
            <p:nvPr/>
          </p:nvSpPr>
          <p:spPr>
            <a:xfrm>
              <a:off x="7833960" y="5358240"/>
              <a:ext cx="55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94-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37"/>
            <p:cNvSpPr/>
            <p:nvPr/>
          </p:nvSpPr>
          <p:spPr>
            <a:xfrm>
              <a:off x="5805000" y="3906000"/>
              <a:ext cx="200520" cy="1380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38"/>
            <p:cNvSpPr/>
            <p:nvPr/>
          </p:nvSpPr>
          <p:spPr>
            <a:xfrm>
              <a:off x="5598360" y="4603680"/>
              <a:ext cx="201960" cy="684720"/>
            </a:xfrm>
            <a:prstGeom prst="rect">
              <a:avLst/>
            </a:prstGeom>
            <a:solidFill>
              <a:srgbClr val="e0b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39"/>
            <p:cNvSpPr/>
            <p:nvPr/>
          </p:nvSpPr>
          <p:spPr>
            <a:xfrm>
              <a:off x="5425920" y="2165040"/>
              <a:ext cx="1440" cy="3123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Line 40"/>
            <p:cNvSpPr/>
            <p:nvPr/>
          </p:nvSpPr>
          <p:spPr>
            <a:xfrm flipV="1">
              <a:off x="5425920" y="5299200"/>
              <a:ext cx="1440" cy="84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Line 41"/>
            <p:cNvSpPr/>
            <p:nvPr/>
          </p:nvSpPr>
          <p:spPr>
            <a:xfrm flipV="1">
              <a:off x="6189840" y="5292720"/>
              <a:ext cx="1440" cy="9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Line 42"/>
            <p:cNvSpPr/>
            <p:nvPr/>
          </p:nvSpPr>
          <p:spPr>
            <a:xfrm flipV="1">
              <a:off x="6953400" y="5299200"/>
              <a:ext cx="0" cy="84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Line 43"/>
            <p:cNvSpPr/>
            <p:nvPr/>
          </p:nvSpPr>
          <p:spPr>
            <a:xfrm flipV="1">
              <a:off x="7717320" y="5282640"/>
              <a:ext cx="0" cy="100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Line 44"/>
            <p:cNvSpPr/>
            <p:nvPr/>
          </p:nvSpPr>
          <p:spPr>
            <a:xfrm flipV="1">
              <a:off x="8479800" y="5301360"/>
              <a:ext cx="1440" cy="81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45"/>
            <p:cNvSpPr/>
            <p:nvPr/>
          </p:nvSpPr>
          <p:spPr>
            <a:xfrm>
              <a:off x="5227200" y="513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46"/>
            <p:cNvSpPr/>
            <p:nvPr/>
          </p:nvSpPr>
          <p:spPr>
            <a:xfrm>
              <a:off x="5128560" y="4538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47"/>
            <p:cNvSpPr/>
            <p:nvPr/>
          </p:nvSpPr>
          <p:spPr>
            <a:xfrm>
              <a:off x="5128560" y="3916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Line 48"/>
            <p:cNvSpPr/>
            <p:nvPr/>
          </p:nvSpPr>
          <p:spPr>
            <a:xfrm>
              <a:off x="5357520" y="2182320"/>
              <a:ext cx="64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49"/>
            <p:cNvSpPr/>
            <p:nvPr/>
          </p:nvSpPr>
          <p:spPr>
            <a:xfrm>
              <a:off x="5128560" y="3296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50"/>
            <p:cNvSpPr/>
            <p:nvPr/>
          </p:nvSpPr>
          <p:spPr>
            <a:xfrm>
              <a:off x="5128560" y="2675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51"/>
            <p:cNvSpPr/>
            <p:nvPr/>
          </p:nvSpPr>
          <p:spPr>
            <a:xfrm>
              <a:off x="5029200" y="2054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52"/>
            <p:cNvSpPr/>
            <p:nvPr/>
          </p:nvSpPr>
          <p:spPr>
            <a:xfrm>
              <a:off x="5217840" y="5643720"/>
              <a:ext cx="347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herence (Electronic Measurement) (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53"/>
            <p:cNvSpPr/>
            <p:nvPr/>
          </p:nvSpPr>
          <p:spPr>
            <a:xfrm>
              <a:off x="5412600" y="5288760"/>
              <a:ext cx="3083400" cy="2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54"/>
            <p:cNvSpPr/>
            <p:nvPr/>
          </p:nvSpPr>
          <p:spPr>
            <a:xfrm>
              <a:off x="1422000" y="5299200"/>
              <a:ext cx="3151440" cy="2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58"/>
            <p:cNvSpPr/>
            <p:nvPr/>
          </p:nvSpPr>
          <p:spPr>
            <a:xfrm>
              <a:off x="5357520" y="2816640"/>
              <a:ext cx="64800" cy="2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Line 59"/>
            <p:cNvSpPr/>
            <p:nvPr/>
          </p:nvSpPr>
          <p:spPr>
            <a:xfrm>
              <a:off x="5357520" y="3439080"/>
              <a:ext cx="64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Line 60"/>
            <p:cNvSpPr/>
            <p:nvPr/>
          </p:nvSpPr>
          <p:spPr>
            <a:xfrm>
              <a:off x="5357520" y="4061160"/>
              <a:ext cx="64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61"/>
            <p:cNvSpPr/>
            <p:nvPr/>
          </p:nvSpPr>
          <p:spPr>
            <a:xfrm>
              <a:off x="5357520" y="4689720"/>
              <a:ext cx="64800" cy="2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62"/>
            <p:cNvSpPr/>
            <p:nvPr/>
          </p:nvSpPr>
          <p:spPr>
            <a:xfrm>
              <a:off x="5357520" y="5286960"/>
              <a:ext cx="64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63"/>
            <p:cNvSpPr/>
            <p:nvPr/>
          </p:nvSpPr>
          <p:spPr>
            <a:xfrm flipV="1">
              <a:off x="1434960" y="5311800"/>
              <a:ext cx="1440" cy="83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64"/>
            <p:cNvSpPr/>
            <p:nvPr/>
          </p:nvSpPr>
          <p:spPr>
            <a:xfrm>
              <a:off x="1363320" y="2194560"/>
              <a:ext cx="64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65"/>
            <p:cNvSpPr/>
            <p:nvPr/>
          </p:nvSpPr>
          <p:spPr>
            <a:xfrm>
              <a:off x="1363320" y="2829600"/>
              <a:ext cx="64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Line 66"/>
            <p:cNvSpPr/>
            <p:nvPr/>
          </p:nvSpPr>
          <p:spPr>
            <a:xfrm>
              <a:off x="1363320" y="3451680"/>
              <a:ext cx="64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Line 67"/>
            <p:cNvSpPr/>
            <p:nvPr/>
          </p:nvSpPr>
          <p:spPr>
            <a:xfrm>
              <a:off x="1363320" y="4073760"/>
              <a:ext cx="64800" cy="2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Line 68"/>
            <p:cNvSpPr/>
            <p:nvPr/>
          </p:nvSpPr>
          <p:spPr>
            <a:xfrm>
              <a:off x="1363320" y="4702320"/>
              <a:ext cx="64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Line 69"/>
            <p:cNvSpPr/>
            <p:nvPr/>
          </p:nvSpPr>
          <p:spPr>
            <a:xfrm>
              <a:off x="1363320" y="5299200"/>
              <a:ext cx="64800" cy="2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70"/>
            <p:cNvSpPr/>
            <p:nvPr/>
          </p:nvSpPr>
          <p:spPr>
            <a:xfrm flipV="1">
              <a:off x="2207160" y="5311800"/>
              <a:ext cx="1800" cy="83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71"/>
            <p:cNvSpPr/>
            <p:nvPr/>
          </p:nvSpPr>
          <p:spPr>
            <a:xfrm flipV="1">
              <a:off x="3006720" y="5311800"/>
              <a:ext cx="1800" cy="83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72"/>
            <p:cNvSpPr/>
            <p:nvPr/>
          </p:nvSpPr>
          <p:spPr>
            <a:xfrm flipV="1">
              <a:off x="3806640" y="5311800"/>
              <a:ext cx="1800" cy="83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73"/>
            <p:cNvSpPr/>
            <p:nvPr/>
          </p:nvSpPr>
          <p:spPr>
            <a:xfrm flipV="1">
              <a:off x="4557240" y="5311800"/>
              <a:ext cx="1800" cy="83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Response to suboptimal adherence</a:t>
            </a:r>
            <a:br>
              <a:rPr sz="2800"/>
            </a:b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NNRTIs vs Unboosted PIs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012" name="Text Box 81"/>
          <p:cNvSpPr/>
          <p:nvPr/>
        </p:nvSpPr>
        <p:spPr>
          <a:xfrm>
            <a:off x="282600" y="638640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ngsberg DR, et al. CROI 2005. Abstract 61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Text Box 2"/>
          <p:cNvSpPr/>
          <p:nvPr/>
        </p:nvSpPr>
        <p:spPr>
          <a:xfrm rot="16200000">
            <a:off x="-235080" y="2692440"/>
            <a:ext cx="26481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faff"/>
                </a:solidFill>
                <a:latin typeface="Cordia New"/>
                <a:ea typeface="Cordia New"/>
              </a:rPr>
              <a:t>Mean dose-taking adherence 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3"/>
          <p:cNvSpPr/>
          <p:nvPr/>
        </p:nvSpPr>
        <p:spPr>
          <a:xfrm>
            <a:off x="2179800" y="4641840"/>
            <a:ext cx="467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udies of electronic monitoring of adh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4"/>
          <p:cNvSpPr/>
          <p:nvPr/>
        </p:nvSpPr>
        <p:spPr>
          <a:xfrm>
            <a:off x="1500120" y="240192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5"/>
          <p:cNvSpPr/>
          <p:nvPr/>
        </p:nvSpPr>
        <p:spPr>
          <a:xfrm>
            <a:off x="1457280" y="4354560"/>
            <a:ext cx="42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6"/>
          <p:cNvSpPr/>
          <p:nvPr/>
        </p:nvSpPr>
        <p:spPr>
          <a:xfrm>
            <a:off x="1457280" y="3963960"/>
            <a:ext cx="42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7"/>
          <p:cNvSpPr/>
          <p:nvPr/>
        </p:nvSpPr>
        <p:spPr>
          <a:xfrm>
            <a:off x="1457280" y="3378240"/>
            <a:ext cx="42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8"/>
          <p:cNvSpPr/>
          <p:nvPr/>
        </p:nvSpPr>
        <p:spPr>
          <a:xfrm>
            <a:off x="1457280" y="2987640"/>
            <a:ext cx="42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9"/>
          <p:cNvSpPr/>
          <p:nvPr/>
        </p:nvSpPr>
        <p:spPr>
          <a:xfrm>
            <a:off x="1457280" y="2401920"/>
            <a:ext cx="42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10"/>
          <p:cNvSpPr/>
          <p:nvPr/>
        </p:nvSpPr>
        <p:spPr>
          <a:xfrm>
            <a:off x="1654200" y="2938320"/>
            <a:ext cx="385560" cy="1425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1"/>
          <p:cNvSpPr/>
          <p:nvPr/>
        </p:nvSpPr>
        <p:spPr>
          <a:xfrm flipV="1">
            <a:off x="1846440" y="2615760"/>
            <a:ext cx="1440" cy="322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2"/>
          <p:cNvSpPr/>
          <p:nvPr/>
        </p:nvSpPr>
        <p:spPr>
          <a:xfrm>
            <a:off x="1816200" y="2616120"/>
            <a:ext cx="619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13"/>
          <p:cNvSpPr/>
          <p:nvPr/>
        </p:nvSpPr>
        <p:spPr>
          <a:xfrm>
            <a:off x="1748520" y="2980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14"/>
          <p:cNvSpPr/>
          <p:nvPr/>
        </p:nvSpPr>
        <p:spPr>
          <a:xfrm>
            <a:off x="1293120" y="4254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15"/>
          <p:cNvSpPr/>
          <p:nvPr/>
        </p:nvSpPr>
        <p:spPr>
          <a:xfrm>
            <a:off x="1193040" y="3855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16"/>
          <p:cNvSpPr/>
          <p:nvPr/>
        </p:nvSpPr>
        <p:spPr>
          <a:xfrm>
            <a:off x="1193040" y="34714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17"/>
          <p:cNvSpPr/>
          <p:nvPr/>
        </p:nvSpPr>
        <p:spPr>
          <a:xfrm>
            <a:off x="1193040" y="2688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18"/>
          <p:cNvSpPr/>
          <p:nvPr/>
        </p:nvSpPr>
        <p:spPr>
          <a:xfrm>
            <a:off x="1094040" y="229824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19"/>
          <p:cNvSpPr/>
          <p:nvPr/>
        </p:nvSpPr>
        <p:spPr>
          <a:xfrm>
            <a:off x="1521000" y="4392720"/>
            <a:ext cx="59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ahoma"/>
                <a:ea typeface="Tahoma"/>
              </a:rPr>
              <a:t>Over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20"/>
          <p:cNvSpPr/>
          <p:nvPr/>
        </p:nvSpPr>
        <p:spPr>
          <a:xfrm>
            <a:off x="2236680" y="2813040"/>
            <a:ext cx="389160" cy="1541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21"/>
          <p:cNvSpPr/>
          <p:nvPr/>
        </p:nvSpPr>
        <p:spPr>
          <a:xfrm flipV="1">
            <a:off x="2430360" y="2536560"/>
            <a:ext cx="1800" cy="276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22"/>
          <p:cNvSpPr/>
          <p:nvPr/>
        </p:nvSpPr>
        <p:spPr>
          <a:xfrm>
            <a:off x="2400480" y="2536920"/>
            <a:ext cx="6156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23"/>
          <p:cNvSpPr/>
          <p:nvPr/>
        </p:nvSpPr>
        <p:spPr>
          <a:xfrm>
            <a:off x="2332800" y="2858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24"/>
          <p:cNvSpPr/>
          <p:nvPr/>
        </p:nvSpPr>
        <p:spPr>
          <a:xfrm>
            <a:off x="2290680" y="439272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ahoma"/>
                <a:ea typeface="Tahoma"/>
              </a:rPr>
              <a:t>Q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25"/>
          <p:cNvSpPr/>
          <p:nvPr/>
        </p:nvSpPr>
        <p:spPr>
          <a:xfrm>
            <a:off x="2822400" y="3006720"/>
            <a:ext cx="387360" cy="1347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26"/>
          <p:cNvSpPr/>
          <p:nvPr/>
        </p:nvSpPr>
        <p:spPr>
          <a:xfrm flipV="1">
            <a:off x="3016080" y="2714400"/>
            <a:ext cx="0" cy="291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27"/>
          <p:cNvSpPr/>
          <p:nvPr/>
        </p:nvSpPr>
        <p:spPr>
          <a:xfrm>
            <a:off x="2984400" y="2714760"/>
            <a:ext cx="637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28"/>
          <p:cNvSpPr/>
          <p:nvPr/>
        </p:nvSpPr>
        <p:spPr>
          <a:xfrm>
            <a:off x="2918520" y="30538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29"/>
          <p:cNvSpPr/>
          <p:nvPr/>
        </p:nvSpPr>
        <p:spPr>
          <a:xfrm>
            <a:off x="2872440" y="43927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ahoma"/>
                <a:ea typeface="Tahoma"/>
              </a:rPr>
              <a:t>B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30"/>
          <p:cNvSpPr/>
          <p:nvPr/>
        </p:nvSpPr>
        <p:spPr>
          <a:xfrm>
            <a:off x="3392640" y="3087720"/>
            <a:ext cx="392040" cy="12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31"/>
          <p:cNvSpPr/>
          <p:nvPr/>
        </p:nvSpPr>
        <p:spPr>
          <a:xfrm flipV="1">
            <a:off x="3587760" y="2774520"/>
            <a:ext cx="0" cy="312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32"/>
          <p:cNvSpPr/>
          <p:nvPr/>
        </p:nvSpPr>
        <p:spPr>
          <a:xfrm>
            <a:off x="3556080" y="2773440"/>
            <a:ext cx="6336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33"/>
          <p:cNvSpPr/>
          <p:nvPr/>
        </p:nvSpPr>
        <p:spPr>
          <a:xfrm>
            <a:off x="3488400" y="3133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34"/>
          <p:cNvSpPr/>
          <p:nvPr/>
        </p:nvSpPr>
        <p:spPr>
          <a:xfrm>
            <a:off x="3452760" y="4392720"/>
            <a:ext cx="29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ahoma"/>
                <a:ea typeface="Tahoma"/>
              </a:rPr>
              <a:t>T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35"/>
          <p:cNvSpPr/>
          <p:nvPr/>
        </p:nvSpPr>
        <p:spPr>
          <a:xfrm>
            <a:off x="3968640" y="3357720"/>
            <a:ext cx="385920" cy="99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36"/>
          <p:cNvSpPr/>
          <p:nvPr/>
        </p:nvSpPr>
        <p:spPr>
          <a:xfrm flipV="1">
            <a:off x="4162320" y="2970360"/>
            <a:ext cx="0" cy="387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37"/>
          <p:cNvSpPr/>
          <p:nvPr/>
        </p:nvSpPr>
        <p:spPr>
          <a:xfrm>
            <a:off x="4129200" y="2970360"/>
            <a:ext cx="648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38"/>
          <p:cNvSpPr/>
          <p:nvPr/>
        </p:nvSpPr>
        <p:spPr>
          <a:xfrm>
            <a:off x="4061520" y="3405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39"/>
          <p:cNvSpPr/>
          <p:nvPr/>
        </p:nvSpPr>
        <p:spPr>
          <a:xfrm>
            <a:off x="4006440" y="439272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ahoma"/>
                <a:ea typeface="Tahoma"/>
              </a:rPr>
              <a:t>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40"/>
          <p:cNvSpPr/>
          <p:nvPr/>
        </p:nvSpPr>
        <p:spPr>
          <a:xfrm>
            <a:off x="4809960" y="3205080"/>
            <a:ext cx="366840" cy="1149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41"/>
          <p:cNvSpPr/>
          <p:nvPr/>
        </p:nvSpPr>
        <p:spPr>
          <a:xfrm>
            <a:off x="4893480" y="3258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42"/>
          <p:cNvSpPr/>
          <p:nvPr/>
        </p:nvSpPr>
        <p:spPr>
          <a:xfrm>
            <a:off x="4708800" y="4392720"/>
            <a:ext cx="59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ahoma"/>
                <a:ea typeface="Tahoma"/>
              </a:rPr>
              <a:t>Over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43"/>
          <p:cNvSpPr/>
          <p:nvPr/>
        </p:nvSpPr>
        <p:spPr>
          <a:xfrm>
            <a:off x="5384880" y="2882880"/>
            <a:ext cx="368280" cy="1471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44"/>
          <p:cNvSpPr/>
          <p:nvPr/>
        </p:nvSpPr>
        <p:spPr>
          <a:xfrm>
            <a:off x="5471280" y="2928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45"/>
          <p:cNvSpPr/>
          <p:nvPr/>
        </p:nvSpPr>
        <p:spPr>
          <a:xfrm>
            <a:off x="5432040" y="439272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ahoma"/>
                <a:ea typeface="Tahoma"/>
              </a:rPr>
              <a:t>Q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46"/>
          <p:cNvSpPr/>
          <p:nvPr/>
        </p:nvSpPr>
        <p:spPr>
          <a:xfrm>
            <a:off x="5950080" y="3205080"/>
            <a:ext cx="366480" cy="114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47"/>
          <p:cNvSpPr/>
          <p:nvPr/>
        </p:nvSpPr>
        <p:spPr>
          <a:xfrm>
            <a:off x="6035040" y="3246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48"/>
          <p:cNvSpPr/>
          <p:nvPr/>
        </p:nvSpPr>
        <p:spPr>
          <a:xfrm>
            <a:off x="5995080" y="43927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ahoma"/>
                <a:ea typeface="Tahoma"/>
              </a:rPr>
              <a:t>B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49"/>
          <p:cNvSpPr/>
          <p:nvPr/>
        </p:nvSpPr>
        <p:spPr>
          <a:xfrm>
            <a:off x="6512040" y="3440160"/>
            <a:ext cx="371520" cy="91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50"/>
          <p:cNvSpPr/>
          <p:nvPr/>
        </p:nvSpPr>
        <p:spPr>
          <a:xfrm>
            <a:off x="6598440" y="3482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51"/>
          <p:cNvSpPr/>
          <p:nvPr/>
        </p:nvSpPr>
        <p:spPr>
          <a:xfrm>
            <a:off x="6566040" y="4392720"/>
            <a:ext cx="29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ahoma"/>
                <a:ea typeface="Tahoma"/>
              </a:rPr>
              <a:t>T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52"/>
          <p:cNvSpPr/>
          <p:nvPr/>
        </p:nvSpPr>
        <p:spPr>
          <a:xfrm>
            <a:off x="7078680" y="3560760"/>
            <a:ext cx="366840" cy="79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53"/>
          <p:cNvSpPr/>
          <p:nvPr/>
        </p:nvSpPr>
        <p:spPr>
          <a:xfrm>
            <a:off x="7165080" y="356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54"/>
          <p:cNvSpPr/>
          <p:nvPr/>
        </p:nvSpPr>
        <p:spPr>
          <a:xfrm>
            <a:off x="7143480" y="439272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ahoma"/>
                <a:ea typeface="Tahoma"/>
              </a:rPr>
              <a:t>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55"/>
          <p:cNvSpPr/>
          <p:nvPr/>
        </p:nvSpPr>
        <p:spPr>
          <a:xfrm>
            <a:off x="4361040" y="1599840"/>
            <a:ext cx="36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se-timing adherence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56"/>
          <p:cNvSpPr/>
          <p:nvPr/>
        </p:nvSpPr>
        <p:spPr>
          <a:xfrm>
            <a:off x="1392120" y="1599840"/>
            <a:ext cx="32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se-taking adherence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57"/>
          <p:cNvSpPr/>
          <p:nvPr/>
        </p:nvSpPr>
        <p:spPr>
          <a:xfrm flipV="1">
            <a:off x="1500120" y="4346640"/>
            <a:ext cx="6197760" cy="7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58"/>
          <p:cNvSpPr/>
          <p:nvPr/>
        </p:nvSpPr>
        <p:spPr>
          <a:xfrm>
            <a:off x="1457280" y="2597040"/>
            <a:ext cx="42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59"/>
          <p:cNvSpPr/>
          <p:nvPr/>
        </p:nvSpPr>
        <p:spPr>
          <a:xfrm>
            <a:off x="1457280" y="2790720"/>
            <a:ext cx="42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60"/>
          <p:cNvSpPr/>
          <p:nvPr/>
        </p:nvSpPr>
        <p:spPr>
          <a:xfrm>
            <a:off x="1457280" y="3181320"/>
            <a:ext cx="42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61"/>
          <p:cNvSpPr/>
          <p:nvPr/>
        </p:nvSpPr>
        <p:spPr>
          <a:xfrm>
            <a:off x="1457280" y="3573360"/>
            <a:ext cx="42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62"/>
          <p:cNvSpPr/>
          <p:nvPr/>
        </p:nvSpPr>
        <p:spPr>
          <a:xfrm>
            <a:off x="1457280" y="3767040"/>
            <a:ext cx="42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63"/>
          <p:cNvSpPr/>
          <p:nvPr/>
        </p:nvSpPr>
        <p:spPr>
          <a:xfrm>
            <a:off x="1457280" y="4159080"/>
            <a:ext cx="42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64"/>
          <p:cNvSpPr/>
          <p:nvPr/>
        </p:nvSpPr>
        <p:spPr>
          <a:xfrm>
            <a:off x="1193040" y="3074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65"/>
          <p:cNvSpPr/>
          <p:nvPr/>
        </p:nvSpPr>
        <p:spPr>
          <a:xfrm flipV="1">
            <a:off x="4576680" y="2403360"/>
            <a:ext cx="0" cy="195264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66"/>
          <p:cNvSpPr/>
          <p:nvPr/>
        </p:nvSpPr>
        <p:spPr>
          <a:xfrm flipV="1">
            <a:off x="2427120" y="2389320"/>
            <a:ext cx="0" cy="87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67"/>
          <p:cNvSpPr/>
          <p:nvPr/>
        </p:nvSpPr>
        <p:spPr>
          <a:xfrm>
            <a:off x="2427120" y="2389320"/>
            <a:ext cx="117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68"/>
          <p:cNvSpPr/>
          <p:nvPr/>
        </p:nvSpPr>
        <p:spPr>
          <a:xfrm>
            <a:off x="3592440" y="2389320"/>
            <a:ext cx="0" cy="98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69"/>
          <p:cNvSpPr/>
          <p:nvPr/>
        </p:nvSpPr>
        <p:spPr>
          <a:xfrm>
            <a:off x="2428920" y="2160720"/>
            <a:ext cx="1706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70"/>
          <p:cNvSpPr/>
          <p:nvPr/>
        </p:nvSpPr>
        <p:spPr>
          <a:xfrm flipV="1">
            <a:off x="3008160" y="2575080"/>
            <a:ext cx="0" cy="85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71"/>
          <p:cNvSpPr/>
          <p:nvPr/>
        </p:nvSpPr>
        <p:spPr>
          <a:xfrm>
            <a:off x="3008160" y="2575080"/>
            <a:ext cx="1165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72"/>
          <p:cNvSpPr/>
          <p:nvPr/>
        </p:nvSpPr>
        <p:spPr>
          <a:xfrm>
            <a:off x="2689200" y="217008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 .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73"/>
          <p:cNvSpPr/>
          <p:nvPr/>
        </p:nvSpPr>
        <p:spPr>
          <a:xfrm>
            <a:off x="2935440" y="192240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lt; .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74"/>
          <p:cNvSpPr/>
          <p:nvPr/>
        </p:nvSpPr>
        <p:spPr>
          <a:xfrm>
            <a:off x="3544920" y="234648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 .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/>
          </p:nvPr>
        </p:nvSpPr>
        <p:spPr>
          <a:xfrm>
            <a:off x="1142640" y="5003280"/>
            <a:ext cx="727092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b5b"/>
                </a:solidFill>
                <a:latin typeface="Cordia New"/>
              </a:rPr>
              <a:t>Dose-taking adherence:</a:t>
            </a:r>
            <a:r>
              <a:rPr b="0" lang="en-US" sz="2000" spc="-1" strike="noStrike">
                <a:solidFill>
                  <a:srgbClr val="fffb5b"/>
                </a:solidFill>
                <a:latin typeface="Cordia New"/>
              </a:rPr>
              <a:t> appropriate number of doses taken during the day (optimal adherence variously defined as 70%, 80%, 90%)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b5b"/>
                </a:solidFill>
                <a:latin typeface="Cordia New"/>
              </a:rPr>
              <a:t>Dose-timing adherence</a:t>
            </a:r>
            <a:r>
              <a:rPr b="0" lang="en-US" sz="2000" spc="-1" strike="noStrike">
                <a:solidFill>
                  <a:srgbClr val="fffb5b"/>
                </a:solidFill>
                <a:latin typeface="Cordia New"/>
              </a:rPr>
              <a:t>: doses taken at appropriate time intervals, within 25% of the dosing interval (e.g. BID should be taken 12 </a:t>
            </a:r>
            <a:r>
              <a:rPr b="0" lang="en-US" sz="2000" spc="-1" strike="noStrike">
                <a:solidFill>
                  <a:srgbClr val="fffb5b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fb5b"/>
                </a:solidFill>
                <a:latin typeface="Cordia New"/>
              </a:rPr>
              <a:t> 3 hours apart)</a:t>
            </a:r>
            <a:endParaRPr b="0" lang="en-US" sz="20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087" name="Line 76"/>
          <p:cNvSpPr/>
          <p:nvPr/>
        </p:nvSpPr>
        <p:spPr>
          <a:xfrm flipV="1">
            <a:off x="2427120" y="2157480"/>
            <a:ext cx="0" cy="92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77"/>
          <p:cNvSpPr/>
          <p:nvPr/>
        </p:nvSpPr>
        <p:spPr>
          <a:xfrm flipV="1">
            <a:off x="4125960" y="2157480"/>
            <a:ext cx="0" cy="92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78"/>
          <p:cNvSpPr/>
          <p:nvPr/>
        </p:nvSpPr>
        <p:spPr>
          <a:xfrm flipV="1">
            <a:off x="4167360" y="2577960"/>
            <a:ext cx="0" cy="92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79"/>
          <p:cNvSpPr/>
          <p:nvPr/>
        </p:nvSpPr>
        <p:spPr>
          <a:xfrm>
            <a:off x="2309760" y="6247800"/>
            <a:ext cx="607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Cordia New"/>
                <a:ea typeface="Cordia New"/>
              </a:rPr>
              <a:t>Claxton et al</a:t>
            </a:r>
            <a:r>
              <a:rPr b="0" i="1" lang="en-US" sz="2000" spc="-1" strike="noStrike">
                <a:solidFill>
                  <a:srgbClr val="b2b2b2"/>
                </a:solidFill>
                <a:latin typeface="Cordia New"/>
                <a:ea typeface="Cordia New"/>
              </a:rPr>
              <a:t>., Clin Ther</a:t>
            </a:r>
            <a:r>
              <a:rPr b="0" lang="en-US" sz="2000" spc="-1" strike="noStrike">
                <a:solidFill>
                  <a:srgbClr val="b2b2b2"/>
                </a:solidFill>
                <a:latin typeface="Cordia New"/>
                <a:ea typeface="Cordia New"/>
              </a:rPr>
              <a:t> .2001;23:1296–131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1fd45"/>
                </a:solidFill>
                <a:latin typeface="Eras Medium ITC"/>
              </a:rPr>
              <a:t>Adherence and the Number of Doses Per Day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2"/>
          <p:cNvGrpSpPr/>
          <p:nvPr/>
        </p:nvGrpSpPr>
        <p:grpSpPr>
          <a:xfrm>
            <a:off x="210960" y="2565000"/>
            <a:ext cx="9472320" cy="3929760"/>
            <a:chOff x="210960" y="2565000"/>
            <a:chExt cx="9472320" cy="3929760"/>
          </a:xfrm>
        </p:grpSpPr>
        <p:sp>
          <p:nvSpPr>
            <p:cNvPr id="1093" name="Text Box 3"/>
            <p:cNvSpPr/>
            <p:nvPr/>
          </p:nvSpPr>
          <p:spPr>
            <a:xfrm>
              <a:off x="3874320" y="6095880"/>
              <a:ext cx="580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Cordia New"/>
                  <a:ea typeface="Cordia New"/>
                </a:rPr>
                <a:t>Moyle G. </a:t>
              </a:r>
              <a:r>
                <a:rPr b="0" i="1" lang="en-US" sz="2000" spc="-1" strike="noStrike">
                  <a:solidFill>
                    <a:srgbClr val="b2b2b2"/>
                  </a:solidFill>
                  <a:latin typeface="Cordia New"/>
                  <a:ea typeface="Cordia New"/>
                </a:rPr>
                <a:t>Int J STD AIDS</a:t>
              </a:r>
              <a:r>
                <a:rPr b="0" lang="en-US" sz="2000" spc="-1" strike="noStrike">
                  <a:solidFill>
                    <a:srgbClr val="b2b2b2"/>
                  </a:solidFill>
                  <a:latin typeface="Cordia New"/>
                  <a:ea typeface="Cordia New"/>
                </a:rPr>
                <a:t>. 2003;14(Suppl 1):34-36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4"/>
            <p:cNvSpPr/>
            <p:nvPr/>
          </p:nvSpPr>
          <p:spPr>
            <a:xfrm>
              <a:off x="2037600" y="256500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b5b"/>
                  </a:solidFill>
                  <a:latin typeface="Arial"/>
                </a:rPr>
                <a:t>All at o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5"/>
            <p:cNvSpPr/>
            <p:nvPr/>
          </p:nvSpPr>
          <p:spPr>
            <a:xfrm>
              <a:off x="1832040" y="2673360"/>
              <a:ext cx="162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6"/>
            <p:cNvSpPr/>
            <p:nvPr/>
          </p:nvSpPr>
          <p:spPr>
            <a:xfrm>
              <a:off x="2049480" y="2827080"/>
              <a:ext cx="307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b5b"/>
                  </a:solidFill>
                  <a:latin typeface="Arial"/>
                </a:rPr>
                <a:t>Divided and taken twice-a-d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7"/>
            <p:cNvSpPr/>
            <p:nvPr/>
          </p:nvSpPr>
          <p:spPr>
            <a:xfrm>
              <a:off x="1833480" y="2921040"/>
              <a:ext cx="162000" cy="146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8"/>
            <p:cNvSpPr/>
            <p:nvPr/>
          </p:nvSpPr>
          <p:spPr>
            <a:xfrm rot="16200000">
              <a:off x="-541800" y="3637440"/>
              <a:ext cx="2617920" cy="11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b5b"/>
                  </a:solidFill>
                  <a:latin typeface="Cordia New"/>
                  <a:ea typeface="Cordia New"/>
                </a:rPr>
                <a:t>Patients preferring schedule (%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Text Box 9"/>
            <p:cNvSpPr/>
            <p:nvPr/>
          </p:nvSpPr>
          <p:spPr>
            <a:xfrm>
              <a:off x="1739880" y="5539320"/>
              <a:ext cx="111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&gt; 8 p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10"/>
            <p:cNvSpPr/>
            <p:nvPr/>
          </p:nvSpPr>
          <p:spPr>
            <a:xfrm>
              <a:off x="3167640" y="553644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8 p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Text Box 11"/>
            <p:cNvSpPr/>
            <p:nvPr/>
          </p:nvSpPr>
          <p:spPr>
            <a:xfrm>
              <a:off x="4431600" y="554580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6 p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Text Box 12"/>
            <p:cNvSpPr/>
            <p:nvPr/>
          </p:nvSpPr>
          <p:spPr>
            <a:xfrm>
              <a:off x="5720400" y="554904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4 p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Text Box 13"/>
            <p:cNvSpPr/>
            <p:nvPr/>
          </p:nvSpPr>
          <p:spPr>
            <a:xfrm>
              <a:off x="6999840" y="5526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3 p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Text Box 14"/>
            <p:cNvSpPr/>
            <p:nvPr/>
          </p:nvSpPr>
          <p:spPr>
            <a:xfrm>
              <a:off x="1515960" y="4357800"/>
              <a:ext cx="12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Text Box 15"/>
            <p:cNvSpPr/>
            <p:nvPr/>
          </p:nvSpPr>
          <p:spPr>
            <a:xfrm>
              <a:off x="1467000" y="3265560"/>
              <a:ext cx="20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 Box 16"/>
            <p:cNvSpPr/>
            <p:nvPr/>
          </p:nvSpPr>
          <p:spPr>
            <a:xfrm>
              <a:off x="2529000" y="4176360"/>
              <a:ext cx="17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Text Box 17"/>
            <p:cNvSpPr/>
            <p:nvPr/>
          </p:nvSpPr>
          <p:spPr>
            <a:xfrm>
              <a:off x="3100320" y="3481920"/>
              <a:ext cx="13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18"/>
            <p:cNvSpPr/>
            <p:nvPr/>
          </p:nvSpPr>
          <p:spPr>
            <a:xfrm>
              <a:off x="4019400" y="3570840"/>
              <a:ext cx="13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19"/>
            <p:cNvSpPr/>
            <p:nvPr/>
          </p:nvSpPr>
          <p:spPr>
            <a:xfrm>
              <a:off x="4527720" y="4078080"/>
              <a:ext cx="109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Text Box 20"/>
            <p:cNvSpPr/>
            <p:nvPr/>
          </p:nvSpPr>
          <p:spPr>
            <a:xfrm>
              <a:off x="5191200" y="2861280"/>
              <a:ext cx="159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Text Box 21"/>
            <p:cNvSpPr/>
            <p:nvPr/>
          </p:nvSpPr>
          <p:spPr>
            <a:xfrm>
              <a:off x="6113520" y="4788720"/>
              <a:ext cx="12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Text Box 22"/>
            <p:cNvSpPr/>
            <p:nvPr/>
          </p:nvSpPr>
          <p:spPr>
            <a:xfrm>
              <a:off x="6837480" y="261540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 Box 23"/>
            <p:cNvSpPr/>
            <p:nvPr/>
          </p:nvSpPr>
          <p:spPr>
            <a:xfrm>
              <a:off x="7470720" y="5031360"/>
              <a:ext cx="7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24"/>
            <p:cNvSpPr/>
            <p:nvPr/>
          </p:nvSpPr>
          <p:spPr>
            <a:xfrm>
              <a:off x="1663560" y="2746440"/>
              <a:ext cx="642960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25"/>
            <p:cNvSpPr/>
            <p:nvPr/>
          </p:nvSpPr>
          <p:spPr>
            <a:xfrm>
              <a:off x="1938240" y="4702320"/>
              <a:ext cx="374760" cy="874440"/>
            </a:xfrm>
            <a:prstGeom prst="rect">
              <a:avLst/>
            </a:prstGeom>
            <a:solidFill>
              <a:srgbClr val="bbe0e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26"/>
            <p:cNvSpPr/>
            <p:nvPr/>
          </p:nvSpPr>
          <p:spPr>
            <a:xfrm>
              <a:off x="3228840" y="4502160"/>
              <a:ext cx="365400" cy="1074600"/>
            </a:xfrm>
            <a:prstGeom prst="rect">
              <a:avLst/>
            </a:prstGeom>
            <a:solidFill>
              <a:srgbClr val="bbe0e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27"/>
            <p:cNvSpPr/>
            <p:nvPr/>
          </p:nvSpPr>
          <p:spPr>
            <a:xfrm>
              <a:off x="4508640" y="3909960"/>
              <a:ext cx="374400" cy="1666800"/>
            </a:xfrm>
            <a:prstGeom prst="rect">
              <a:avLst/>
            </a:prstGeom>
            <a:solidFill>
              <a:srgbClr val="bbe0e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28"/>
            <p:cNvSpPr/>
            <p:nvPr/>
          </p:nvSpPr>
          <p:spPr>
            <a:xfrm>
              <a:off x="5799240" y="3195720"/>
              <a:ext cx="363600" cy="2381040"/>
            </a:xfrm>
            <a:prstGeom prst="rect">
              <a:avLst/>
            </a:prstGeom>
            <a:solidFill>
              <a:srgbClr val="bbe0e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29"/>
            <p:cNvSpPr/>
            <p:nvPr/>
          </p:nvSpPr>
          <p:spPr>
            <a:xfrm>
              <a:off x="7080120" y="2946240"/>
              <a:ext cx="373320" cy="2630520"/>
            </a:xfrm>
            <a:prstGeom prst="rect">
              <a:avLst/>
            </a:prstGeom>
            <a:solidFill>
              <a:srgbClr val="bbe0e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30"/>
            <p:cNvSpPr/>
            <p:nvPr/>
          </p:nvSpPr>
          <p:spPr>
            <a:xfrm>
              <a:off x="2313000" y="3621240"/>
              <a:ext cx="363600" cy="1955520"/>
            </a:xfrm>
            <a:prstGeom prst="rect">
              <a:avLst/>
            </a:prstGeom>
            <a:solidFill>
              <a:srgbClr val="ffcc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31"/>
            <p:cNvSpPr/>
            <p:nvPr/>
          </p:nvSpPr>
          <p:spPr>
            <a:xfrm>
              <a:off x="3594240" y="3821040"/>
              <a:ext cx="363240" cy="1755720"/>
            </a:xfrm>
            <a:prstGeom prst="rect">
              <a:avLst/>
            </a:prstGeom>
            <a:solidFill>
              <a:srgbClr val="ffcc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32"/>
            <p:cNvSpPr/>
            <p:nvPr/>
          </p:nvSpPr>
          <p:spPr>
            <a:xfrm>
              <a:off x="4883040" y="4413240"/>
              <a:ext cx="365400" cy="1163520"/>
            </a:xfrm>
            <a:prstGeom prst="rect">
              <a:avLst/>
            </a:prstGeom>
            <a:solidFill>
              <a:srgbClr val="ffcc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33"/>
            <p:cNvSpPr/>
            <p:nvPr/>
          </p:nvSpPr>
          <p:spPr>
            <a:xfrm>
              <a:off x="6162840" y="5126040"/>
              <a:ext cx="365040" cy="450720"/>
            </a:xfrm>
            <a:prstGeom prst="rect">
              <a:avLst/>
            </a:prstGeom>
            <a:solidFill>
              <a:srgbClr val="ffcc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34"/>
            <p:cNvSpPr/>
            <p:nvPr/>
          </p:nvSpPr>
          <p:spPr>
            <a:xfrm>
              <a:off x="7453440" y="5375160"/>
              <a:ext cx="365040" cy="201600"/>
            </a:xfrm>
            <a:prstGeom prst="rect">
              <a:avLst/>
            </a:prstGeom>
            <a:solidFill>
              <a:srgbClr val="ffcc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35"/>
            <p:cNvSpPr/>
            <p:nvPr/>
          </p:nvSpPr>
          <p:spPr>
            <a:xfrm>
              <a:off x="1663560" y="2746440"/>
              <a:ext cx="1800" cy="2830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36"/>
            <p:cNvSpPr/>
            <p:nvPr/>
          </p:nvSpPr>
          <p:spPr>
            <a:xfrm>
              <a:off x="1592280" y="5576760"/>
              <a:ext cx="71280" cy="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37"/>
            <p:cNvSpPr/>
            <p:nvPr/>
          </p:nvSpPr>
          <p:spPr>
            <a:xfrm>
              <a:off x="1592280" y="5295960"/>
              <a:ext cx="71280" cy="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Line 38"/>
            <p:cNvSpPr/>
            <p:nvPr/>
          </p:nvSpPr>
          <p:spPr>
            <a:xfrm>
              <a:off x="1592280" y="5006880"/>
              <a:ext cx="71280" cy="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Line 39"/>
            <p:cNvSpPr/>
            <p:nvPr/>
          </p:nvSpPr>
          <p:spPr>
            <a:xfrm>
              <a:off x="1592280" y="4726080"/>
              <a:ext cx="71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40"/>
            <p:cNvSpPr/>
            <p:nvPr/>
          </p:nvSpPr>
          <p:spPr>
            <a:xfrm>
              <a:off x="1592280" y="4444920"/>
              <a:ext cx="7128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41"/>
            <p:cNvSpPr/>
            <p:nvPr/>
          </p:nvSpPr>
          <p:spPr>
            <a:xfrm>
              <a:off x="1592280" y="4156200"/>
              <a:ext cx="71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42"/>
            <p:cNvSpPr/>
            <p:nvPr/>
          </p:nvSpPr>
          <p:spPr>
            <a:xfrm>
              <a:off x="1592280" y="3878280"/>
              <a:ext cx="71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Line 43"/>
            <p:cNvSpPr/>
            <p:nvPr/>
          </p:nvSpPr>
          <p:spPr>
            <a:xfrm>
              <a:off x="1592280" y="3597120"/>
              <a:ext cx="7128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44"/>
            <p:cNvSpPr/>
            <p:nvPr/>
          </p:nvSpPr>
          <p:spPr>
            <a:xfrm>
              <a:off x="1592280" y="3316320"/>
              <a:ext cx="71280" cy="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45"/>
            <p:cNvSpPr/>
            <p:nvPr/>
          </p:nvSpPr>
          <p:spPr>
            <a:xfrm>
              <a:off x="1590840" y="3025800"/>
              <a:ext cx="727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46"/>
            <p:cNvSpPr/>
            <p:nvPr/>
          </p:nvSpPr>
          <p:spPr>
            <a:xfrm>
              <a:off x="1592280" y="2746440"/>
              <a:ext cx="71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47"/>
            <p:cNvSpPr/>
            <p:nvPr/>
          </p:nvSpPr>
          <p:spPr>
            <a:xfrm>
              <a:off x="1663560" y="5576760"/>
              <a:ext cx="6429600" cy="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Rectangle 48"/>
            <p:cNvSpPr/>
            <p:nvPr/>
          </p:nvSpPr>
          <p:spPr>
            <a:xfrm>
              <a:off x="1407960" y="5462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Rectangle 49"/>
            <p:cNvSpPr/>
            <p:nvPr/>
          </p:nvSpPr>
          <p:spPr>
            <a:xfrm>
              <a:off x="1292400" y="51814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Rectangle 50"/>
            <p:cNvSpPr/>
            <p:nvPr/>
          </p:nvSpPr>
          <p:spPr>
            <a:xfrm>
              <a:off x="1292400" y="4892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Rectangle 51"/>
            <p:cNvSpPr/>
            <p:nvPr/>
          </p:nvSpPr>
          <p:spPr>
            <a:xfrm>
              <a:off x="1292400" y="461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Rectangle 52"/>
            <p:cNvSpPr/>
            <p:nvPr/>
          </p:nvSpPr>
          <p:spPr>
            <a:xfrm>
              <a:off x="1292400" y="43354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53"/>
            <p:cNvSpPr/>
            <p:nvPr/>
          </p:nvSpPr>
          <p:spPr>
            <a:xfrm>
              <a:off x="1292400" y="4044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54"/>
            <p:cNvSpPr/>
            <p:nvPr/>
          </p:nvSpPr>
          <p:spPr>
            <a:xfrm>
              <a:off x="1292400" y="3765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55"/>
            <p:cNvSpPr/>
            <p:nvPr/>
          </p:nvSpPr>
          <p:spPr>
            <a:xfrm>
              <a:off x="1292400" y="3483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Rectangle 56"/>
            <p:cNvSpPr/>
            <p:nvPr/>
          </p:nvSpPr>
          <p:spPr>
            <a:xfrm>
              <a:off x="1292400" y="3201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57"/>
            <p:cNvSpPr/>
            <p:nvPr/>
          </p:nvSpPr>
          <p:spPr>
            <a:xfrm>
              <a:off x="1292400" y="29145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Rectangle 58"/>
            <p:cNvSpPr/>
            <p:nvPr/>
          </p:nvSpPr>
          <p:spPr>
            <a:xfrm>
              <a:off x="1176840" y="263520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fd45"/>
                </a:solidFill>
                <a:latin typeface="Eras Medium ITC"/>
              </a:rPr>
              <a:t>Dosing Preferences By Pill Burden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150" name="Text Box 60"/>
          <p:cNvSpPr/>
          <p:nvPr/>
        </p:nvSpPr>
        <p:spPr>
          <a:xfrm>
            <a:off x="1066680" y="1523880"/>
            <a:ext cx="67690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you were to take a certain number of pills each day, how would you prefer them to be administered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ase Study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838080" y="1904760"/>
            <a:ext cx="3733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25-year-old fisherman presented for treatment of new HIV diagnosis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dia New"/>
              </a:rPr>
              <a:t>no prior ADI.</a:t>
            </a:r>
            <a:endParaRPr b="0" lang="en-US" sz="2400" spc="-1" strike="noStrike">
              <a:solidFill>
                <a:srgbClr val="ffffff"/>
              </a:solidFill>
              <a:latin typeface="Cordia New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dia New"/>
              </a:rPr>
              <a:t>active heroin use</a:t>
            </a:r>
            <a:endParaRPr b="0" lang="en-US" sz="2400" spc="-1" strike="noStrike">
              <a:solidFill>
                <a:srgbClr val="ffffff"/>
              </a:solidFill>
              <a:latin typeface="Cordia New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dia New"/>
              </a:rPr>
              <a:t>single but sexually active</a:t>
            </a:r>
            <a:endParaRPr b="0" lang="en-US" sz="2400" spc="-1" strike="noStrike">
              <a:solidFill>
                <a:srgbClr val="ffffff"/>
              </a:solidFill>
              <a:latin typeface="Cordia New"/>
            </a:endParaRPr>
          </a:p>
          <a:p>
            <a:pPr lvl="1" marL="623880" indent="-23976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dia New"/>
              </a:rPr>
              <a:t>active tobacco&amp;</a:t>
            </a:r>
            <a:r>
              <a:rPr b="0" lang="en-US" sz="2400" spc="-1" strike="noStrike">
                <a:solidFill>
                  <a:srgbClr val="ffffff"/>
                </a:solidFill>
                <a:latin typeface="Cordia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dia New"/>
              </a:rPr>
              <a:t>alcohol</a:t>
            </a:r>
            <a:endParaRPr b="0" lang="en-US" sz="2400" spc="-1" strike="noStrike">
              <a:solidFill>
                <a:srgbClr val="ffffff"/>
              </a:solidFill>
              <a:latin typeface="Cordia New"/>
            </a:endParaRPr>
          </a:p>
          <a:p>
            <a:pPr lvl="1" marL="623880" indent="-23976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dia New"/>
              </a:rPr>
              <a:t>negative PE.</a:t>
            </a:r>
            <a:endParaRPr b="0" lang="en-US" sz="2400" spc="-1" strike="noStrike">
              <a:solidFill>
                <a:srgbClr val="ffffff"/>
              </a:solidFill>
              <a:latin typeface="Cordia New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CD4+ count 210 cell/cu.mm.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724280" y="1904760"/>
            <a:ext cx="3733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d4T + 3TC + NVP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3-day adherence as the factor associated to the </a:t>
            </a:r>
            <a:r>
              <a:rPr b="0" lang="en-US" sz="2800" spc="-1" strike="noStrike">
                <a:solidFill>
                  <a:srgbClr val="119fff"/>
                </a:solidFill>
                <a:latin typeface="Eras Medium ITC"/>
              </a:rPr>
              <a:t>clinically significant virologic failure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pic>
        <p:nvPicPr>
          <p:cNvPr id="1152" name="Picture 11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8458200" cy="2362320"/>
          </a:xfrm>
          <a:prstGeom prst="rect">
            <a:avLst/>
          </a:prstGeom>
          <a:ln w="0">
            <a:noFill/>
          </a:ln>
        </p:spPr>
      </p:pic>
      <p:sp>
        <p:nvSpPr>
          <p:cNvPr id="1153" name="Text Box 13"/>
          <p:cNvSpPr/>
          <p:nvPr/>
        </p:nvSpPr>
        <p:spPr>
          <a:xfrm>
            <a:off x="4660200" y="223200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var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R, CI, p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14"/>
          <p:cNvSpPr/>
          <p:nvPr/>
        </p:nvSpPr>
        <p:spPr>
          <a:xfrm>
            <a:off x="6562080" y="225432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ltivar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R, CI, p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15"/>
          <p:cNvSpPr/>
          <p:nvPr/>
        </p:nvSpPr>
        <p:spPr>
          <a:xfrm>
            <a:off x="4620240" y="6080040"/>
            <a:ext cx="40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bbe0e3"/>
                </a:solidFill>
                <a:latin typeface="Cordia New"/>
                <a:ea typeface="Cordia New"/>
              </a:rPr>
              <a:t>Sethi </a:t>
            </a:r>
            <a:r>
              <a:rPr b="0" lang="en-US" sz="2000" spc="-1" strike="noStrike">
                <a:solidFill>
                  <a:srgbClr val="bbe0e3"/>
                </a:solidFill>
                <a:latin typeface="Cordia New"/>
                <a:ea typeface="Cordia New"/>
              </a:rPr>
              <a:t>AK.</a:t>
            </a:r>
            <a:r>
              <a:rPr b="0" lang="th-TH" sz="2000" spc="-1" strike="noStrike">
                <a:solidFill>
                  <a:srgbClr val="bbe0e3"/>
                </a:solidFill>
                <a:latin typeface="Cordia New"/>
                <a:ea typeface="Cordia New"/>
              </a:rPr>
              <a:t>, </a:t>
            </a:r>
            <a:r>
              <a:rPr b="0" i="1" lang="en-US" sz="2000" spc="-1" strike="noStrike">
                <a:solidFill>
                  <a:srgbClr val="bbe0e3"/>
                </a:solidFill>
                <a:latin typeface="Cordia New"/>
                <a:ea typeface="Cordia New"/>
              </a:rPr>
              <a:t>Clin Infect Dis</a:t>
            </a:r>
            <a:r>
              <a:rPr b="0" lang="en-US" sz="2000" spc="-1" strike="noStrike">
                <a:solidFill>
                  <a:srgbClr val="bbe0e3"/>
                </a:solidFill>
                <a:latin typeface="Cordia New"/>
                <a:ea typeface="Cordia New"/>
              </a:rPr>
              <a:t>. 2003; 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Responded or Failure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ffffff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Immunologic and Virologic response or  failure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f802"/>
                </a:solidFill>
                <a:latin typeface="Cordia New"/>
              </a:rPr>
              <a:t>Immunologic response</a:t>
            </a:r>
            <a:r>
              <a:rPr b="0" lang="en-US" sz="3200" spc="-1" strike="noStrike">
                <a:solidFill>
                  <a:srgbClr val="c3f802"/>
                </a:solidFill>
                <a:latin typeface="Cordia New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05600" indent="-271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determined by the changes of the number of CD4+ T-lymphocyte coun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05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f802"/>
                </a:solidFill>
                <a:latin typeface="Cordia New"/>
              </a:rPr>
              <a:t>Virologic response</a:t>
            </a:r>
            <a:r>
              <a:rPr b="0" lang="en-US" sz="3200" spc="-1" strike="noStrike">
                <a:solidFill>
                  <a:srgbClr val="c3f802"/>
                </a:solidFill>
                <a:latin typeface="Cordia New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05600" indent="-271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Determined by the changes of the HIV-RNA quantitative count ( viral load )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US.DHHS. Guideline 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pic>
        <p:nvPicPr>
          <p:cNvPr id="1161" name="Picture 6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620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D4 response after 6 months of HAART.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pic>
        <p:nvPicPr>
          <p:cNvPr id="1163" name="Picture 6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620120" cy="3809880"/>
          </a:xfrm>
          <a:prstGeom prst="rect">
            <a:avLst/>
          </a:prstGeom>
          <a:ln w="0">
            <a:noFill/>
          </a:ln>
        </p:spPr>
      </p:pic>
      <p:sp>
        <p:nvSpPr>
          <p:cNvPr id="1164" name="Text Box 7"/>
          <p:cNvSpPr/>
          <p:nvPr/>
        </p:nvSpPr>
        <p:spPr>
          <a:xfrm>
            <a:off x="4289400" y="6080040"/>
            <a:ext cx="508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Cordia New"/>
                <a:ea typeface="Cordia New"/>
              </a:rPr>
              <a:t>CASCADE Collaboration </a:t>
            </a:r>
            <a:r>
              <a:rPr b="0" i="1" lang="en-US" sz="2000" spc="-1" strike="noStrike">
                <a:solidFill>
                  <a:srgbClr val="bbe0e3"/>
                </a:solidFill>
                <a:latin typeface="Cordia New"/>
                <a:ea typeface="Cordia New"/>
              </a:rPr>
              <a:t>JAIDS</a:t>
            </a:r>
            <a:r>
              <a:rPr b="0" lang="en-US" sz="2000" spc="-1" strike="noStrike">
                <a:solidFill>
                  <a:srgbClr val="bbe0e3"/>
                </a:solidFill>
                <a:latin typeface="Cordia New"/>
                <a:ea typeface="Cordia New"/>
              </a:rPr>
              <a:t>. 2003; 32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5" name="Picture 5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556240" cy="4353120"/>
          </a:xfrm>
          <a:prstGeom prst="rect">
            <a:avLst/>
          </a:prstGeom>
          <a:ln w="0">
            <a:noFill/>
          </a:ln>
        </p:spPr>
      </p:pic>
      <p:sp>
        <p:nvSpPr>
          <p:cNvPr id="1166" name="Text Box 7"/>
          <p:cNvSpPr/>
          <p:nvPr/>
        </p:nvSpPr>
        <p:spPr>
          <a:xfrm>
            <a:off x="5388480" y="6095880"/>
            <a:ext cx="277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  <a:ea typeface="Cordia New"/>
              </a:rPr>
              <a:t>Smith CJ.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  <a:ea typeface="Cordia New"/>
              </a:rPr>
              <a:t>AIDS.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  <a:ea typeface="Cordia New"/>
              </a:rPr>
              <a:t> 2003; 17: 963-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D4 response after HAART 36 months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D4 response after HAART 36 months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pic>
        <p:nvPicPr>
          <p:cNvPr id="1169" name="Picture 3" descr=""/>
          <p:cNvPicPr/>
          <p:nvPr/>
        </p:nvPicPr>
        <p:blipFill>
          <a:blip r:embed="rId1"/>
          <a:stretch/>
        </p:blipFill>
        <p:spPr>
          <a:xfrm>
            <a:off x="1523880" y="1517760"/>
            <a:ext cx="6172200" cy="4759200"/>
          </a:xfrm>
          <a:prstGeom prst="rect">
            <a:avLst/>
          </a:prstGeom>
          <a:ln w="0">
            <a:noFill/>
          </a:ln>
        </p:spPr>
      </p:pic>
      <p:sp>
        <p:nvSpPr>
          <p:cNvPr id="1170" name="Text Box 4"/>
          <p:cNvSpPr/>
          <p:nvPr/>
        </p:nvSpPr>
        <p:spPr>
          <a:xfrm>
            <a:off x="5388480" y="6248520"/>
            <a:ext cx="277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  <a:ea typeface="Cordia New"/>
              </a:rPr>
              <a:t>Smith CJ.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  <a:ea typeface="Cordia New"/>
              </a:rPr>
              <a:t>AIDS.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  <a:ea typeface="Cordia New"/>
              </a:rPr>
              <a:t> 2003; 17: 963-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1" name="Picture 5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553080" cy="2354400"/>
          </a:xfrm>
          <a:prstGeom prst="rect">
            <a:avLst/>
          </a:prstGeom>
          <a:ln w="0">
            <a:noFill/>
          </a:ln>
        </p:spPr>
      </p:pic>
      <p:sp>
        <p:nvSpPr>
          <p:cNvPr id="1172" name="Text Box 10"/>
          <p:cNvSpPr/>
          <p:nvPr/>
        </p:nvSpPr>
        <p:spPr>
          <a:xfrm>
            <a:off x="5388480" y="6095880"/>
            <a:ext cx="277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  <a:ea typeface="Cordia New"/>
              </a:rPr>
              <a:t>Smith CJ.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  <a:ea typeface="Cordia New"/>
              </a:rPr>
              <a:t>AIDS.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  <a:ea typeface="Cordia New"/>
              </a:rPr>
              <a:t> 2003; 17: 963-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3" name="Picture 11" descr=""/>
          <p:cNvPicPr/>
          <p:nvPr/>
        </p:nvPicPr>
        <p:blipFill>
          <a:blip r:embed="rId2"/>
          <a:stretch/>
        </p:blipFill>
        <p:spPr>
          <a:xfrm>
            <a:off x="1219320" y="4135320"/>
            <a:ext cx="3124080" cy="2062440"/>
          </a:xfrm>
          <a:prstGeom prst="rect">
            <a:avLst/>
          </a:prstGeom>
          <a:ln w="0">
            <a:noFill/>
          </a:ln>
        </p:spPr>
      </p:pic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D4 response after HAART 36 months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Picture 6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620120" cy="3276720"/>
          </a:xfrm>
          <a:prstGeom prst="rect">
            <a:avLst/>
          </a:prstGeom>
          <a:ln w="0">
            <a:noFill/>
          </a:ln>
        </p:spPr>
      </p:pic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US.DHHS. Guideline 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an TLC be used for determine the CD4 changes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Question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What i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ordia New"/>
              </a:rPr>
              <a:t>your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rdia New"/>
              </a:rPr>
              <a:t> most concerned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 point on the HAART starting period ?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61920" indent="-50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Adherenc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61920" indent="-50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Drug tolerability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61920" indent="-50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Drug reaction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61920" indent="-50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Primary drugs resistan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61920" indent="-50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ondom and contraceptive us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Picture 4" descr=""/>
          <p:cNvPicPr/>
          <p:nvPr/>
        </p:nvPicPr>
        <p:blipFill>
          <a:blip r:embed="rId1"/>
          <a:stretch/>
        </p:blipFill>
        <p:spPr>
          <a:xfrm>
            <a:off x="557280" y="304920"/>
            <a:ext cx="8205840" cy="2236680"/>
          </a:xfrm>
          <a:prstGeom prst="rect">
            <a:avLst/>
          </a:prstGeom>
          <a:ln w="0">
            <a:noFill/>
          </a:ln>
        </p:spPr>
      </p:pic>
      <p:pic>
        <p:nvPicPr>
          <p:cNvPr id="1179" name="Picture 5" descr=""/>
          <p:cNvPicPr/>
          <p:nvPr/>
        </p:nvPicPr>
        <p:blipFill>
          <a:blip r:embed="rId2"/>
          <a:stretch/>
        </p:blipFill>
        <p:spPr>
          <a:xfrm>
            <a:off x="5715000" y="6181560"/>
            <a:ext cx="2838600" cy="37656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4" descr=""/>
          <p:cNvPicPr/>
          <p:nvPr/>
        </p:nvPicPr>
        <p:blipFill>
          <a:blip r:embed="rId3"/>
          <a:srcRect l="0" t="49415" r="0" b="0"/>
          <a:stretch/>
        </p:blipFill>
        <p:spPr>
          <a:xfrm>
            <a:off x="1655640" y="2666880"/>
            <a:ext cx="6040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4" descr=""/>
          <p:cNvPicPr/>
          <p:nvPr/>
        </p:nvPicPr>
        <p:blipFill>
          <a:blip r:embed="rId1"/>
          <a:stretch/>
        </p:blipFill>
        <p:spPr>
          <a:xfrm>
            <a:off x="1655640" y="228600"/>
            <a:ext cx="6040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4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224136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5" descr=""/>
          <p:cNvPicPr/>
          <p:nvPr/>
        </p:nvPicPr>
        <p:blipFill>
          <a:blip r:embed="rId2"/>
          <a:stretch/>
        </p:blipFill>
        <p:spPr>
          <a:xfrm>
            <a:off x="1952640" y="3990960"/>
            <a:ext cx="523872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4" descr=""/>
          <p:cNvPicPr/>
          <p:nvPr/>
        </p:nvPicPr>
        <p:blipFill>
          <a:blip r:embed="rId1"/>
          <a:stretch/>
        </p:blipFill>
        <p:spPr>
          <a:xfrm>
            <a:off x="1312920" y="152280"/>
            <a:ext cx="62308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5726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US.DHHS. Guideline  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Indication and Frequency for plasma HIV RNA testing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8" name="Picture 5" descr=""/>
          <p:cNvPicPr/>
          <p:nvPr/>
        </p:nvPicPr>
        <p:blipFill>
          <a:blip r:embed="rId1"/>
          <a:stretch/>
        </p:blipFill>
        <p:spPr>
          <a:xfrm>
            <a:off x="523800" y="150840"/>
            <a:ext cx="8239320" cy="6478560"/>
          </a:xfrm>
          <a:prstGeom prst="rect">
            <a:avLst/>
          </a:prstGeom>
          <a:ln w="0">
            <a:noFill/>
          </a:ln>
        </p:spPr>
      </p:pic>
      <p:sp>
        <p:nvSpPr>
          <p:cNvPr id="1189" name="Rectangle 6"/>
          <p:cNvSpPr/>
          <p:nvPr/>
        </p:nvSpPr>
        <p:spPr>
          <a:xfrm>
            <a:off x="533520" y="3352680"/>
            <a:ext cx="8229600" cy="2438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Immunologic and Virologic Failure 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Immunologic Failure :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f802"/>
                </a:solidFill>
                <a:latin typeface="Cordia New"/>
              </a:rPr>
              <a:t>Definition 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ailure to increase the CD4+ cell count by 25-50 cell/m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rdia New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 above the baseline count over the first year of treatmen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A decrease to below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rdia New"/>
              </a:rPr>
              <a:t>baseline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 CD4+ count on treatmen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rdia New"/>
              </a:rPr>
              <a:t>[ mean time to return CD4+ cell to baseline follow the virologic failure in case remaining on the old treatment regimen = 3 years ]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Virologic Failure :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f802"/>
                </a:solidFill>
                <a:latin typeface="Cordia New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Cordia New"/>
              </a:rPr>
              <a:t>Incomplete or lack of HIV RNA response to anti-retroviral Rx.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fd27"/>
                </a:solidFill>
                <a:latin typeface="Cordia New"/>
              </a:rPr>
              <a:t>Incomplete virologic response</a:t>
            </a: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Repeated VL &gt; 400 cop/mL after 24 wk 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Repeated VL &gt;  50  cop/mL after 48 wk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lvl="1" marL="616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[ usually 1 log cop/mL decrease at 1-4 wk ]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fd27"/>
                </a:solidFill>
                <a:latin typeface="Cordia New"/>
              </a:rPr>
              <a:t>Virologic rebound</a:t>
            </a: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Repeat detection of HIV RNA after virologic suppression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fc42"/>
                </a:solidFill>
                <a:latin typeface="Cordia New"/>
              </a:rPr>
              <a:t>Blip</a:t>
            </a:r>
            <a:r>
              <a:rPr b="0" lang="en-US" sz="2800" spc="-1" strike="noStrike">
                <a:solidFill>
                  <a:srgbClr val="ffffff"/>
                </a:solidFill>
                <a:latin typeface="Cordia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Question 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What’s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ordia New"/>
              </a:rPr>
              <a:t>patient’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rdia New"/>
              </a:rPr>
              <a:t> most concern 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on the HAART starting period ?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874440" indent="-46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Is the drugs really work ?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874440" indent="-46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How long I can live ?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874440" indent="-46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How my family move on ?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874440" indent="-46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Will I see the same doctor on next visit ?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874440" indent="-46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an I tolerate to the drugs ?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Eras Medium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linical Failure : Clinical Progression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Occurrence or recurrence of HIV-related events after treatment with ARVs excluding immune reconstitution syndrome [ &gt; 3 months after treatment ]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Incidence of clinical progression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683280" indent="-262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rdia New"/>
              </a:rPr>
              <a:t>7 % who has virologic suppressed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683280" indent="-262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rdia New"/>
              </a:rPr>
              <a:t>9 %  who has virologic rebound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683280" indent="-262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rdia New"/>
              </a:rPr>
              <a:t>20 % who has never achieved virologic suppression over 2.5 yr.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Assessment of Anti-retroviral Treatment Failure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ffffff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Initial Assessment of Treatment Failure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dia New"/>
              </a:rPr>
              <a:t>Adherence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35480" indent="-28296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Identify and address the underlying cause for non-adherenc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31480" indent="-226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Access to medication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31480" indent="-226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Depression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31480" indent="-226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Active substances us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35480" indent="-28296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mplify the regimen if possible 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31480" indent="-226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Decrease pills count 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131480" indent="-226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Adjust dosing frequency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35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Initial Assessment of Treatment Failure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dia New"/>
              </a:rPr>
              <a:t>Medical Intolerance : Tolerability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653760" indent="-251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Assess the patient</a:t>
            </a:r>
            <a:r>
              <a:rPr b="0" lang="en-US" sz="2000" spc="-1" strike="noStrike">
                <a:solidFill>
                  <a:srgbClr val="ffffff"/>
                </a:solidFill>
                <a:latin typeface="Cordia New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 side effects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 managemen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005840" indent="-200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Symptomatic treatment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005840" indent="-200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Change one drug to another in the same drug clas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407960" indent="-200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EFV + CNS. side effects </a:t>
            </a:r>
            <a:r>
              <a:rPr b="0" lang="en-US" sz="2000" spc="-1" strike="noStrike">
                <a:solidFill>
                  <a:srgbClr val="119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 NVP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407960" indent="-200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AZT + BM. supression </a:t>
            </a:r>
            <a:r>
              <a:rPr b="0" lang="en-US" sz="2000" spc="-1" strike="noStrike">
                <a:solidFill>
                  <a:srgbClr val="119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 d4T, TDF.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2" marL="1005840" indent="-200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Change drug class if necessary 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3" marL="1407960" indent="-200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PIs </a:t>
            </a:r>
            <a:r>
              <a:rPr b="0" lang="en-US" sz="3200" spc="-1" strike="noStrike">
                <a:solidFill>
                  <a:srgbClr val="119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 NNRTI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Initial Assessment of Treatment Failure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dia New"/>
              </a:rPr>
              <a:t>Pharmacologic issues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: review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Food/fasting requirement for each medication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Evidence indicate drug malabsorption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oncomitant medications and dietary supplements for possible drug-drug interaction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Initial Assessment of Treatment Failure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dia New"/>
              </a:rPr>
              <a:t>Suspected drug resistanc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Obtain the resistance testing while patient is taking the failing regimen or </a:t>
            </a:r>
            <a:r>
              <a:rPr b="0" lang="en-US" sz="3200" spc="-1" strike="noStrike" u="sng">
                <a:solidFill>
                  <a:srgbClr val="119fff"/>
                </a:solidFill>
                <a:uFillTx/>
                <a:latin typeface="Cordia New"/>
              </a:rPr>
              <a:t>within 4 weeks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 after  discontinue the prior regimen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Assessment for Virologic Failure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Ongoing viral replication in the presence of antiretroviral drug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Promote the selection of drug resistance mutation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Limit future treatment option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No consensus on the optimal time to change therapy for virologic failure, VL &gt; 400 or 1000-5000 or etc.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Single episode of low titer viremia ,50-1000 cop/mL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 </a:t>
            </a:r>
            <a:r>
              <a:rPr b="1" lang="en-US" sz="3200" spc="-1" strike="noStrike">
                <a:solidFill>
                  <a:srgbClr val="119fff"/>
                </a:solidFill>
                <a:latin typeface="Cordia New"/>
              </a:rPr>
              <a:t>Blips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, is not associated with subsequence virologic failur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fd45"/>
                </a:solidFill>
                <a:latin typeface="Eras Medium ITC"/>
              </a:rPr>
              <a:t>Management of immunologic failure</a:t>
            </a:r>
            <a:endParaRPr b="0" lang="en-US" sz="20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Immunologic failure may not warrant a change in treatment in the setting of </a:t>
            </a:r>
            <a:r>
              <a:rPr b="0" i="1" lang="en-US" sz="3200" spc="-1" strike="noStrike">
                <a:solidFill>
                  <a:srgbClr val="ffffff"/>
                </a:solidFill>
                <a:latin typeface="Cordia New"/>
              </a:rPr>
              <a:t>suppressed viremia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639000" indent="-2455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rdia New"/>
              </a:rPr>
              <a:t>Role of immunotherapy: Interleukin 2 ???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294840" indent="-294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In case with the virologic failure, manage as suggested for the case with virologic failur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fd45"/>
                </a:solidFill>
                <a:latin typeface="Eras Medium ITC"/>
              </a:rPr>
              <a:t>Management of case with clinical progression</a:t>
            </a:r>
            <a:endParaRPr b="0" lang="en-US" sz="20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onsider the possibility of immune reconstitution syndrom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ypically occur with in the first 3 month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Usually respond to anti-inflammatory treatment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In the case with suppressed viremia, no ARV therapy should be changed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fd45"/>
                </a:solidFill>
                <a:latin typeface="Eras Medium ITC"/>
              </a:rPr>
              <a:t>Changing an ARV therapy regimen for virologic failure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Perform ARV-resistant testing while patients still taking the drug regimen 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rdia New"/>
              </a:rPr>
              <a:t>within 4 weeks 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after regimen discontinuation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Use the treatment history and past and current resistance test results to identify active agents (preferably 3 or more) to design a new regimen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Question 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What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rdia New"/>
              </a:rPr>
              <a:t>your most concern 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on the long term follow up ?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822960" indent="-46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822960" indent="-46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Is d4T+3TC+NVP strong enough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822960" indent="-46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NVP related hepatitis (HBV/HCV?)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822960" indent="-46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Non-adherence (alcohol, heroin, work) 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822960" indent="-46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Loss the follow up schedule (off shore)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822960" indent="-46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Metabolic complications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fd45"/>
                </a:solidFill>
                <a:latin typeface="Eras Medium ITC"/>
              </a:rPr>
              <a:t>Changing an ARV therapy regimen for virologic failure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If 3 active agents cannot be identified, consider pK. enhancement of PIs (except NFV) with ritonavir and/or re-using other prior antiretroviral agent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288000" indent="-2880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Adding a drug with new mechanism (entry inhibitor, Integrase inhibitor, new NNRTI) of action to optimized background ARV regimen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9bff"/>
                </a:solidFill>
                <a:latin typeface="Cordia New"/>
              </a:rPr>
              <a:t>Ideally new regimen should composed of 3 or more active agent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rdia New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Cordia New"/>
              </a:rPr>
              <a:t>new</a:t>
            </a:r>
            <a:r>
              <a:rPr b="0" lang="en-US" sz="2000" spc="-1" strike="noStrike">
                <a:solidFill>
                  <a:srgbClr val="ff0000"/>
                </a:solidFill>
                <a:latin typeface="Cordia New"/>
              </a:rPr>
              <a:t>”</a:t>
            </a:r>
            <a:r>
              <a:rPr b="0" lang="en-US" sz="3200" spc="-1" strike="noStrike">
                <a:solidFill>
                  <a:srgbClr val="099bff"/>
                </a:solidFill>
                <a:latin typeface="Cordia New"/>
              </a:rPr>
              <a:t> drug that patient has never taken may not sufficient because of cross-resistance within drug classe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9bff"/>
                </a:solidFill>
                <a:latin typeface="Cordia New"/>
              </a:rPr>
              <a:t>Drug potency is more important than the number of drugs prescribed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fd45"/>
                </a:solidFill>
                <a:latin typeface="Eras Medium ITC"/>
              </a:rPr>
              <a:t>Changing an ARV therapy regimen for virologic failure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fd45"/>
                </a:solidFill>
                <a:latin typeface="Eras Medium ITC"/>
              </a:rPr>
              <a:t>Changing an ARV therapy regimen for virologic failure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Predictors associate with better virologic responses to the subsequent regimen in treatment-experienced patients 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601560" indent="-231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Low HIV RNA at the time of therapy chang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601560" indent="-231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Using a new class of drugs (not yet taken) eg. Boosted PIs, NNRTI, fusion inhibitors.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601560" indent="-231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fff"/>
                </a:solidFill>
                <a:latin typeface="Cordia New"/>
              </a:rPr>
              <a:t>Using Ritonavir-boosted PIs in the PI-experience patient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9fff"/>
                </a:solidFill>
                <a:latin typeface="Cordia New"/>
              </a:rPr>
              <a:t>Cross Resistance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Almost NNRTI resistance confer resistance to all NNRTI class of drugs (except etravirine, ETV.)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Cross resistance among NRTI is common but varies by drug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Early mutations to some PIs do not confer resistance to other PIs.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fd45"/>
                </a:solidFill>
                <a:latin typeface="Eras Medium ITC"/>
              </a:rPr>
              <a:t>Changing an ARV therapy regimen for virologic failure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New agents with the conventional mechanism of action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New agent with the new mechanism of action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herapeutic drug monitoring (TDM)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Treatment interruption (structured)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fd45"/>
                </a:solidFill>
                <a:latin typeface="Eras Medium ITC"/>
              </a:rPr>
              <a:t>New approach to the failure to treatment 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Role of Chemoprophylaxis for OIs.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Role of Chemoprophylaxis for OIs.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905120" y="19047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dia New"/>
              </a:rPr>
              <a:t>PJP. (PCP.)</a:t>
            </a:r>
            <a:endParaRPr b="0" lang="en-US" sz="3600" spc="-1" strike="noStrike">
              <a:solidFill>
                <a:srgbClr val="ffffff"/>
              </a:solidFill>
              <a:latin typeface="Cordia New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dia New"/>
              </a:rPr>
              <a:t>Toxoplasmosis</a:t>
            </a:r>
            <a:endParaRPr b="0" lang="en-US" sz="3600" spc="-1" strike="noStrike">
              <a:solidFill>
                <a:srgbClr val="ffffff"/>
              </a:solidFill>
              <a:latin typeface="Cordia New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dia New"/>
              </a:rPr>
              <a:t>MACs.</a:t>
            </a:r>
            <a:endParaRPr b="0" lang="en-US" sz="3600" spc="-1" strike="noStrike">
              <a:solidFill>
                <a:srgbClr val="ffffff"/>
              </a:solidFill>
              <a:latin typeface="Cordia New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dia New"/>
              </a:rPr>
              <a:t>Cryptococcal meningitis</a:t>
            </a:r>
            <a:endParaRPr b="0" lang="en-US" sz="36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Role of Chemoprophylaxis for OIs.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pic>
        <p:nvPicPr>
          <p:cNvPr id="1229" name="Picture 3" descr=""/>
          <p:cNvPicPr/>
          <p:nvPr/>
        </p:nvPicPr>
        <p:blipFill>
          <a:blip r:embed="rId1"/>
          <a:stretch/>
        </p:blipFill>
        <p:spPr>
          <a:xfrm>
            <a:off x="928800" y="2262240"/>
            <a:ext cx="7437240" cy="3095640"/>
          </a:xfrm>
          <a:prstGeom prst="rect">
            <a:avLst/>
          </a:prstGeom>
          <a:ln w="0">
            <a:noFill/>
          </a:ln>
        </p:spPr>
      </p:pic>
      <p:sp>
        <p:nvSpPr>
          <p:cNvPr id="1230" name="Rectangle 4"/>
          <p:cNvSpPr/>
          <p:nvPr/>
        </p:nvSpPr>
        <p:spPr>
          <a:xfrm>
            <a:off x="1573200" y="5638680"/>
            <a:ext cx="57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http</a:t>
            </a:r>
            <a:r>
              <a:rPr b="0" lang="th-TH" sz="1800" spc="-1" strike="noStrike">
                <a:solidFill>
                  <a:srgbClr val="bbe0e3"/>
                </a:solidFill>
                <a:latin typeface="Arial"/>
              </a:rPr>
              <a:t>://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aidsinfo</a:t>
            </a:r>
            <a:r>
              <a:rPr b="0" lang="th-TH" sz="1800" spc="-1" strike="noStrike">
                <a:solidFill>
                  <a:srgbClr val="bbe0e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nih</a:t>
            </a:r>
            <a:r>
              <a:rPr b="0" lang="th-TH" sz="1800" spc="-1" strike="noStrike">
                <a:solidFill>
                  <a:srgbClr val="bbe0e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gov</a:t>
            </a:r>
            <a:r>
              <a:rPr b="0" lang="th-TH" sz="1800" spc="-1" strike="noStrike">
                <a:solidFill>
                  <a:srgbClr val="bbe0e3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ContentFiles</a:t>
            </a:r>
            <a:r>
              <a:rPr b="0" lang="th-TH" sz="1800" spc="-1" strike="noStrike">
                <a:solidFill>
                  <a:srgbClr val="bbe0e3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OIpreventionGL</a:t>
            </a:r>
            <a:r>
              <a:rPr b="0" lang="th-TH" sz="1800" spc="-1" strike="noStrike">
                <a:solidFill>
                  <a:srgbClr val="bbe0e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Picture 4" descr=""/>
          <p:cNvPicPr/>
          <p:nvPr/>
        </p:nvPicPr>
        <p:blipFill>
          <a:blip r:embed="rId1"/>
          <a:stretch/>
        </p:blipFill>
        <p:spPr>
          <a:xfrm>
            <a:off x="171360" y="1066680"/>
            <a:ext cx="8820360" cy="504684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5"/>
          <p:cNvSpPr/>
          <p:nvPr/>
        </p:nvSpPr>
        <p:spPr>
          <a:xfrm>
            <a:off x="2819520" y="1371600"/>
            <a:ext cx="990360" cy="762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7"/>
          <p:cNvSpPr/>
          <p:nvPr/>
        </p:nvSpPr>
        <p:spPr>
          <a:xfrm>
            <a:off x="6705720" y="1371600"/>
            <a:ext cx="1066680" cy="762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ryptococcal meningitis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35" name="Text Box 4"/>
          <p:cNvSpPr/>
          <p:nvPr/>
        </p:nvSpPr>
        <p:spPr>
          <a:xfrm>
            <a:off x="5641920" y="62485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Clin.Infect.Dis. 2004;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6" name="Picture 5" descr=""/>
          <p:cNvPicPr/>
          <p:nvPr/>
        </p:nvPicPr>
        <p:blipFill>
          <a:blip r:embed="rId1"/>
          <a:stretch/>
        </p:blipFill>
        <p:spPr>
          <a:xfrm>
            <a:off x="438120" y="1854360"/>
            <a:ext cx="840096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Question 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What is the most common cause of failure of HAART treatment in your clinic ?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7164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Drug toxicity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7164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Non-Adherenc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7164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Primary failure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lvl="1" marL="97164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Cordia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others 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ryptococcal meningitis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Retrospective observational study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N = 100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Withdraw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rdia New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 prophylaxis when CD4+ &gt; 100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Median CD4+ at discontinuation = 258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Median follow up time 28.4 months (6.7-64.5)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4 relapses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641920" y="62485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Clin.Infect.Dis. 2004;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ryptococcal meningitis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pic>
        <p:nvPicPr>
          <p:cNvPr id="1241" name="Picture 4" descr=""/>
          <p:cNvPicPr/>
          <p:nvPr/>
        </p:nvPicPr>
        <p:blipFill>
          <a:blip r:embed="rId1"/>
          <a:stretch/>
        </p:blipFill>
        <p:spPr>
          <a:xfrm>
            <a:off x="1239840" y="1447920"/>
            <a:ext cx="6608880" cy="4794120"/>
          </a:xfrm>
          <a:prstGeom prst="rect">
            <a:avLst/>
          </a:prstGeom>
          <a:ln w="0">
            <a:noFill/>
          </a:ln>
        </p:spPr>
      </p:pic>
      <p:sp>
        <p:nvSpPr>
          <p:cNvPr id="1242" name="Text Box 7"/>
          <p:cNvSpPr/>
          <p:nvPr/>
        </p:nvSpPr>
        <p:spPr>
          <a:xfrm>
            <a:off x="5641920" y="62485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Clin.Infect.Dis. 2003;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Cryptococcal meningitis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dia New"/>
              </a:rPr>
              <a:t>Prospective, multicenter, randomized study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CordiaUPC"/>
              </a:rPr>
              <a:t>รพ</a:t>
            </a:r>
            <a:r>
              <a:rPr b="0" lang="th-TH" sz="3200" spc="-1" strike="noStrike">
                <a:solidFill>
                  <a:srgbClr val="ffffff"/>
                </a:solidFill>
                <a:latin typeface="CordiaUPC"/>
              </a:rPr>
              <a:t>.</a:t>
            </a:r>
            <a:r>
              <a:rPr b="0" lang="th-TH" sz="3200" spc="-1" strike="noStrike">
                <a:solidFill>
                  <a:srgbClr val="ffffff"/>
                </a:solidFill>
                <a:latin typeface="CordiaUPC"/>
              </a:rPr>
              <a:t>รามาฯ ขอนแก่น ชลบุรี บำราศนราดูร</a:t>
            </a:r>
            <a:endParaRPr b="0" lang="en-US" sz="3200" spc="-1" strike="noStrike">
              <a:solidFill>
                <a:srgbClr val="ffffff"/>
              </a:solidFill>
              <a:latin typeface="Cordia New"/>
            </a:endParaRPr>
          </a:p>
        </p:txBody>
      </p:sp>
      <p:sp>
        <p:nvSpPr>
          <p:cNvPr id="1245" name="Text Box 4"/>
          <p:cNvSpPr/>
          <p:nvPr/>
        </p:nvSpPr>
        <p:spPr>
          <a:xfrm>
            <a:off x="5641920" y="62485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Clin.Infect.Dis. 2003;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6" name="Picture 6" descr=""/>
          <p:cNvPicPr/>
          <p:nvPr/>
        </p:nvPicPr>
        <p:blipFill>
          <a:blip r:embed="rId1"/>
          <a:stretch/>
        </p:blipFill>
        <p:spPr>
          <a:xfrm>
            <a:off x="977760" y="2895480"/>
            <a:ext cx="6642360" cy="2900520"/>
          </a:xfrm>
          <a:prstGeom prst="rect">
            <a:avLst/>
          </a:prstGeom>
          <a:ln w="0">
            <a:noFill/>
          </a:ln>
        </p:spPr>
      </p:pic>
      <p:sp>
        <p:nvSpPr>
          <p:cNvPr id="1247" name="Text Box 7"/>
          <p:cNvSpPr/>
          <p:nvPr/>
        </p:nvSpPr>
        <p:spPr>
          <a:xfrm>
            <a:off x="7596360" y="321156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 =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8"/>
          <p:cNvSpPr/>
          <p:nvPr/>
        </p:nvSpPr>
        <p:spPr>
          <a:xfrm>
            <a:off x="7596360" y="504036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 =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9"/>
          <p:cNvSpPr/>
          <p:nvPr/>
        </p:nvSpPr>
        <p:spPr>
          <a:xfrm>
            <a:off x="837720" y="3276720"/>
            <a:ext cx="7467120" cy="1922760"/>
          </a:xfrm>
          <a:prstGeom prst="rect">
            <a:avLst/>
          </a:prstGeom>
          <a:solidFill>
            <a:srgbClr val="1000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At 48 w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No relapse both arm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7720" y="2514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Lucida Handwriting"/>
              </a:rPr>
              <a:t>Thank You for Your Attention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2"/>
          <p:cNvSpPr/>
          <p:nvPr/>
        </p:nvSpPr>
        <p:spPr>
          <a:xfrm>
            <a:off x="385920" y="1981080"/>
            <a:ext cx="418608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876"/>
              </a:spcBef>
              <a:spcAft>
                <a:spcPts val="624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ONA Stud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876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dian follow-up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5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876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udy population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862 ARV-naive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876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84.3% receiving unboosted PI + NR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876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scontinuations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 = 312 (36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fd45"/>
                </a:solidFill>
                <a:latin typeface="Eras Medium ITC"/>
              </a:rPr>
              <a:t>Toxicity Is a Major Reason for Discontinuation of First-Line HAART</a:t>
            </a:r>
            <a:endParaRPr b="0" lang="en-US" sz="2400" spc="-1" strike="noStrike">
              <a:solidFill>
                <a:srgbClr val="d1fd45"/>
              </a:solidFill>
              <a:latin typeface="Eras Medium ITC"/>
            </a:endParaRPr>
          </a:p>
        </p:txBody>
      </p:sp>
      <p:sp>
        <p:nvSpPr>
          <p:cNvPr id="690" name="Freeform 4"/>
          <p:cNvSpPr/>
          <p:nvPr/>
        </p:nvSpPr>
        <p:spPr>
          <a:xfrm>
            <a:off x="5838840" y="2898720"/>
            <a:ext cx="2585880" cy="3473640"/>
          </a:xfrm>
          <a:prstGeom prst="pie">
            <a:avLst/>
          </a:prstGeom>
          <a:solidFill>
            <a:srgbClr val="12ad2b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"/>
          <p:cNvSpPr/>
          <p:nvPr/>
        </p:nvSpPr>
        <p:spPr>
          <a:xfrm>
            <a:off x="4978440" y="4635360"/>
            <a:ext cx="1704960" cy="1516320"/>
          </a:xfrm>
          <a:prstGeom prst="pie">
            <a:avLst/>
          </a:prstGeom>
          <a:solidFill>
            <a:srgbClr val="3333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6"/>
          <p:cNvSpPr/>
          <p:nvPr/>
        </p:nvSpPr>
        <p:spPr>
          <a:xfrm>
            <a:off x="4941720" y="3121200"/>
            <a:ext cx="1741680" cy="1836720"/>
          </a:xfrm>
          <a:prstGeom prst="pie">
            <a:avLst/>
          </a:prstGeom>
          <a:solidFill>
            <a:srgbClr val="0099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7"/>
          <p:cNvSpPr/>
          <p:nvPr/>
        </p:nvSpPr>
        <p:spPr>
          <a:xfrm>
            <a:off x="5845320" y="2906640"/>
            <a:ext cx="838080" cy="1728720"/>
          </a:xfrm>
          <a:prstGeom prst="pie">
            <a:avLst/>
          </a:prstGeom>
          <a:solidFill>
            <a:srgbClr val="ffff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8"/>
          <p:cNvSpPr/>
          <p:nvPr/>
        </p:nvSpPr>
        <p:spPr>
          <a:xfrm>
            <a:off x="6902280" y="4603680"/>
            <a:ext cx="108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9"/>
          <p:cNvSpPr/>
          <p:nvPr/>
        </p:nvSpPr>
        <p:spPr>
          <a:xfrm>
            <a:off x="5162400" y="5075280"/>
            <a:ext cx="108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0"/>
          <p:cNvSpPr/>
          <p:nvPr/>
        </p:nvSpPr>
        <p:spPr>
          <a:xfrm>
            <a:off x="5824440" y="3081240"/>
            <a:ext cx="108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1"/>
          <p:cNvSpPr/>
          <p:nvPr/>
        </p:nvSpPr>
        <p:spPr>
          <a:xfrm>
            <a:off x="5245200" y="3929040"/>
            <a:ext cx="108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2"/>
          <p:cNvSpPr/>
          <p:nvPr/>
        </p:nvSpPr>
        <p:spPr>
          <a:xfrm>
            <a:off x="4572000" y="1974960"/>
            <a:ext cx="42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use of discontin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3"/>
          <p:cNvSpPr/>
          <p:nvPr/>
        </p:nvSpPr>
        <p:spPr>
          <a:xfrm>
            <a:off x="5195880" y="2381400"/>
            <a:ext cx="128520" cy="128520"/>
          </a:xfrm>
          <a:prstGeom prst="rect">
            <a:avLst/>
          </a:prstGeom>
          <a:solidFill>
            <a:srgbClr val="12a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4"/>
          <p:cNvSpPr/>
          <p:nvPr/>
        </p:nvSpPr>
        <p:spPr>
          <a:xfrm>
            <a:off x="5409720" y="2328840"/>
            <a:ext cx="8647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8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x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5"/>
          <p:cNvSpPr/>
          <p:nvPr/>
        </p:nvSpPr>
        <p:spPr>
          <a:xfrm>
            <a:off x="5195880" y="2668680"/>
            <a:ext cx="128520" cy="128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6"/>
          <p:cNvSpPr/>
          <p:nvPr/>
        </p:nvSpPr>
        <p:spPr>
          <a:xfrm>
            <a:off x="5409720" y="2608200"/>
            <a:ext cx="7506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8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7"/>
          <p:cNvSpPr/>
          <p:nvPr/>
        </p:nvSpPr>
        <p:spPr>
          <a:xfrm>
            <a:off x="6794640" y="2381400"/>
            <a:ext cx="128520" cy="128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8"/>
          <p:cNvSpPr/>
          <p:nvPr/>
        </p:nvSpPr>
        <p:spPr>
          <a:xfrm>
            <a:off x="7000920" y="2328840"/>
            <a:ext cx="15872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8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adh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9"/>
          <p:cNvSpPr/>
          <p:nvPr/>
        </p:nvSpPr>
        <p:spPr>
          <a:xfrm>
            <a:off x="6794640" y="2668680"/>
            <a:ext cx="128520" cy="12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20"/>
          <p:cNvSpPr/>
          <p:nvPr/>
        </p:nvSpPr>
        <p:spPr>
          <a:xfrm>
            <a:off x="7000560" y="2608200"/>
            <a:ext cx="6102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8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21"/>
          <p:cNvSpPr/>
          <p:nvPr/>
        </p:nvSpPr>
        <p:spPr>
          <a:xfrm>
            <a:off x="285840" y="6384600"/>
            <a:ext cx="60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d’Arminio Monforte A, et al. AIDS. 2000;14:499-5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d45"/>
                </a:solidFill>
                <a:latin typeface="Eras Medium ITC"/>
              </a:rPr>
              <a:t>Is the d4T/3TC/NVP good enough ?</a:t>
            </a:r>
            <a:endParaRPr b="0" lang="en-US" sz="2800" spc="-1" strike="noStrike">
              <a:solidFill>
                <a:srgbClr val="d1fd45"/>
              </a:solidFill>
              <a:latin typeface="Eras Medium ITC"/>
            </a:endParaRPr>
          </a:p>
        </p:txBody>
      </p:sp>
      <p:pic>
        <p:nvPicPr>
          <p:cNvPr id="709" name="Picture 4" descr=""/>
          <p:cNvPicPr/>
          <p:nvPr/>
        </p:nvPicPr>
        <p:blipFill>
          <a:blip r:embed="rId1"/>
          <a:stretch/>
        </p:blipFill>
        <p:spPr>
          <a:xfrm>
            <a:off x="457200" y="2205000"/>
            <a:ext cx="8229600" cy="293544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5"/>
          <p:cNvSpPr/>
          <p:nvPr/>
        </p:nvSpPr>
        <p:spPr>
          <a:xfrm>
            <a:off x="1835280" y="6480720"/>
            <a:ext cx="6913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spcBef>
                <a:spcPts val="52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Zhou J. HIV Medicine.2007;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03:36:15Z</dcterms:created>
  <dc:creator>Pisud Siripaitoon</dc:creator>
  <dc:description/>
  <dc:language>en-US</dc:language>
  <cp:lastModifiedBy>User Mac</cp:lastModifiedBy>
  <dcterms:modified xsi:type="dcterms:W3CDTF">2010-07-23T05:55:14Z</dcterms:modified>
  <cp:revision>66</cp:revision>
  <dc:subject/>
  <dc:title>Slide 1</dc:title>
</cp:coreProperties>
</file>